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1015206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64A-9447-4961-8E93-E5C38450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379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84B-AF46-4687-B9FC-61E5E46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428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633-2275-4886-9395-FD9A078A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344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76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344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76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9C3-B046-4364-91CF-D8DE882D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DA0-6301-4A97-B6A0-BE91E90A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38D3-8C4C-4FC1-8795-E8D6034E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28FC-3AC6-4A27-ADA6-CADFA3D1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98A-9AF6-4E05-AB46-2799EA2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5D24-A98F-46E1-AAD4-CF42C3F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2600" y="0"/>
            <a:ext cx="85424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31E5-22BC-49F0-B773-8F96359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08AF-732B-447C-A1DB-D84693A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851-5EE8-4C3E-B24B-570D2230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428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FEC2-9C03-47F6-A4D7-496C472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6BED-16E0-4921-8090-2876CAF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4379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12B8-7D61-4377-8836-6ACFFB9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428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614E-BE3A-4AA7-BC53-51AB9B26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344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76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344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76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6808-6E62-46D3-900D-3F439F2C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192F8-7C89-4A8E-8FD7-544F12C59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7C3C0-F842-4D6F-94D4-7653922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2414E-5E55-4679-86AF-4C57CD63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90B67-3CB9-46BA-8C36-F8445C27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A5B40-93F7-4A76-A26A-BEC44739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B6A-5B6C-4398-95D6-CC711F7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72600" y="0"/>
            <a:ext cx="85424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BD8EF-C19E-4891-AE61-B75AD2D8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19F24-4CA4-44BD-B92B-80173DA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428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C41E3-B8D0-47D7-BDC4-A962787E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A9757-6A00-48EF-8AFF-C1672640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4379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95B25-7C62-4100-9CAE-5AD3269F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7428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9A0F6-A1AB-4C20-B87A-B1CBEEF2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7344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84760" y="17524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7344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84760" y="4379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186D7-EA1D-46B5-8C78-09CBA6471D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14E-B285-46A4-A82B-E8A2AB1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53F-BAEF-4C16-B2C2-96A3E1E6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2600" y="0"/>
            <a:ext cx="85424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2C0-E7E7-40F8-9F03-44B9632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BF6-30F5-4B74-B081-A52C53E3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4280" y="4379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8A7-E90C-41CA-9712-FE08D29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4280" y="17524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379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281-BA8A-4F9C-8E10-DA96691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D:\nicks computer\new global series again!!!\global09\global09_txt.jpg"/>
          <p:cNvPicPr/>
          <p:nvPr/>
        </p:nvPicPr>
        <p:blipFill>
          <a:blip r:embed="rId2"/>
          <a:stretch/>
        </p:blipFill>
        <p:spPr>
          <a:xfrm>
            <a:off x="0" y="31680"/>
            <a:ext cx="10150560" cy="755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7388280"/>
            <a:ext cx="1295280" cy="225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440" y="7311960"/>
            <a:ext cx="7178760" cy="301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71593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3C59-7722-472E-8509-A19C4EF5DB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D:\nicks computer\new global series again!!!\global09\global09_title.jpg"/>
          <p:cNvPicPr/>
          <p:nvPr/>
        </p:nvPicPr>
        <p:blipFill>
          <a:blip r:embed="rId2"/>
          <a:stretch/>
        </p:blipFill>
        <p:spPr>
          <a:xfrm>
            <a:off x="0" y="3240"/>
            <a:ext cx="10150560" cy="760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7391520"/>
            <a:ext cx="1295280" cy="225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7315200"/>
            <a:ext cx="7178760" cy="301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-360" y="7162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E76A-A39A-472B-8448-8EFFC807BD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D:\nicks computer\new global series again!!!\global09\global09_txt.jpg"/>
          <p:cNvPicPr/>
          <p:nvPr/>
        </p:nvPicPr>
        <p:blipFill>
          <a:blip r:embed="rId3"/>
          <a:stretch/>
        </p:blipFill>
        <p:spPr>
          <a:xfrm>
            <a:off x="0" y="31680"/>
            <a:ext cx="10150560" cy="755028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 flipH="1" flipV="1">
            <a:off x="0" y="7165440"/>
            <a:ext cx="10150560" cy="1800"/>
          </a:xfrm>
          <a:prstGeom prst="line">
            <a:avLst/>
          </a:prstGeom>
          <a:ln w="1908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2600" y="0"/>
            <a:ext cx="85424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254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-360" y="1022400"/>
            <a:ext cx="1366920" cy="285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0" y="7165440"/>
            <a:ext cx="503280" cy="45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5AE5-52CB-449D-A411-F3FB0A6EFC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1480" y="4051440"/>
            <a:ext cx="7094520" cy="838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1. GODINA MANDATA:           ŠTO JE UČINJENO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31840" y="69120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pina, 10.6.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osvj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moć pri kapitalnoj izgradnji novih školskih objekata te njihovim adaptacijama te investicijskom održavanju brojnih školskih zgrada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- 9,5 mil.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Održavanje školskih natjecanja učenika u znanju, umjetničkom izrazu -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4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maganje odlazaka talentiranih učenika na državne susrete i smotre, radionice -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1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osvje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tipendiranje učenika i studenata (dodijeljeno novih 32 učeničkih stipendija po 400,00 kn i 30 studentskih stipendija po 600 kn – ukupno   se daje 110 učeničkih i 91 studentska stipendija – 1.1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tručno usavršavanje učitelja i profesora te učenika, pomoć za rad aktiva - 135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moć za učenike s poteškoćama – asistenti u nastavi (njih 5 trenutno); sufinanciranje programa u specijalnim ustanovama, sufinanciranje prijevoza u specijalne škole - 17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zdravstvo i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ocijalnu sk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pravni odjel za zdravstvo i socijalna sk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Zdravstv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Otvoren pedijatrijski odjel u Općoj bolnici Zabo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ovi bazen u Specijalnoj bolnici Stubičke Topl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Hemodijaliza u Općoj bolnici Zabo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avjet za zdravlje Krapinsko- zagorske župani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dravstvo i socijalnu sk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oncesije javne zdravstvene službe (na primarnoj razini) za obavljanje djelatnosti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obiteljska (opće) medicina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57 konces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stomatološka zdravstvena djelatnost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47 konces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zdravstvena njega u kući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42 koncesi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zdravstvena zaštita dojenčadi i 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3 koncesij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predškolske dje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zdravstvena zaštita žena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2 koncesi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dravstvo i socijalnu sk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ocijalna skrb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azmatrani i prihvaćeni Pokazatelji socijalnog stanja stanovništva na području KZ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Odluka o uvjetima i postupku ostvarivanja prava iz programa socijalne skrbi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od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srpnja 2009. odobreno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13 jednokratnih novčanih pomoći zbog osobito teških životnih uvjeta 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2.076 kn, a u 2010.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godini 12 jednokratnih pomoći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3.000 k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avo na jednokratnu novčanu pomoć za treće i svako daljnje novorođeno dijete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tijekom 2009. g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avo je ostvarilo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212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obitelji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212.000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a u 2010. g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obitelji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000 k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dravstvo i socijalnu sk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lvl="1" marL="369360" indent="-36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avo na međumjesni prijevoz ostvarilo 3960 učenika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978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financiranje troškova nabave udžbenika i drugih nastavnih sredstava za  učenike osnovnih i srednjih škola u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99.750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financiranje Programa </a:t>
            </a:r>
            <a:r>
              <a:rPr b="0" i="1" lang="vi-VN" sz="2700" spc="-1" strike="noStrike">
                <a:solidFill>
                  <a:srgbClr val="000000"/>
                </a:solidFill>
                <a:latin typeface="Arial"/>
              </a:rPr>
              <a:t>Pomoć i njega u kući – dostava toplih obroka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2.494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omoć za ogrjev ostvarilo 1084 korisnika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.032.800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950 kuna po korisniku)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iz decentraliziranih sredsta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financiranje programa Obiteljskom centru KZŽ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50.000 k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abav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vozila za dostavu toplih obroka 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Domu Loborgrad isplaćeno 50.000 k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dravstvo i socijalnu sk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gospodarstvo i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turiz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račun za 2010 g. 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8,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mil. kn (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 u odnosu na prethodnu godi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nergetska učinkovitost -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ogram 1000 solarnih kolektora za fizičke oso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spovratna potpora: 40% vrijednosti sustava, najviše 12.0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 fa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09. g. – 20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10. g. – 80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601"/>
              </a:spcBef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gospodarstvo i 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0" y="365040"/>
            <a:ext cx="843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1267920"/>
            <a:ext cx="10150560" cy="2778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400" indent="-266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400" indent="-266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grami kreditiranja malog i srednjeg poduzetništ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400" indent="-266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5360" indent="-32004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reditiranje obrtnih sredst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5360" indent="-320040">
              <a:spcBef>
                <a:spcPts val="6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5360" indent="-320040">
              <a:spcBef>
                <a:spcPts val="6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2.  Lokalni  projekti  razvoja  malog gospodarstva i Lokalni projekti razvoja – mikrokreditir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5360" indent="-320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5360" indent="-3200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6400" indent="-26640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400" indent="-26640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gospodarstvo i 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prosvjetu, kulturu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šport, tehničku kulturu, udruge i m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1522440"/>
            <a:ext cx="10150560" cy="396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-43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reditiranje obrtnih sredst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bvencija kamate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alizacija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redita u ukupnom iznosu od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25,7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mil.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kupan iznos subvencije: oko 1 mil.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isani program realiziran je u drugoj polovici prošle godine kao mjera za ublažavanje gospodarske krize i nelikvidnosti gospodars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gospodarstvo i 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okalni  projekti  razvoja  malog gospodarstva i Lokalni projekti razvoja – mikrokreditiranj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bvencioniranje kamata na poduzetničke kredite malom i srednjem poduzetniš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va modela subvencije kam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. Krediti za razvojne projekte (natječaj u tok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. Mikro krediti – obrtna sredstva i manji projekti (natječaj u to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254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gospodarstvo i 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-43812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Krediti za razvojne projekt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bvencija: do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,0 p.p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 redovne kamatne st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ditni potencijal: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0.000.00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ijavljenih kred.pot. - 43.8 mil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 Mikro krediti – obrtna sredstva i manji projekti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43812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bvencija: do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,0 p.p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 redovne kamatne st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ditni potencijal: 10.000.0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0 prij.kred.pot. - 1.5 mil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gospodarstvo i 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0" y="1274400"/>
            <a:ext cx="10150560" cy="197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41000"/>
          </a:bodyPr>
          <a:p>
            <a:pPr marL="155880" indent="-155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880" indent="-155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proračunu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za 2010. godinu predviđeno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5,5 m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. kn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za subvenciju kamata malom i srednjem poduzetništv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oko  11% proračuna KZŽ od izvornih priho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880" indent="-155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880" indent="-155880">
              <a:spcBef>
                <a:spcPts val="8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gram bespovratnih potpore tradicionalnim obrtima</a:t>
            </a:r>
            <a:r>
              <a:rPr b="0" lang="vi-V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5880" indent="-155880">
              <a:spcBef>
                <a:spcPts val="8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655920" indent="-93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2009. g. -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21 korisnik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kupno 90 tis. k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655920" indent="-93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2009. g.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u KZŽ registriran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tradicionalna obrt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5 obrta više u odnosu na 2008. g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655920" indent="-93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igurana sredstva u proračunu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za 2010. g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(provedba u drugoj polovici god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655920" indent="-9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880" indent="-155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880" indent="-15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gospodarstvo i 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4240" y="391968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poljoprivredu,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uralni razvitak i šumarstvo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pravni odjel za poljoprivredu, ruralni razvitak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umarst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UKUPNI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PRORAČUN:</a:t>
            </a:r>
            <a:br>
              <a:rPr sz="2700"/>
            </a:br>
            <a:br>
              <a:rPr sz="2700"/>
            </a:b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2009. g. – 4.945.200 kn</a:t>
            </a:r>
            <a:br>
              <a:rPr sz="2700"/>
            </a:b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2010. g. – 5.369.000 kn</a:t>
            </a:r>
            <a:br>
              <a:rPr sz="2700"/>
            </a:br>
            <a:br>
              <a:rPr sz="2700"/>
            </a:b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Povećanje 9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ubvencioniranje poljoprivredne proizvodnje i lovstva na području Krapinsko-zagorske župani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dukacija poljoprivrednik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Prva mini sirana na području KZ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Program bespovratnih potpora za unaprijeđenje rada Udruga u poljoprivre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ogram kreditiranja poljoprivredne proizvodn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bvencioniranje poljoprivredne proizvodnje i lovst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Odobreno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zahtjev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Ukupno isplaćeno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428.596,27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vi put uvedena je kontrola subvencija na ter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152208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Edukacija poljoprivredn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dukacija poljoprivrednika - voćar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ZŽ sufinancirala troškove edukacije s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dukacija  za radove u voćnjacima - od zaštite do rezid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ijavilo se 25 poljoprivrednika-voć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edavači - eminentni stručnjaci s područja zaštite bilja i voćarst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208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va mini sirana na području KZ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Otvorena prva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mini sirana za proizvodnju ovčjeg sira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– OPG Lamot iz G. Maclja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ZŽ je sudjelovala u izradi elaborata, dobivanju Pravilnika o dobroj higijeni kao i u plaćanju komisije za odobrenje projekt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U pripremi je otvaranje još 3 mini sirane za proizvodnju kozjeg si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pravni odjel za prosvjetu, kulturu, šport, tehnič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ulturu, udruge i ml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rednjoškolski prijevoz: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3.000.000 k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tipendije: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1.1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ulturno-povijesna baština: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6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Program bespovratnih potpora za unaprijeđenje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Udruga u poljoprivr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a natječaj se prijavilo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udruga. U tijeku je obrada zahtje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Novost u provođenju ovog programa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plaćanje odobrenih sredstava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izravno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na račun dobavljača opreme odnosno prodavatel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Maksimalan iznos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tpore po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druzi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30.000 k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50% vrijednosti investicije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Program kreditiranja poljoprivredne proiz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reditiranje u tri najvažnija sektora: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mljekarstv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, povrćarstv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i cvjećarstv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te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prerad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poljoprivrednih proizvo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orisnici kredit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PG u sustavu PDV-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brtnic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ljoprivredne zadruge 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govačka društ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isina kredit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od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80.000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n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4.000.000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ovost: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sufinanciranje kamatne stope u iznosu od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4%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za cijelo razdoblje počeka i otplate kredi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orisnici koji će imati uvjete moći će aplicirati na predpristupni EU IPARD prog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oljoprivredu, ruralni razvitak i šum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zaštitu okoliš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pravni odjel za zaštitu okoliš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državanje programa edukacije u zaštiti okoliša na svim razinam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ovedb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projekata Međunarodne Eko-škol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(uključeno 20 ustano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nergetska učinkovitost, obnovljivi izvori energij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U 10 škola - snimanje postojećeg stanja sa prijedlogom rješenja za primjenu konkretnih mjera energetske učinkovitosti, kratkoročnih i dugoročnih za stvaranje uvjeta za upravljanje potrošnjom i troškovima energ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aštitu okoli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Znanjem do energetskih ušteda“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 - edukativni program za učenike i učitelje srednjih ško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financir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troškov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sanacije divljih odlagališta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u 2009. g. -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200.000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ove godin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osigurano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3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atječaj iz programa IPA – sanacija divljih odlagališt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zajedno sa Slovenskom pograničnom regijom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aštitu okoli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Regionaln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cent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za gospodarenje otpad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u sjeverozapadnoj Hrvatskoj u Koprivničko-Križevačkoj županij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3812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dejni projekt i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izrada Studije izved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3812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tudija utjecaja na okoliš upućena Ministarstv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381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3812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U 2010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z proračuna izdvojeno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570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zaštitu okoli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prostorno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ređenje i gradn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Izmje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i dopune Prostornog plana Krapinsko – zagorske župani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Tijekom 2009. g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4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zaprimljeno ukupno </a:t>
            </a:r>
            <a:r>
              <a:rPr b="1" lang="vi-VN" sz="2500" spc="-1" strike="noStrike">
                <a:solidFill>
                  <a:srgbClr val="000000"/>
                </a:solidFill>
                <a:latin typeface="Arial"/>
              </a:rPr>
              <a:t>3832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predmeta 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(u 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prosjeku 23  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predmeta po djelatniku mjesečn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iješeno ukupno </a:t>
            </a:r>
            <a:r>
              <a:rPr b="1" lang="vi-VN" sz="2500" spc="-1" strike="noStrike">
                <a:solidFill>
                  <a:srgbClr val="000000"/>
                </a:solidFill>
                <a:latin typeface="Arial"/>
              </a:rPr>
              <a:t>3551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predmeta 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(u prosjeku 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21 riješeni predmet po djelatniku mjesečno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U odnosu na 2008.g.: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21% više upravnih predmeta, 22% manje neupravnih predmeta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torno uređenje i gra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pravni odjel za promet i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munalnu infrastruktu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pravni odjel za promet i komunalnu infrastuktur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Proračunske aktivnosti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zrada i postavljanje novih ploča dobrodošlice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usklađivanje sa novim vizualnim identitetom)  - 18 ploča, ukupna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vrijednost izvedenih radova iznos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130.000 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Sufinanciranje projektne dokumentacije  sukladno Sporazumu s ŽUC-em KZŽ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).  U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upn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vrijednost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jekta -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450.000 k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apitalne pomoći JLS s malim izvornim prihodima – Tijekom 2009. g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 ukupn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doznačeno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2.805.521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kn za razvitak prometne i komunalne infrastruk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ulturni amateriz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čl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dvojeno: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30.0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Zajednic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u suradnji s Hrvatskim saborom kulture, pomaž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organizaciju županijskih i međužupanijskih smotri amaterskog kulturnog stvaralaš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seminara za voditelje određenih sekcija kul. amater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odlazak na državne smotre i sus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Razvitak vodoopskrbe -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1.848.470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 za projektnu dokumentaciju ili izgradnju vodoopskrbe mreže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moć općinama za sanaciju klizišta –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468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Za sanaciju klizišta u 2010. godini u proračunu Krapinsko-zagorske županije planirana su sredstva u iznosu od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300.000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. Do sada je odobreno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106.42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apitalne pomoći JLS za vodoopskrbu – Za Program vodoopskrbe u 2009. godini odobreno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804.508 k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Kapitalne pomoći gradovima i općinama – posebni program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prema zaključcima iz 2009. godine realizirano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835.881,61 kn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 proračunu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Ž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panije u 2010. godini za potrebe financiranja asfaltiranja i uređenja nerazvrstanih cesta i objekata osigurana su financijska sredstva u iznosu od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90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161748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moć JLS za elementarne nepogod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U proračunu u 2010. godini za potrebe financiranja sanacije oštećenja nastalih prilikom pojave elementarnih nepogo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ufinanciranje sanacije oštećenja nastalih prilikom pojave elementarnih nepogo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bilježavanje autobusnih stajališt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Sufinanciranje mjesečnih željezničkih karata za radnike i student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282320"/>
            <a:ext cx="10150560" cy="5622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lvl="1" marL="429120" indent="-42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120" indent="-42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rbanističko prometna studija Stubičkog bazen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-završ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120" indent="-42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rapinsko-zagorski aerodrom –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stoje ozbiljni pregovori sa zainteresiranim investitorim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. Cilj je omogućiti zainteresiranim investitorima  izgradnju  hangara i registraciju letjelišta budući da postoji veliki interes aeroklubova , jedriličara,  vlasnika aviona, balonaša i padobran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120" indent="-429120">
              <a:spcBef>
                <a:spcPts val="6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Inicijative i sastanci s Ministarstvima i ostalim institucijam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9120" indent="-42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Inicijativa prema AZM-u i EGIS ROAD-u za dodatnim obilježavanjem na autocesti Zagreb – Macelj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120" indent="-42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ijedlog za uvrštavanjem državnih cesta na području Županije u 4-godišnji Program građenja i održavanja državnih cesta za period 2009. – 2012 god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120" indent="-429120">
              <a:spcBef>
                <a:spcPts val="6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rema zajedničkoj inicijativi Županije i ŽUC-a KZŽ, Ministarstvo mora, prometa i infrastrukture je prihvatilo da se županijska cesta Ž2221 na dijelu od grada Donja Stubica, gdje završava D307, pa do Marije Bistrice, odnosno spoja na D29 razvrsta u državnu cestu, tj. da se državna cesta D307 spoji sa D2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6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vorena je dionica Sutlanske ceste u Zagorskim Selima na lokaciji Bratkovec na mjestu gdje je sanirano klizište, te puštena u promet rekonstruirana dionica Sutlanske ceste u dužini od 400 m.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ZŽ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financirala cjelokupnu projektnu dokumentaciju, te sufinancirala otkup zemljišta ukupne vrijednosti cca.1.000.000,00 ku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lipnj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2009. g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 potpisan je Ugovor za izradu Studije odvodnje na području 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upanije, te o izradi sve potrebne dokumentacije za podnošenje aplikacije EU.  Vrijednost izrade Studije iznosi cca. 9.000.000 k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met i komunalnu infra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4021200"/>
            <a:ext cx="7953480" cy="156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HVALA NA PAŽNJ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zdavašt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Dodijeljene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otpore za nove knjige, zbirke pjesam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onografije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 u iznosu od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225.000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ema prijedlozima kulturnog vijeć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drška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brojnim projektima koji su realizirani pod okriljem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“Kajkaviane”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– Društva za prikupljanje, čuvanje i promicanje hrvatske kajkavske baštine (izdvajamo izlaženje časopisa “Hrvatsko Zagorje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80.000 kn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ulturne instituc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tpor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lturnim institucij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magane su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institucije u svojoj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redovnoj djelatnost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iako sama Županija nije osnivač niti jedne ustanove u kultur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dvojeno: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250.000 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aterijaln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i stručno-savjetničk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 podrš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čk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otvoren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učiliš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zejsk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institucij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njižnic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i čitaonic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azn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društv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rug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ma i 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hiv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ulturne  manifestacije  i  manifestacije  od  značaja 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Župani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3996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270.0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381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lvl="1" marL="369360" indent="-36936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ulturno-povijesna bašt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ufinanciranje “Umjetničke topografije KZŽ” (Institut za povijest umjetnosti) s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50.000 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moć za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obnov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krovišta, pročelja, izvedbu drenaža, obnovu inventara (oltara, fresaka, slika, orgulja,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opovjedaonic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crkav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omoć za izvedbu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arheoloških istraživanja i iskopavanja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(Špičak na Bojačno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rad Vrbovec – Klenov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omoć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e n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ajčešće doznačivana kao sufinanciranje uz sredstva Ministarstva kulture (rijetko u potpunosti i to samo za neke manje radove ili izradu projektne dokumentacije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369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kupno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izdvojeno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600.000 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645920"/>
            <a:ext cx="10150560" cy="525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380880" indent="-380880"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Šport i tehnička kul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24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utem k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ovn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udrug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za županijski šport –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Športsk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zajednic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 KZŽ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Županija je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izdvojila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850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moć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školsko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šport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putem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a školskih športskih društava KZŽ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atjecanja učenika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osnovnih i srednjih škola) – Izdvojeno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195.0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Financiranj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tehničke kulture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putem 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upanijske zajednice tehničke kulture</a:t>
            </a: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20-tak članic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adio amater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aviomodelar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filmsk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 sekcij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informatičar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… Izdvojeno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66.000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7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7134120"/>
            <a:ext cx="101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09090"/>
                </a:solidFill>
                <a:latin typeface="Arial"/>
              </a:rPr>
              <a:t>Upravni odjel za prosvjetu, kulturu, šport, tehničku kulturu, udruge i m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0" y="395280"/>
            <a:ext cx="8432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8000" bIns="18000" anchor="ctr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hr-HR" sz="2800" spc="-1" strike="noStrike">
                <a:solidFill>
                  <a:srgbClr val="f2f2f2"/>
                </a:solidFill>
                <a:latin typeface="Arial"/>
              </a:rPr>
              <a:t>1. godina mandata – Što je učinj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9:50:49Z</dcterms:created>
  <dc:creator> Zvonko</dc:creator>
  <dc:description/>
  <dc:language>en-US</dc:language>
  <cp:lastModifiedBy>Administrator</cp:lastModifiedBy>
  <dcterms:modified xsi:type="dcterms:W3CDTF">2010-06-10T07:55:33Z</dcterms:modified>
  <cp:revision>70</cp:revision>
  <dc:subject/>
  <dc:title>Slide 1</dc:title>
</cp:coreProperties>
</file>