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26"/>
          </p:nvPr>
        </p:nvSpPr>
        <p:spPr>
          <a:xfrm>
            <a:off x="3833640" y="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27"/>
          </p:nvPr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 type="sldNum" idx="28"/>
          </p:nvPr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E81D-FE50-4031-81CA-F8ABED96110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C9D4-FAD3-4A04-9DC6-C4260F210D7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E8E8-08FA-4864-B346-DBA91D8B44E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A8C0-FBE7-411C-8EB7-31635449E5E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3438-9333-4BFE-94C3-876A0F01F61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0304-2A50-43AB-9DAA-C74A139EF91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85B6-3DED-4317-B29B-AFB2DB97AD7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F3FF-3991-4C74-9A73-0A9CEDBFFCD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D50B-271A-4FBC-9808-5924C1FE3D3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76D4-B15E-4895-835B-09CC314772A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545D-4617-41C3-B2F2-EDEC103BA92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0681-3DE7-42D1-ADA2-F96547199E2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6CB4-780B-4E64-B3A9-43646485E33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311-B575-46CB-9560-23BED7D3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7FF-33E0-4B5F-B0BA-D54EB41F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8B4A48-129B-42A9-85CB-CD6B51517B7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A11214-A3D3-42D4-ADF0-36276CD5B47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BE79FC-26B9-4007-8ACD-A26A7B5526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54487-3689-4168-8C24-EB12A6C7F97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0CEE8C-6410-4A06-9CFD-B765BCCA5F2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E8FC9B-103B-4FCC-B255-250C4CEE43E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4AC8DF-C382-4276-9268-CF9A3765B9F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77E32C-AFDC-4280-A002-EC6D01EE15D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9F8C60-8092-4734-A56D-39BB84BF41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E6BF-198F-41AC-8F1D-F6CB38602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151-5A68-4986-8744-8072D452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23855-5592-4ED9-ADE4-A12F85221E2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58721-EB92-4F0B-A12C-38BF71C0C67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801A3-67CF-4DD6-9A1D-23A73EA200A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991F0-034C-4476-B03D-8728A86A964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AE9AF-0A25-4F61-96A1-2D637BDE366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97EC9-75CC-4FB8-9BF7-23F6AFA163A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75020-1D30-4EDF-AC6F-09D1257D335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F9D11-6BC7-423F-9FB8-A445824CDA9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632CA-D724-45FC-A225-94958714425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27172-0697-49C1-A15B-21D0B8150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5FA-5C7E-4BC3-A216-729E1117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38B1F-51A6-47D1-AE7D-D99A8352533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3B2F93-A599-480B-AE01-5CED8376C00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9EA252-3C91-4C6B-900E-BFB920E8153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8EAF6E-6422-4EFC-B116-095737DE995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77DA45-4EA9-41C9-95BC-C77E3F27305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DE4898-C9CE-403D-8D54-015DC848769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1465E2-9AE5-48BF-8286-C5F05573003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405F4-F338-43ED-8C2F-478AC02E165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66840-6DEE-40E8-AB5A-1FE896F4985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F0074B-3422-4439-BE4A-01C6AF0FA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AA4C0-EB76-4705-96BA-3F83AC816BD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7980E9-62E6-4CF1-B0E5-23C0A33A466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1C9C95-7AA9-414E-A6BE-FBF26ECE6F0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F2A206-9816-4109-B3F6-6BD9DEA2AF2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F31AF-7757-48B8-9AE9-5225998CD59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DDF2A-55E3-4573-A5CE-C494E3762E9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F4F08-E57B-4C80-9CFF-5EC22137DB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9D634-3811-4762-8EA0-21301E5D8EA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DE56A-254B-454A-8D7A-F15DEC35A2F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E8C0C-F180-4831-8351-2934FAE863D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A2069-D860-43E7-ADC2-0FB1704289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FE3CE-D57A-4E6E-8B72-C9E526D554F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D278B-5F38-404F-ABB4-4EA0D048B80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E3786-D3E0-4CAA-92A1-7149B231F49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8D56F-C224-4D5D-A5AE-73F65326EF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0279E-F461-490C-A613-762470CB95E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C42EB-D2BE-42FC-93B9-F68C4C2F1C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0B3BE-B291-45B5-B8A7-A5A8FCB4FE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A59E4-29B2-4105-AC12-BE712B4594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CF28E-15EA-4CC2-9ECC-5E7E9EC50A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23E98-2CAA-4A82-8389-9275A4ED93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2D821-9A59-47E6-BF44-4B9AC3171B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E59-9E28-4B8F-A57C-201045AF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F4A0B-FBBB-4D90-9FC6-F0E0A0FAE0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652DB-42F4-4646-9885-B9841FB5EE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59E87-1AD1-4B2E-90EE-2E1243B0D4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4BED2-6D81-49FC-A06F-155DC7F915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5BEB6-7B1B-4ADD-A2AC-3F073C90D5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0D63EA-3921-40A1-9394-B23934674E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49C34-1BB2-46E1-85D0-0B071EB1B4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9EE797-E147-4515-8BC7-2773179EC1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D99D03-BC59-4B4A-8AB9-93C3086EB8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36292-06E3-4CCC-8983-83152BD4B7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EDB-C16D-48BC-9B2A-5030A11A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C4080-3CDE-4F26-B5F1-E41A7AB55A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D7FC1-0899-43C0-8604-D45ADA2BA5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91FB8F-37E3-44F4-8F81-F30E7563D5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A28A9-D319-48B8-AF2F-9CDFCF6B18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8F5C0-4CD2-47DA-B576-905ED68E12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80F02D-86D6-472D-A0BC-DAE3CEB953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C6E803-9AB2-451F-AA93-0BBB09633C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11E39-601D-41FF-95D1-EC785BA65D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5EEC-745B-4CF9-9C88-48C09C9D73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21C0-5BC8-4CBA-B94C-F934BA607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A20-659A-4B99-9A1D-902BD82E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B02D-F079-4D0F-9D3A-B03454DD62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C672-031E-4595-B089-0338A2957C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043E-1935-41C3-9F18-53E7525D3B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0B63-44B1-4B48-8F90-E3413D5EC5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7595-537E-45BF-9AB4-622C96FF80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6917-CC94-4C74-A772-82D9B21A90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C44D7-70C3-4E40-BF78-C2A7350045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F5D06-78EE-40B3-890C-39861FB618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05D3-A9B8-4465-BC2C-53CDCD09AA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8BB1E-1C32-40FF-AE10-70A7D1466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4D4-1CAB-49F9-B0E4-66E3663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39013-0604-4671-BF7F-371974BCE7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B23BF-AFE3-44D5-B5E0-A91A2836E7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FF939-129C-4C44-980D-3F79EB1F47B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8CB3E-D20E-42A7-B2E8-BDAF4F6952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4CA7A-553C-4171-9A87-4450CBA5D0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B36CB-2E76-41CF-823F-E7A3749739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34822-F108-427D-AB77-72023D42EF9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291D4-3F4D-4587-9F53-6A473BE251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EB0C5-9A3F-4F96-9537-E648598451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040B5-F938-47BE-9788-C9F25D2F1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A65-C49B-47BF-A44F-66C25987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42077-BF2B-4126-AB49-2A789B002C1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9E602C-8EF1-48A4-81B0-2EDEA67AB71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8B48DE-ADCD-4A1B-826E-47420A9D7AC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575F21-1421-47FA-94A0-FA511312F2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4A4224-738A-4286-A0FD-86DF4AF903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8ED97E-BA65-449B-ACD4-E937DF4743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56F3E3-7D0B-4EFA-B101-D5AC2DC39D1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C21E2D-3D8D-412B-BFF3-C0BF981C81E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34FB25-3E6B-415D-8765-AC309273F10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3DEE6-B79C-49CE-8104-52D54A7F2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B2B-5348-47F7-B0BD-40D6936A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4DB5B3-18DB-49F3-9901-E21AC17727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FACDCB-14D1-417F-8B00-9FC2392ABC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131A7D-D9B4-47A1-9310-76AFF76AEDC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D3C8-403B-4849-9FCD-5820960AE5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99BD-F65E-4852-93FA-6A4B43CDB4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2F19D-7913-4E76-8984-D1A816A5222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D0DE1-8B2A-40E1-A0F4-3197020AACD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8F86A-D121-44F6-891E-5525DCB7041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9EE09-0F33-44E7-8D1F-5B20C3789E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33A21-B6D1-426D-897F-9A65D5252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7B8-6276-4E0C-BFD7-06543842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89180-D385-4A54-896A-B1E4371168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76A70-15EE-4E6E-9D8A-83C8067378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10C94-100F-466A-8717-E4B48027BE7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EB3B9-B093-4ED0-9E8E-21F5B2D12A2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9D2F9-CCCD-4F1B-876E-F2F51A34AF7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A059AB-3399-4E65-B670-CA27B3A57BD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B5340-CC9C-49BB-BD02-387BB3108D7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15E9F-7095-48DF-8216-2556C426B73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34482-D9DA-4A61-B6E2-FF30A60206C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A62DA-2BEA-456D-AFAB-E3B7988DC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AD9-7EEA-4B51-8255-C7D8160A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30C571-21DF-4BE9-B512-092DE7BEAA7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FBF35-B9A5-4680-BA64-41FE6BD24EE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F83DF-9877-4C03-8415-D38C65A971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C3801-9239-4864-B04C-25BCAEEA062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FA2F4-D2A2-4DBC-B1BA-4BB209B7135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DB36A-D5F8-46BF-8744-774F8D07567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F657C-138D-4291-9518-13EA3AB76C7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65834A-1A9E-4F91-8482-7FEE20D3679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D391B3-7881-433C-AC50-B83A27A688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127119-2AA0-438C-B4C7-3514A4361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E8BC-5223-480F-813A-4F410AF8DBF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6" descr="logo.gif"/>
          <p:cNvPicPr/>
          <p:nvPr/>
        </p:nvPicPr>
        <p:blipFill>
          <a:blip r:embed="rId3"/>
          <a:stretch/>
        </p:blipFill>
        <p:spPr>
          <a:xfrm>
            <a:off x="285840" y="578628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47F9-A248-4DB2-B557-8949FBB9633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6" descr="logo.gif"/>
          <p:cNvPicPr/>
          <p:nvPr/>
        </p:nvPicPr>
        <p:blipFill>
          <a:blip r:embed="rId3"/>
          <a:stretch/>
        </p:blipFill>
        <p:spPr>
          <a:xfrm>
            <a:off x="285840" y="578628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90EB-4AC9-4CBA-878C-1F22365D8E7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logo.gif"/>
          <p:cNvPicPr/>
          <p:nvPr/>
        </p:nvPicPr>
        <p:blipFill>
          <a:blip r:embed="rId3"/>
          <a:stretch/>
        </p:blipFill>
        <p:spPr>
          <a:xfrm>
            <a:off x="285840" y="578628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444D-D2CF-4D65-B79A-FF787B0BFAA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965D-8DF9-473B-9CDA-09961326FF8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http://www.javno.info/gn/slike/gn_slike_3/r1/g2008/m04/x12094170179625261265.jpg"/>
          <p:cNvPicPr/>
          <p:nvPr/>
        </p:nvPicPr>
        <p:blipFill>
          <a:blip r:embed="rId3"/>
          <a:stretch/>
        </p:blipFill>
        <p:spPr>
          <a:xfrm>
            <a:off x="179280" y="5445000"/>
            <a:ext cx="1757520" cy="1138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FA00-5AB7-4B0B-992F-32F92FA415F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4A45-8C46-4971-A002-B8FFDE9F708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0CD0-5BA7-4740-909E-3962CE4E432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2B54-CDE7-47ED-A169-30EF39AC905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logo.gif"/>
          <p:cNvPicPr/>
          <p:nvPr/>
        </p:nvPicPr>
        <p:blipFill>
          <a:blip r:embed="rId3"/>
          <a:stretch/>
        </p:blipFill>
        <p:spPr>
          <a:xfrm>
            <a:off x="285840" y="578628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B4E4-B4C1-4EB6-AB65-86C35593C40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logo.gif"/>
          <p:cNvPicPr/>
          <p:nvPr/>
        </p:nvPicPr>
        <p:blipFill>
          <a:blip r:embed="rId3"/>
          <a:stretch/>
        </p:blipFill>
        <p:spPr>
          <a:xfrm>
            <a:off x="285840" y="578628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79DE-E529-4715-A0BF-0569BE3CEBE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logo.gif"/>
          <p:cNvPicPr/>
          <p:nvPr/>
        </p:nvPicPr>
        <p:blipFill>
          <a:blip r:embed="rId3"/>
          <a:stretch/>
        </p:blipFill>
        <p:spPr>
          <a:xfrm>
            <a:off x="285840" y="578628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E059-DD29-437B-962E-9DEED5EBD7F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ib.org/index.htm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seeklogo.com/images/P/PBZ_new_logo-logo-E6EE40A2F2-seeklogo.com.gif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itle 1"/>
          <p:cNvSpPr/>
          <p:nvPr/>
        </p:nvSpPr>
        <p:spPr>
          <a:xfrm>
            <a:off x="468360" y="1916280"/>
            <a:ext cx="842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ROGRAM ENERGETSKE UČINKOVITOSTI U ŠKOLAMA KRAPINSKO-ZAGORSKE ŽUPAN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http://www.javno.info/gn/slike/gn_slike_3/r1/g2008/m04/x12094170179625261265.jpg"/>
          <p:cNvPicPr/>
          <p:nvPr/>
        </p:nvPicPr>
        <p:blipFill>
          <a:blip r:embed="rId2"/>
          <a:stretch/>
        </p:blipFill>
        <p:spPr>
          <a:xfrm>
            <a:off x="2987640" y="3573360"/>
            <a:ext cx="32241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ravokutnik 103"/>
          <p:cNvSpPr/>
          <p:nvPr/>
        </p:nvSpPr>
        <p:spPr>
          <a:xfrm>
            <a:off x="179280" y="5373720"/>
            <a:ext cx="158436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468360" y="1220760"/>
          <a:ext cx="8229600" cy="4145040"/>
        </p:xfrm>
        <a:graphic>
          <a:graphicData uri="http://schemas.openxmlformats.org/drawingml/2006/table">
            <a:tbl>
              <a:tblPr/>
              <a:tblGrid>
                <a:gridCol w="436680"/>
                <a:gridCol w="2192040"/>
                <a:gridCol w="4032360"/>
                <a:gridCol w="1568520"/>
              </a:tblGrid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TOLARIJA SREDNJE 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Bedekovč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mjena vanjske stola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Zlat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mjena vanjske stola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KUPNO VANJSKA STOLARIJA SREDNJE 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0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PREMA I OSTA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DIGO Zab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eđenje fasade sjevernog dijela 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e i teme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Hum na Sut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nacija kotlov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Brestovec Orehovič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eđenje fasade 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Veliko Trgovi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ć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eđenje fasade 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G. Stubica P</a:t>
                      </a:r>
                      <a:r>
                        <a:rPr b="0" lang="sr-Latn-C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Hum Stubičk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zvedba grijanja geotermalnim dizalom top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Zlatar, P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Bati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asada 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KUPNO OPREMA I OSTALO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86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jesečno praćenje potroš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8000" y="1412640"/>
            <a:ext cx="6551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veza mjesečnog izvještavanja po računima i potrošnji energen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aćenje potrošnja i analiza odstup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pute za štednju energ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tjecanje u ostvarenim energetskim ušted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4" descr="http://www.vjesnik.hr/html/2005/07/19/Brojilo02.jpg"/>
          <p:cNvPicPr/>
          <p:nvPr/>
        </p:nvPicPr>
        <p:blipFill>
          <a:blip r:embed="rId2"/>
          <a:stretch/>
        </p:blipFill>
        <p:spPr>
          <a:xfrm>
            <a:off x="6885000" y="1557360"/>
            <a:ext cx="2082960" cy="1584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http://www.slobodnadalmacija.hr/Portals/0/images/2009-02-03/Novosti/STRUJA_RACUN-150908_thumb.jpg"/>
          <p:cNvPicPr/>
          <p:nvPr/>
        </p:nvPicPr>
        <p:blipFill>
          <a:blip r:embed="rId3"/>
          <a:srcRect l="32230" t="51201" r="0" b="0"/>
          <a:stretch/>
        </p:blipFill>
        <p:spPr>
          <a:xfrm>
            <a:off x="6804000" y="3284640"/>
            <a:ext cx="2065320" cy="9363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"/>
          <p:cNvPicPr/>
          <p:nvPr/>
        </p:nvPicPr>
        <p:blipFill>
          <a:blip r:embed="rId4"/>
          <a:stretch/>
        </p:blipFill>
        <p:spPr>
          <a:xfrm>
            <a:off x="6659640" y="4508640"/>
            <a:ext cx="2305080" cy="115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Edukacija koris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68000" y="1341000"/>
            <a:ext cx="8675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ionica za ravnatelje i tehničke upravite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va radionica u ožujku 20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vod u mjesečno praćenje potroš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snovne mjere za energetske uštede promjenom ponaš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razovni program Znanjem do ušte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Godišnja aktivnost u srednjim školama od 200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edavanja, stručni izlet, natjecanje učenika u znan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čekivani učin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68000" y="1341000"/>
            <a:ext cx="8675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boljšanje kvalitete učenja i rada u školskim objek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načajne energetske uštede (min. 20%) = financijske uštede + zaštita okoliš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lika za gospodarstvo i poduzetnike (građevinarstvo i energetske instalacije i opre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izanje kvalitete života i zadovoljstva žitelja Krapinsko-zagorske župan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itle 1"/>
          <p:cNvSpPr/>
          <p:nvPr/>
        </p:nvSpPr>
        <p:spPr>
          <a:xfrm>
            <a:off x="387360" y="1052640"/>
            <a:ext cx="842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ROGRAM ENERGETSKE UČINKOVITOSTI U ŠKOLAMA KRAPINSKO-ZAGORSKE ŽUPAN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0" descr="http://www.javno.info/gn/slike/gn_slike_3/r1/g2008/m04/x12094170179625261265.jpg"/>
          <p:cNvPicPr/>
          <p:nvPr/>
        </p:nvPicPr>
        <p:blipFill>
          <a:blip r:embed="rId2"/>
          <a:stretch/>
        </p:blipFill>
        <p:spPr>
          <a:xfrm>
            <a:off x="2987640" y="2522520"/>
            <a:ext cx="3224160" cy="2087640"/>
          </a:xfrm>
          <a:prstGeom prst="rect">
            <a:avLst/>
          </a:prstGeom>
          <a:ln w="0">
            <a:noFill/>
          </a:ln>
        </p:spPr>
      </p:pic>
      <p:sp>
        <p:nvSpPr>
          <p:cNvPr id="537" name="Title 1"/>
          <p:cNvSpPr/>
          <p:nvPr/>
        </p:nvSpPr>
        <p:spPr>
          <a:xfrm>
            <a:off x="606600" y="4724280"/>
            <a:ext cx="8424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000000"/>
                </a:solidFill>
                <a:latin typeface="Calibri"/>
              </a:rPr>
              <a:t>HVALA NA PAŽNJI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Zašto </a:t>
            </a:r>
            <a:r>
              <a:rPr b="0" i="1" lang="hr-HR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99680" y="1557000"/>
            <a:ext cx="8319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ezadovoljavajuće stanje u školama posljedica dugogodišnjeg zanemarivanja probl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valiteta života i rada učenika i profesora bitan preduvjet razvitka i napre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užnost smanjenja troškova za energ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reba sustavnog pristupa radi postizanja najvećeg učinka ulaganja financijskih sredst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iljevi </a:t>
            </a:r>
            <a:r>
              <a:rPr b="0" i="1" lang="hr-HR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39640" y="1268280"/>
            <a:ext cx="83203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načajna energetska ušteda – min. 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boljšanje stanja školskih objek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anjska stolar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rovište, toplinska ovojnica (fasad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tlovnice, sustavi za grijanje i hlađe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sečno praćenje potrošnje energ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ećanje znanja i svijesti tehničkog osoblja, profesora 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Aktivnosti </a:t>
            </a:r>
            <a:r>
              <a:rPr b="0" i="1" lang="hr-HR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68000" y="1412640"/>
            <a:ext cx="8319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spostava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Energetskog fond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 ulaganja u energetsku učinkovitost na ciljanim objektima – sredstva Europske investicijske banke putem Privredne banke Zagr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vedba građevinskih radova i tehničkih rekonstrukcija – Mjere energetske učinkovi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sečno izvještavanje o potrošnji energen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dukacija tehničkog osoblja 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ravokutnik 1"/>
          <p:cNvSpPr/>
          <p:nvPr/>
        </p:nvSpPr>
        <p:spPr>
          <a:xfrm>
            <a:off x="250920" y="5373720"/>
            <a:ext cx="252072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oved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68000" y="1267920"/>
            <a:ext cx="8319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lastito znanje i resur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ZARA – osiguranje kreditnih sredstava, provedba rekonstrukcije i rad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EGEA – tehnički nadzor i praćenje provedbe, praćenje potrošnje energije, eduk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O za obrazovanje – koordinacija sudionika i izvođača, tehnički nadzor i evaluacija Progr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uropska investicijska ban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artnerstvo s gradovima i općinama – 5,5% investi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5" descr="http://www.javno.info/gn/slike/gn_slike_3/r1/g2008/m04/x12094170179625261265.jpg"/>
          <p:cNvPicPr/>
          <p:nvPr/>
        </p:nvPicPr>
        <p:blipFill>
          <a:blip r:embed="rId2"/>
          <a:stretch/>
        </p:blipFill>
        <p:spPr>
          <a:xfrm>
            <a:off x="539640" y="3860640"/>
            <a:ext cx="777960" cy="505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http://www.dvorci.hr/slike/Clanci/Conf09zara.jpg"/>
          <p:cNvPicPr/>
          <p:nvPr/>
        </p:nvPicPr>
        <p:blipFill>
          <a:blip r:embed="rId3"/>
          <a:stretch/>
        </p:blipFill>
        <p:spPr>
          <a:xfrm>
            <a:off x="539640" y="1989000"/>
            <a:ext cx="682560" cy="5637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logo.gif"/>
          <p:cNvPicPr/>
          <p:nvPr/>
        </p:nvPicPr>
        <p:blipFill>
          <a:blip r:embed="rId4"/>
          <a:stretch/>
        </p:blipFill>
        <p:spPr>
          <a:xfrm>
            <a:off x="611280" y="2997360"/>
            <a:ext cx="5238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0" descr="Return to the EIB home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2170080"/>
            <a:ext cx="1790640" cy="97164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Energetski f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log i priho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44720" y="980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644720" y="1484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vesticijska ulaganja po načelima energetske učinkovit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oeficijenti prolaska top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činkovitost sustava i opre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tplata rata kredita za početni u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2" descr="Pogledaj sliku u punoj veličini">
            <a:hlinkClick r:id="rId4"/>
          </p:cNvPr>
          <p:cNvPicPr/>
          <p:nvPr/>
        </p:nvPicPr>
        <p:blipFill>
          <a:blip r:embed="rId5"/>
          <a:srcRect l="0" t="18750" r="0" b="18750"/>
          <a:stretch/>
        </p:blipFill>
        <p:spPr>
          <a:xfrm>
            <a:off x="1116000" y="227664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" descr="http://www.fzoeu.hr/include/images/logo.jpg"/>
          <p:cNvPicPr/>
          <p:nvPr/>
        </p:nvPicPr>
        <p:blipFill>
          <a:blip r:embed="rId6"/>
          <a:stretch/>
        </p:blipFill>
        <p:spPr>
          <a:xfrm>
            <a:off x="2124000" y="393372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324000" y="1773000"/>
            <a:ext cx="4257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četni ulog: 10 milijuna k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FZOEU – putem natječaja i financijske pomoć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Energetske ušte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vrat 15% glavnice u slučaju uštede energije od min. 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JLS: 5,5% inv. Troškova na svom područ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jere energetske učinkovitosti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nacija i izolacija pokrova i kroviš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Š Bedekovčina, OŠ Belec, OŠ Klanjec,  OŠ Gornja Stubica,  PŠ Hum Stubič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mjena stolar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Š Desinić, D. Stubica, Kraljevec na Sutli, Kumrovec, Mihovljan, Radoboj, Sv. Križ Začretje, Zla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Š Bedekovčina, Zla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jere energetske učinkovitosti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plinske ovojnice (fasa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Š Klanjec, Belec, Desin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tlovnice i opr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Š Hum na Sutli (kotlovn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Š G. Stubica – PŠ Hum Stubički (geotermalna dizalica top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ravokutnik 1"/>
          <p:cNvSpPr/>
          <p:nvPr/>
        </p:nvSpPr>
        <p:spPr>
          <a:xfrm>
            <a:off x="179280" y="5373720"/>
            <a:ext cx="158436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519120" y="219240"/>
          <a:ext cx="8229600" cy="6460920"/>
        </p:xfrm>
        <a:graphic>
          <a:graphicData uri="http://schemas.openxmlformats.org/drawingml/2006/table">
            <a:tbl>
              <a:tblPr/>
              <a:tblGrid>
                <a:gridCol w="781200"/>
                <a:gridCol w="2187360"/>
                <a:gridCol w="3853080"/>
                <a:gridCol w="1407960"/>
              </a:tblGrid>
              <a:tr h="3373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LAN MJERA ZA POBOLJ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NJE ENERGETSKE UČINKOVITOSTI U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AMA KZŽ 2011.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NOVNE 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dni bro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aziv 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ijedlog mjere za pobolj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cjenjeni  tr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k sa PD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KROVI I KROVI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A OSNOVNE 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Bedekovč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nacija krova - dovr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tak radova zamjene pokrov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Bel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nacija krova - priprema  potkrovlja  za koristan prostor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Klanj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nacija krovi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a i zamjena pokro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G. Stubica i P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Hum S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plinska izolacija učionica u potkrovl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KUPNO KROVI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A 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TOLARIJA OSNOVNE 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Desini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mjena vanjske stola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Donja Stub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mjena vanjske stola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Kraljevec na Sut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mjena vanjske stola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0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Krapinske topl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mjena vanjske stola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Kumrov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mjena vanjske stolarije - dr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0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Mihovlj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mjena vanjske stolarije - 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adobo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mjena vanjske stola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v. Križ Začret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mjena vanjske stola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7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Zlat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mjena vanjske stola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5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KUPNO VANJSKA STOLARIJA O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490.000,00 k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9:15:25Z</dcterms:created>
  <dc:creator>Julije</dc:creator>
  <dc:description/>
  <dc:language>en-US</dc:language>
  <cp:lastModifiedBy>GoranGr</cp:lastModifiedBy>
  <dcterms:modified xsi:type="dcterms:W3CDTF">2011-03-07T13:33:02Z</dcterms:modified>
  <cp:revision>268</cp:revision>
  <dc:subject/>
  <dc:title>Slide 1</dc:title>
</cp:coreProperties>
</file>