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35F-0F3C-46CE-A404-55C48F03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49F-CFD0-478F-8CF5-20BDD82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2CE-7DD4-4623-B30E-45D50135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878-FE63-4ECE-A756-79F065DD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E91-5C64-48FF-9F2C-6261778D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C5D6-5715-486F-B3EC-90A3C94A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04DC-FCF4-4E6F-A4C1-49E6AFE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0347-8C1A-4EF0-9968-F8BAC6C2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662F-0280-4228-9EFE-B270644A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3C4B-7167-4F7B-AAF4-61AFAC41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7F4-FC9B-46D2-9917-696ED6C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385-CB89-4EE7-8A4A-FD85F64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AB6F-CBD9-4978-8049-6435235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AEBF-D259-4090-9A42-C16DCD4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8369-8949-4B56-B3B3-81F77963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142F-CDBA-475A-B7FD-BFC04D41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EF96-7E6E-42D3-933E-D134243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C69-7FDF-40D0-97FC-41EE4A67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0FA-3E4F-4FA5-8459-88D343CE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724-C11E-4F24-BA02-895BD6B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A41-AE0F-4AAB-B3D8-CF842540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3E0-53A6-48A4-BF65-C8341E5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5FD-8CD4-4E9B-8D05-792C10F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370-8522-42AA-A154-4DE965F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4C39-B582-43AF-882D-667FF1CA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E16D-5416-4EA2-8F8B-7D79473B8D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607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AVJET ZA EUROPSKE INTEGRACIJE KZŽ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876560" y="4441320"/>
            <a:ext cx="425916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ZVJEŠĆE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N RADA 2011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CM edukacija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 predstavnike Županije i županijskih institucija – 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 predstavnike jedinica lokalne samouprave – 3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 predstavnike škola, udruga i poslovni sektor - 3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2011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Novi krug edukacija “Upravljanje projektnim cikluso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nfo-radionice za nastavno osoblje (Agencija za mobilnost i programe EU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Nastavak “tailor-made” programa u Bruxelles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2011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Sretna djetelina s 4 lista” (IRE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Experiences within EU” – međunarodna konferencija u veljač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Zajedničko obilježavanje Dana Euro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utujuća izložb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Eseji za srednjoškolce “Moja domovina, tvoja domovina#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2011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ibin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jednička poljoprivredna politika” (Delegacija EU u RH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ladi i poljoprivreda” (primjeri dobre praks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rtništvo i korištenje strukturnih fondova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2011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Sustav državnih potpora u EU” (Ekonomski institu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Europska godina volontiran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EU tjed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Savjet mladih (e-bilten, euro-info točka, YR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EU projekti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ovedeni projekti: 1.248.984,27 €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Projekti u provedbi: 3.144.120,56 €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Prijavljeni projekti: 9.270.294,15 €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667640" cy="11430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ccecff"/>
                </a:solidFill>
                <a:latin typeface="Arial Black"/>
              </a:rPr>
              <a:t>Prevencija kriminaliteta s međunarodnim iskustvom”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038840" cy="5068800"/>
          </a:xfrm>
          <a:prstGeom prst="rect">
            <a:avLst/>
          </a:prstGeom>
          <a:blipFill rotWithShape="0">
            <a:blip r:embed="rId1">
              <a:alphaModFix amt="40000"/>
            </a:blip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Glavni ciljev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Širenje europske suradnje, potpora interkulturnom dijalogu, doprinos EU standardima i prioritetima u prevenciji kriminalitet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Aktivnost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informiranje partnera o projektu, organizacija sastanka sa svim partnerima i podjela zadatak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informiranje svih policijskih postaja o projektu te poziv na iskazivanje interesa za sudjelovanje na projektu, izbor sudionika sukladno definiranim kriterijim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riprema za posjet – tečajevi jezika/posjet Španjolskom veleposlanstvu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votjedni program posjeta Španjolskoj, nakon povratka – organizacija sastanka na kojem će se ocijeniti posje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riprema završnog izvješć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rezentacija rezultata projekta na sajmu poslov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rezentacija rezultata projekta na Danu policije i Gospodarskom zboru KZ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25920"/>
          </a:xfrm>
          <a:prstGeom prst="rect">
            <a:avLst/>
          </a:prstGeom>
          <a:blipFill rotWithShape="0">
            <a:blip r:embed="rId2">
              <a:alphaModFix amt="40000"/>
            </a:blip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Prijavitelj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PU KZ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Partner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ZARA, Obiteljski centar KZŽ, Zavod za javno zdravstvo KZŽ Centar za prevenciju ovisnosti i izvanbolničko liječenje, Conselleria de Gobernac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Ukupna vrijednost projek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18.384,00 EUR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667640" cy="11430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Arial Black"/>
              </a:rPr>
              <a:t>“</a:t>
            </a:r>
            <a:r>
              <a:rPr b="0" lang="hr-HR" sz="2800" spc="-1" strike="noStrike">
                <a:solidFill>
                  <a:srgbClr val="ccecff"/>
                </a:solidFill>
                <a:latin typeface="Arial Black"/>
              </a:rPr>
              <a:t>Implementacija novih kurikuluma – Pedology curriculum”</a:t>
            </a:r>
            <a:r>
              <a:rPr b="0" lang="hr-HR" sz="40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852800"/>
          </a:xfrm>
          <a:prstGeom prst="rect">
            <a:avLst/>
          </a:prstGeom>
          <a:blipFill rotWithShape="0">
            <a:blip r:embed="rId1">
              <a:alphaModFix amt="40000"/>
            </a:blip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Glavni cilj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Bolja edukacija strukovnih profesora kako bi bili u mogućnosti provoditi programe koji su više orijentirani na učenike i prenošenje praktičnih znanja pri implementaciji novog kurikulum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Aktivnost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Promocij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Razvoj novog kurikuluma iz pedologij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Opremanje pedološkog laboratorij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Studijska putovanja za učenike Srednje škole Bedekovčina i Srednje škole Zelin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Edukacije za strukovne profesore Srednje škole Bedekovčin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Organizacija okruglog stol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Prijavitelj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Srednja škola Bedekovčin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Partner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Zagorska razvojna agencija, Srednja škola Dragutin Stražimir, Sveti Ivan Zelina, Srednja poljoprivredna škola Čakove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eaeaea"/>
                </a:solidFill>
                <a:latin typeface="Arial"/>
              </a:rPr>
              <a:t>Ukupna vrijednost projek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eaeaea"/>
                </a:solidFill>
                <a:latin typeface="Arial"/>
              </a:rPr>
              <a:t>137.304,17 EUR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Strategija ruralnog razvoja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EI </a:t>
            </a: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know-how exchange programme</a:t>
            </a:r>
            <a:r>
              <a:rPr b="1" lang="hr-H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(KEP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Izrada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Strategije ruralnog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razvoj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26.339 EURO (50%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gran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ojekti u evaluaciji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PA CBC – 8,7 mil. eu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PA HRD – 215 tis. eu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OGRESS – 400 tis. eu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JAČANJE INSTITUCIONALNE SPOSOBNOSTI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ravljanje projektnim ciklusom” (ZARA; 80 polaznik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ndovi EU i kultura” (Ministarstvo kultur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U fondovi” (Nacionalni odb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uka za prijavitelje / korisnike IPA komponente I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AHVALJUJEMO NA PAŽNJI!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Rectangle 4" descr=""/>
          <p:cNvPicPr/>
          <p:nvPr/>
        </p:nvPicPr>
        <p:blipFill>
          <a:blip r:embed="rId1"/>
          <a:stretch/>
        </p:blipFill>
        <p:spPr>
          <a:xfrm>
            <a:off x="2104920" y="1905120"/>
            <a:ext cx="61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JAČANJE INSTITUCIONALNE SPOSOBNOSTI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EU programi-kako pripremiti i prijaviti projekt” (Akademija lokalne demokracij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nformiranje i promidžba u kontekstu EU fondova” (SDURF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Komunikacijska strategija u predreferendumskom razdoblju (MVPE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JAČANJE INSTITUCIONALNE SPOSOBNOSTI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Learning Europe-Challenges of training on EU funds” (MVPEI, Zaklada Konrad Adenau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Ured regija Bruxelles – “tailor-made” program za mlade (Savjet, Mreža, Vijeće učenik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Green Week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INFORMIRANJ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oljoprivreda na regionalnoj razini danas i sutra u EU” (KZŽ i Varaždinska županij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ogrami EU i mladi (prezentacije OKKZŽ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4. konferencija “Youth Regional Network” Skupštine europskih regi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INFORMIRANJ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Malo i srednje gospodarstvo u EU” (MVPEI, HGK KZŽ, OKKZŽ, Delegacija EU u RH, MINGORP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osjet šefa Delegacije Paula Vandore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Donacije školama i udrugama za EU programe i projek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EU TJEDAN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edavanje za gimnazijalce i DND u Zaboku (Info centar Delegacij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Tribina u Klanjcu“Iskustva prekogranične suradnje” (ZARA, KZŽ, RA Kozjansk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utujemo zemljama EU” u Zabok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gre djece Europe” u Zabok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EU TJEDAN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Ured regija u Bruxellesu (video-link, Srednja škola Krapi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edavanje u Zaboku “65 godina pobjede Europe nad fašizmo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Literarni natječaj “Borba protiv siromaštva je…” (5 nagrad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SME WEEK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uropski tjedan malog i srednjeg poduzetništva – HGK ŽK Krapina i ZA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.-20. svibn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krugli stol na temu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Mogućnosti realizacije poslovnih ideja i projekata u okvirima fondova Europske un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ibina na temu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nergetska učinkovitost u malom i srednjem poduzetništv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minar o potpornim institucijama malog i srednjeg poduzetništv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7:29:44Z</dcterms:created>
  <dc:creator>Natasa Hlaban</dc:creator>
  <dc:description/>
  <dc:language>en-US</dc:language>
  <cp:lastModifiedBy>Natasa Hlaban</cp:lastModifiedBy>
  <dcterms:modified xsi:type="dcterms:W3CDTF">2010-12-20T13:51:39Z</dcterms:modified>
  <cp:revision>13</cp:revision>
  <dc:subject/>
  <dc:title>ŽUPANIJSKI SAVJET ZA EUROPSKE INTEGRACIJE KZŽ</dc:title>
</cp:coreProperties>
</file>