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4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</p:sldIdLst>
  <p:sldSz cx="9144000" cy="6858000"/>
  <p:notesSz cx="67357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35600" cy="987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145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00000" y="739440"/>
            <a:ext cx="4935600" cy="3701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2840" y="468792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374040"/>
            <a:ext cx="291924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14560" y="9374040"/>
            <a:ext cx="291924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875A3-9802-4802-9BD7-F1422211C6B3}" type="slidenum">
              <a:rPr b="0" lang="hr-H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90000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72840" y="468792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814920" y="9374040"/>
            <a:ext cx="2919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C7A98-0937-4A4F-909F-BDFA5DC7B410}" type="slidenum">
              <a:rPr b="0" lang="hr-H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90000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72840" y="468792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814920" y="9374040"/>
            <a:ext cx="2919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0F2B6-A6A0-489C-94F7-72146FC4EC3D}" type="slidenum">
              <a:rPr b="0" lang="hr-H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90000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72840" y="468792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814920" y="9374040"/>
            <a:ext cx="2919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E726C-D833-4369-809C-818ECB2C840A}" type="slidenum">
              <a:rPr b="0" lang="hr-H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90000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72840" y="468792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14920" y="9374040"/>
            <a:ext cx="2919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9A91D-1882-4967-83E7-4AB6D13D8A0F}" type="slidenum">
              <a:rPr b="0" lang="hr-H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90000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72840" y="468792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3814920" y="9374040"/>
            <a:ext cx="2919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42DE6-0417-4FE6-AFDE-2D9FA82198D8}" type="slidenum">
              <a:rPr b="0" lang="hr-H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90000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72840" y="468792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3814920" y="9374040"/>
            <a:ext cx="2919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F3D2A-9B12-4E34-98D0-59FC32B02091}" type="slidenum">
              <a:rPr b="0" lang="hr-H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90000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72840" y="468792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814920" y="9374040"/>
            <a:ext cx="2919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336E3-AA16-4A62-8D07-7333148072F1}" type="slidenum">
              <a:rPr b="0" lang="hr-H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F1CAF-B239-4D7D-AB00-034403B0D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21909-B3DE-4CD9-9880-7B438D5BB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1DA99-4BFA-4894-9A09-53D9041CF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904A1-2019-4875-90E6-720CB27DC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16A54-BB64-4373-ADE8-07892FEFD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A45EC-42D5-4BAB-8736-AE1B1EA18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0F86C-471C-45E7-9561-70578C78F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1D6B5-320B-412D-B037-31BF5BBB8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00AF6-8FD1-4BFB-80B6-18BDAB2D1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FE271-146E-478C-BCC7-23F30B647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7617E-2EC3-4FB5-B1DB-32E84E4C1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95242-C353-455C-8098-05C4991A7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D339A-E26E-4C7E-B947-D1E49764088B}" type="slidenum">
              <a:rPr b="0" lang="hr-H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539640" y="2060640"/>
            <a:ext cx="8229600" cy="42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000000"/>
                </a:solidFill>
                <a:latin typeface="Cambria"/>
              </a:rPr>
              <a:t>UPRAVNI ODJEL ZA GOSPODARSTVO, POLJOPRIVREDU, PROMET, KOMUNALNU INFRASTRUKTURU I EU FONDO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6" descr="C:\Documents and Settings\DrazenkaG\Desktop\Poljoprivreda 2013\Izložba meda\KZZ_Grb_Transparent-smanjen-sa-natpisom.png"/>
          <p:cNvPicPr/>
          <p:nvPr/>
        </p:nvPicPr>
        <p:blipFill>
          <a:blip r:embed="rId1"/>
          <a:stretch/>
        </p:blipFill>
        <p:spPr>
          <a:xfrm>
            <a:off x="3643200" y="214200"/>
            <a:ext cx="1656000" cy="1440000"/>
          </a:xfrm>
          <a:prstGeom prst="rect">
            <a:avLst/>
          </a:prstGeom>
          <a:ln w="0">
            <a:noFill/>
          </a:ln>
        </p:spPr>
      </p:pic>
      <p:sp>
        <p:nvSpPr>
          <p:cNvPr id="51" name="TextBox 7"/>
          <p:cNvSpPr/>
          <p:nvPr/>
        </p:nvSpPr>
        <p:spPr>
          <a:xfrm>
            <a:off x="5543640" y="5013360"/>
            <a:ext cx="36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Cambria"/>
              </a:rPr>
              <a:t>Krapina, 23. prosinca 201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LOGO_ZAGORJE_HOR"/>
          <p:cNvPicPr/>
          <p:nvPr/>
        </p:nvPicPr>
        <p:blipFill>
          <a:blip r:embed="rId2"/>
          <a:stretch/>
        </p:blipFill>
        <p:spPr>
          <a:xfrm>
            <a:off x="7093080" y="5516640"/>
            <a:ext cx="205092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400" spc="-1" strike="noStrike">
                <a:solidFill>
                  <a:srgbClr val="000000"/>
                </a:solidFill>
                <a:latin typeface="Cambria"/>
              </a:rPr>
              <a:t>Sufinanciranje Zagorskog gospodarskog zbora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395280" y="164304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800" spc="-1" strike="noStrike">
                <a:solidFill>
                  <a:srgbClr val="000000"/>
                </a:solidFill>
                <a:latin typeface="Cambria"/>
              </a:rPr>
              <a:t>21. Zagorski gospodarski zbor u Krapini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800" spc="-1" strike="noStrike">
                <a:solidFill>
                  <a:srgbClr val="000000"/>
                </a:solidFill>
                <a:latin typeface="Cambria"/>
              </a:rPr>
              <a:t>(12.-14. rujna 2013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Cambria"/>
              </a:rPr>
              <a:t>Realizirano</a:t>
            </a:r>
            <a:r>
              <a:rPr b="0" lang="hr-HR" sz="2800" spc="-1" strike="noStrike">
                <a:solidFill>
                  <a:srgbClr val="000000"/>
                </a:solidFill>
                <a:latin typeface="Cambria"/>
              </a:rPr>
              <a:t>: 35.000,00 k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5" descr="LOGO_ZAGORJE_HOR"/>
          <p:cNvPicPr/>
          <p:nvPr/>
        </p:nvPicPr>
        <p:blipFill>
          <a:blip r:embed="rId1"/>
          <a:stretch/>
        </p:blipFill>
        <p:spPr>
          <a:xfrm>
            <a:off x="7812000" y="5877000"/>
            <a:ext cx="133200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400" spc="-1" strike="noStrike">
                <a:solidFill>
                  <a:srgbClr val="000000"/>
                </a:solidFill>
                <a:latin typeface="Cambria"/>
              </a:rPr>
              <a:t>Sufinanciranje edukacije i prezentacije obrtničkih zanimanja u osnovnim školama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179280" y="2204640"/>
            <a:ext cx="8374320" cy="415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800" spc="-1" strike="noStrike">
                <a:solidFill>
                  <a:srgbClr val="000000"/>
                </a:solidFill>
                <a:latin typeface="Cambria"/>
              </a:rPr>
              <a:t>Održavanje prezentacija i radionica u Osnovnim školama Krapinsko-zagorske župani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Cambria"/>
              </a:rPr>
              <a:t>Realizirano</a:t>
            </a:r>
            <a:r>
              <a:rPr b="0" lang="hr-HR" sz="2800" spc="-1" strike="noStrike">
                <a:solidFill>
                  <a:srgbClr val="000000"/>
                </a:solidFill>
                <a:latin typeface="Cambria"/>
              </a:rPr>
              <a:t>: 40.000,00 k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5" descr="LOGO_ZAGORJE_HOR"/>
          <p:cNvPicPr/>
          <p:nvPr/>
        </p:nvPicPr>
        <p:blipFill>
          <a:blip r:embed="rId1"/>
          <a:stretch/>
        </p:blipFill>
        <p:spPr>
          <a:xfrm>
            <a:off x="7812000" y="5877000"/>
            <a:ext cx="133200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400" spc="-1" strike="noStrike">
                <a:solidFill>
                  <a:srgbClr val="000000"/>
                </a:solidFill>
                <a:latin typeface="Cambria"/>
              </a:rPr>
              <a:t>Sufinanciranje edukacije poduzetništva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395280" y="198864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hr-HR" sz="2600" spc="-1" strike="noStrike">
                <a:solidFill>
                  <a:srgbClr val="000000"/>
                </a:solidFill>
                <a:latin typeface="Cambria"/>
              </a:rPr>
              <a:t>Informatičko, strukovno i ciljano obrazovanje u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6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i="1" lang="hr-HR" sz="2600" spc="-1" strike="noStrike">
                <a:solidFill>
                  <a:srgbClr val="000000"/>
                </a:solidFill>
                <a:latin typeface="Cambria"/>
              </a:rPr>
              <a:t>Osnovnim školama Krapinsko-zagorske županij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600" spc="-1" strike="noStrike">
                <a:solidFill>
                  <a:srgbClr val="000000"/>
                </a:solidFill>
                <a:latin typeface="Cambria"/>
              </a:rPr>
              <a:t>Realizirano</a:t>
            </a:r>
            <a:r>
              <a:rPr b="0" lang="hr-HR" sz="2600" spc="-1" strike="noStrike">
                <a:solidFill>
                  <a:srgbClr val="000000"/>
                </a:solidFill>
                <a:latin typeface="Cambria"/>
              </a:rPr>
              <a:t>: 30.000,00 k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5" descr="LOGO_ZAGORJE_HOR"/>
          <p:cNvPicPr/>
          <p:nvPr/>
        </p:nvPicPr>
        <p:blipFill>
          <a:blip r:embed="rId1"/>
          <a:stretch/>
        </p:blipFill>
        <p:spPr>
          <a:xfrm>
            <a:off x="7812000" y="5877000"/>
            <a:ext cx="133200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400" spc="-1" strike="noStrike">
                <a:solidFill>
                  <a:srgbClr val="000000"/>
                </a:solidFill>
                <a:latin typeface="Cambria"/>
              </a:rPr>
              <a:t>Potpore tradicionalnim obrtima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395280" y="2060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800" spc="-1" strike="noStrike">
                <a:solidFill>
                  <a:srgbClr val="000000"/>
                </a:solidFill>
                <a:latin typeface="Cambria"/>
              </a:rPr>
              <a:t>Projekt “Promocija tradicijskih i umjetničkih obrta Krapinsko-zagorske županije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Cambria"/>
              </a:rPr>
              <a:t>Realizirano</a:t>
            </a:r>
            <a:r>
              <a:rPr b="0" lang="hr-HR" sz="2800" spc="-1" strike="noStrike">
                <a:solidFill>
                  <a:srgbClr val="000000"/>
                </a:solidFill>
                <a:latin typeface="Cambria"/>
              </a:rPr>
              <a:t>: 100.000,00 k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5" descr="LOGO_ZAGORJE_HOR"/>
          <p:cNvPicPr/>
          <p:nvPr/>
        </p:nvPicPr>
        <p:blipFill>
          <a:blip r:embed="rId1"/>
          <a:stretch/>
        </p:blipFill>
        <p:spPr>
          <a:xfrm>
            <a:off x="7812000" y="5877000"/>
            <a:ext cx="133200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400" spc="-1" strike="noStrike">
                <a:solidFill>
                  <a:srgbClr val="000000"/>
                </a:solidFill>
                <a:latin typeface="Cambria"/>
              </a:rPr>
              <a:t>Regresiranje kamata poduzetnicima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50560" y="1628640"/>
            <a:ext cx="84978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339480" indent="-3394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400" spc="-1" strike="noStrike">
                <a:solidFill>
                  <a:srgbClr val="000000"/>
                </a:solidFill>
                <a:latin typeface="Cambria"/>
              </a:rPr>
              <a:t>Subvencioniranje kamatne stope u visini o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39480" indent="-3394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400" spc="-1" strike="noStrike">
                <a:solidFill>
                  <a:srgbClr val="000000"/>
                </a:solidFill>
                <a:latin typeface="Cambria"/>
              </a:rPr>
              <a:t>1 p.p. po projekti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39480" indent="-3394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39480" indent="-3394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400" spc="-1" strike="noStrike">
                <a:solidFill>
                  <a:srgbClr val="000000"/>
                </a:solidFill>
                <a:latin typeface="Cambria"/>
              </a:rPr>
              <a:t>Subvencioniranje kamatne stope u visini o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39480" indent="-3394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400" spc="-1" strike="noStrike">
                <a:solidFill>
                  <a:srgbClr val="000000"/>
                </a:solidFill>
                <a:latin typeface="Cambria"/>
              </a:rPr>
              <a:t>2 p.p. po potprogrami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Cambria"/>
              </a:rPr>
              <a:t>Realizirano</a:t>
            </a:r>
            <a:r>
              <a:rPr b="0" lang="hr-HR" sz="2800" spc="-1" strike="noStrike">
                <a:solidFill>
                  <a:srgbClr val="000000"/>
                </a:solidFill>
                <a:latin typeface="Cambria"/>
              </a:rPr>
              <a:t>: 3.532.251,25 k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Cambria"/>
              </a:rPr>
              <a:t>1.615.350,67 kn – Ministarstvo  poduzetništva i obr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Cambria"/>
              </a:rPr>
              <a:t>1.386.015,91 kn - Župani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Cambria"/>
              </a:rPr>
              <a:t>530.884,67 kn - J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5" descr="LOGO_ZAGORJE_HOR"/>
          <p:cNvPicPr/>
          <p:nvPr/>
        </p:nvPicPr>
        <p:blipFill>
          <a:blip r:embed="rId1"/>
          <a:stretch/>
        </p:blipFill>
        <p:spPr>
          <a:xfrm>
            <a:off x="7812000" y="5877000"/>
            <a:ext cx="133200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400" spc="-1" strike="noStrike">
                <a:solidFill>
                  <a:srgbClr val="000000"/>
                </a:solidFill>
                <a:latin typeface="Cambria"/>
              </a:rPr>
              <a:t>Sufinanciranje poduzetničkog inkubatora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395280" y="1773000"/>
            <a:ext cx="8229600" cy="42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800" spc="-1" strike="noStrike">
                <a:solidFill>
                  <a:srgbClr val="000000"/>
                </a:solidFill>
                <a:latin typeface="Cambria"/>
              </a:rPr>
              <a:t>Poduzetnički inkub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600" spc="-1" strike="noStrike">
                <a:solidFill>
                  <a:srgbClr val="000000"/>
                </a:solidFill>
                <a:latin typeface="Cambria"/>
              </a:rPr>
              <a:t>- u izradi glavni projek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600" spc="-1" strike="noStrike">
                <a:solidFill>
                  <a:srgbClr val="000000"/>
                </a:solidFill>
                <a:latin typeface="Cambria"/>
              </a:rPr>
              <a:t>Realizirano: </a:t>
            </a:r>
            <a:r>
              <a:rPr b="0" lang="hr-HR" sz="2600" spc="-1" strike="noStrike">
                <a:solidFill>
                  <a:srgbClr val="000000"/>
                </a:solidFill>
                <a:latin typeface="Cambria"/>
              </a:rPr>
              <a:t>300.000,00 k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5" descr="LOGO_ZAGORJE_HOR"/>
          <p:cNvPicPr/>
          <p:nvPr/>
        </p:nvPicPr>
        <p:blipFill>
          <a:blip r:embed="rId1"/>
          <a:stretch/>
        </p:blipFill>
        <p:spPr>
          <a:xfrm>
            <a:off x="7812000" y="5877000"/>
            <a:ext cx="133200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400" spc="-1" strike="noStrike">
                <a:solidFill>
                  <a:srgbClr val="000000"/>
                </a:solidFill>
                <a:latin typeface="Cambria"/>
              </a:rPr>
              <a:t>Sufinanciranje mjera energetske učinkovitosti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324000" y="1412640"/>
            <a:ext cx="84628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400" spc="-1" strike="noStrike">
                <a:solidFill>
                  <a:srgbClr val="000000"/>
                </a:solidFill>
                <a:latin typeface="Cambria"/>
              </a:rPr>
              <a:t>- </a:t>
            </a:r>
            <a:r>
              <a:rPr b="1" i="1" lang="hr-HR" sz="2000" spc="-1" strike="noStrike">
                <a:solidFill>
                  <a:srgbClr val="000000"/>
                </a:solidFill>
                <a:latin typeface="Cambria"/>
              </a:rPr>
              <a:t>toplinska izolacija vanjske ovojn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000" spc="-1" strike="noStrike">
                <a:solidFill>
                  <a:srgbClr val="000000"/>
                </a:solidFill>
                <a:latin typeface="Cambria"/>
              </a:rPr>
              <a:t>- vanjska stolarija s energetski učinkovitim rješenj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Cambria"/>
              </a:rPr>
              <a:t>Proveden </a:t>
            </a:r>
            <a:r>
              <a:rPr b="1" i="1" lang="hr-HR" sz="2400" spc="-1" strike="noStrike" u="sng">
                <a:solidFill>
                  <a:srgbClr val="000000"/>
                </a:solidFill>
                <a:uFillTx/>
                <a:latin typeface="Cambria"/>
              </a:rPr>
              <a:t>1 Natječaj</a:t>
            </a:r>
            <a:r>
              <a:rPr b="1" lang="hr-HR" sz="2400" spc="-1" strike="noStrike">
                <a:solidFill>
                  <a:srgbClr val="000000"/>
                </a:solidFill>
                <a:latin typeface="Cambria"/>
              </a:rPr>
              <a:t> tijekom god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Cambria"/>
              </a:rPr>
              <a:t>Na natječaj pristiglo ukupno </a:t>
            </a:r>
            <a:r>
              <a:rPr b="1" i="1" lang="hr-HR" sz="2400" spc="-1" strike="noStrike" u="sng">
                <a:solidFill>
                  <a:srgbClr val="000000"/>
                </a:solidFill>
                <a:uFillTx/>
                <a:latin typeface="Cambria"/>
              </a:rPr>
              <a:t>177 prija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Cambria"/>
              </a:rPr>
              <a:t>Odobreno </a:t>
            </a:r>
            <a:r>
              <a:rPr b="1" i="1" lang="hr-HR" sz="2400" spc="-1" strike="noStrike" u="sng">
                <a:solidFill>
                  <a:srgbClr val="000000"/>
                </a:solidFill>
                <a:uFillTx/>
                <a:latin typeface="Cambria"/>
              </a:rPr>
              <a:t>60 prijava</a:t>
            </a:r>
            <a:r>
              <a:rPr b="1" lang="hr-HR" sz="2400" spc="-1" strike="noStrike">
                <a:solidFill>
                  <a:srgbClr val="000000"/>
                </a:solidFill>
                <a:latin typeface="Cambria"/>
              </a:rPr>
              <a:t> (30 stolarija, 30 fasad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Cambria"/>
              </a:rPr>
              <a:t>Realizirano </a:t>
            </a:r>
            <a:r>
              <a:rPr b="1" i="1" lang="hr-HR" sz="2400" spc="-1" strike="noStrike" u="sng">
                <a:solidFill>
                  <a:srgbClr val="000000"/>
                </a:solidFill>
                <a:uFillTx/>
                <a:latin typeface="Cambria"/>
              </a:rPr>
              <a:t>48 prijava </a:t>
            </a:r>
            <a:r>
              <a:rPr b="1" lang="hr-HR" sz="2400" spc="-1" strike="noStrike">
                <a:solidFill>
                  <a:srgbClr val="000000"/>
                </a:solidFill>
                <a:latin typeface="Cambria"/>
              </a:rPr>
              <a:t>(3 odustalo; 9 u obrad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Cambria"/>
              </a:rPr>
              <a:t>Realizirano (financijski) = </a:t>
            </a:r>
            <a:r>
              <a:rPr b="1" i="1" lang="hr-HR" sz="2400" spc="-1" strike="noStrike" u="sng">
                <a:solidFill>
                  <a:srgbClr val="000000"/>
                </a:solidFill>
                <a:uFillTx/>
                <a:latin typeface="Cambria"/>
              </a:rPr>
              <a:t>1.376.743,13 k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Cambria"/>
              </a:rPr>
              <a:t>1.214.633,93 kn - Fond za zaštitu okoliša i energetsku učinkovit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Cambria"/>
              </a:rPr>
              <a:t>81.054,60 kn - Župani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Cambria"/>
              </a:rPr>
              <a:t>81.054,60 kn - J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" descr="LOGO_ZAGORJE_HOR"/>
          <p:cNvPicPr/>
          <p:nvPr/>
        </p:nvPicPr>
        <p:blipFill>
          <a:blip r:embed="rId1"/>
          <a:stretch/>
        </p:blipFill>
        <p:spPr>
          <a:xfrm>
            <a:off x="7812000" y="5877000"/>
            <a:ext cx="133200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400" spc="-1" strike="noStrike">
                <a:solidFill>
                  <a:srgbClr val="000000"/>
                </a:solidFill>
                <a:latin typeface="Cambria"/>
              </a:rPr>
              <a:t>Sufinanciranje obnovljivih izvora energij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24000" y="1412640"/>
            <a:ext cx="84628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mbr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mbr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000" spc="-1" strike="noStrike">
                <a:solidFill>
                  <a:srgbClr val="000000"/>
                </a:solidFill>
                <a:latin typeface="Cambria"/>
              </a:rPr>
              <a:t>solarni kolektorski sustavi, fotonaponski otočni sustavi, kotlovi na pelete, pirolitički kotlovi, geotermalne dizalice top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Cambria"/>
              </a:rPr>
              <a:t>Provedena </a:t>
            </a:r>
            <a:r>
              <a:rPr b="1" i="1" lang="hr-HR" sz="2400" spc="-1" strike="noStrike" u="sng">
                <a:solidFill>
                  <a:srgbClr val="000000"/>
                </a:solidFill>
                <a:uFillTx/>
                <a:latin typeface="Cambria"/>
              </a:rPr>
              <a:t>3 Natječaja</a:t>
            </a:r>
            <a:r>
              <a:rPr b="1" lang="hr-HR" sz="2400" spc="-1" strike="noStrike">
                <a:solidFill>
                  <a:srgbClr val="000000"/>
                </a:solidFill>
                <a:latin typeface="Cambria"/>
              </a:rPr>
              <a:t> tijekom god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Cambria"/>
              </a:rPr>
              <a:t>Odobreno </a:t>
            </a:r>
            <a:r>
              <a:rPr b="1" i="1" lang="hr-HR" sz="2400" spc="-1" strike="noStrike" u="sng">
                <a:solidFill>
                  <a:srgbClr val="000000"/>
                </a:solidFill>
                <a:uFillTx/>
                <a:latin typeface="Cambria"/>
              </a:rPr>
              <a:t>106 prijava</a:t>
            </a:r>
            <a:r>
              <a:rPr b="1" lang="hr-HR" sz="24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Cambria"/>
              </a:rPr>
              <a:t>Realizirano </a:t>
            </a:r>
            <a:r>
              <a:rPr b="1" i="1" lang="hr-HR" sz="2400" spc="-1" strike="noStrike" u="sng">
                <a:solidFill>
                  <a:srgbClr val="000000"/>
                </a:solidFill>
                <a:uFillTx/>
                <a:latin typeface="Cambria"/>
              </a:rPr>
              <a:t>71 prijava </a:t>
            </a:r>
            <a:r>
              <a:rPr b="1" lang="hr-HR" sz="2400" spc="-1" strike="noStrike">
                <a:solidFill>
                  <a:srgbClr val="000000"/>
                </a:solidFill>
                <a:latin typeface="Cambria"/>
              </a:rPr>
              <a:t>(obrada 3. Natječaja u tijeku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Cambria"/>
              </a:rPr>
              <a:t>Realizirano (financijski) = </a:t>
            </a:r>
            <a:r>
              <a:rPr b="1" i="1" lang="hr-HR" sz="2400" spc="-1" strike="noStrike" u="sng">
                <a:solidFill>
                  <a:srgbClr val="000000"/>
                </a:solidFill>
                <a:uFillTx/>
                <a:latin typeface="Cambria"/>
              </a:rPr>
              <a:t>1.182.737,50 k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Cambria"/>
              </a:rPr>
              <a:t>836.681,42 kn - Fond za zaštitu okoliša i energetsku učinkovit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Cambria"/>
              </a:rPr>
              <a:t>173.028,04 kn- Župani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Cambria"/>
              </a:rPr>
              <a:t>173.028,04 kn- J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5" descr="LOGO_ZAGORJE_HOR"/>
          <p:cNvPicPr/>
          <p:nvPr/>
        </p:nvPicPr>
        <p:blipFill>
          <a:blip r:embed="rId1"/>
          <a:stretch/>
        </p:blipFill>
        <p:spPr>
          <a:xfrm>
            <a:off x="7812000" y="5877000"/>
            <a:ext cx="133200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237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000000"/>
                </a:solidFill>
                <a:latin typeface="Cambria"/>
              </a:rPr>
              <a:t>POTPORE  U   POLJOPRIVREDI</a:t>
            </a:r>
            <a:br>
              <a:rPr sz="4400"/>
            </a:br>
            <a:r>
              <a:rPr b="1" lang="hr-HR" sz="4400" spc="-1" strike="noStrike">
                <a:solidFill>
                  <a:srgbClr val="000000"/>
                </a:solidFill>
                <a:latin typeface="Cambria"/>
              </a:rPr>
              <a:t>  2013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5" descr="LOGO_ZAGORJE_HOR"/>
          <p:cNvPicPr/>
          <p:nvPr/>
        </p:nvPicPr>
        <p:blipFill>
          <a:blip r:embed="rId1"/>
          <a:stretch/>
        </p:blipFill>
        <p:spPr>
          <a:xfrm>
            <a:off x="7093080" y="5275440"/>
            <a:ext cx="2050920" cy="15825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C:\Documents and Settings\DrazenkaG\Desktop\Poljoprivreda 2013\Izložba meda\KZZ_Grb_Transparent-smanjen-sa-natpisom.png"/>
          <p:cNvPicPr/>
          <p:nvPr/>
        </p:nvPicPr>
        <p:blipFill>
          <a:blip r:embed="rId2"/>
          <a:stretch/>
        </p:blipFill>
        <p:spPr>
          <a:xfrm>
            <a:off x="3780000" y="189000"/>
            <a:ext cx="1655640" cy="14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Cambria"/>
              </a:rPr>
              <a:t>Uv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mbria"/>
              </a:rPr>
              <a:t>Krapinsko-zagorska županija potiče poljoprivrednu proizvodnju putem mjera ruralnog razvoja koje su donesene Strategijom ruralnog razvoja KZŽ 2011.-2013.(11 mjera),  sufinanciranjem projekata u poljoprivredi, dodjelom potpora za razvoj lovstva, šumarstva i konjogojstva,  it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5" descr="LOGO_ZAGORJE_HOR"/>
          <p:cNvPicPr/>
          <p:nvPr/>
        </p:nvPicPr>
        <p:blipFill>
          <a:blip r:embed="rId1"/>
          <a:stretch/>
        </p:blipFill>
        <p:spPr>
          <a:xfrm>
            <a:off x="7093080" y="5275440"/>
            <a:ext cx="2050920" cy="158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57200" y="141264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mbria"/>
              </a:rPr>
              <a:t>UO za gospodarstvo, poljoprivredu, promet, komunalnu infrastrukturu i EU fondove čine 4 područj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mbria"/>
              </a:rPr>
              <a:t>Gospodarst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mbria"/>
              </a:rPr>
              <a:t>Poljoprivre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mbria"/>
              </a:rPr>
              <a:t>Promet i komunalna infrastruktu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mbria"/>
              </a:rPr>
              <a:t>EU fondov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" descr="LOGO_ZAGORJE_HOR"/>
          <p:cNvPicPr/>
          <p:nvPr/>
        </p:nvPicPr>
        <p:blipFill>
          <a:blip r:embed="rId1"/>
          <a:stretch/>
        </p:blipFill>
        <p:spPr>
          <a:xfrm>
            <a:off x="7093080" y="5275440"/>
            <a:ext cx="2050920" cy="158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457200" y="549360"/>
            <a:ext cx="8229600" cy="57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 u="sng">
                <a:solidFill>
                  <a:srgbClr val="000000"/>
                </a:solidFill>
                <a:uFillTx/>
                <a:latin typeface="Cambria"/>
              </a:rPr>
              <a:t>U 2013. godini prema aktivnostima iz područja poljoprivrede ukupno je realizirano- </a:t>
            </a:r>
            <a:r>
              <a:rPr b="1" i="1" lang="hr-HR" sz="3600" spc="-1" strike="noStrike" u="sng">
                <a:solidFill>
                  <a:srgbClr val="000000"/>
                </a:solidFill>
                <a:uFillTx/>
                <a:latin typeface="Cambria"/>
              </a:rPr>
              <a:t>3.248.433,02 ku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mbria"/>
              </a:rPr>
              <a:t>Mjere ruralnog razvoja- </a:t>
            </a:r>
            <a:r>
              <a:rPr b="0" lang="hr-HR" sz="2400" spc="-1" strike="noStrike">
                <a:solidFill>
                  <a:srgbClr val="000000"/>
                </a:solidFill>
                <a:latin typeface="Cambria"/>
              </a:rPr>
              <a:t>2.149.603,80 ku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mbria"/>
              </a:rPr>
              <a:t>Tekući projekti u poljoprivredi-</a:t>
            </a:r>
            <a:r>
              <a:rPr b="1" i="1" lang="hr-HR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Cambria"/>
              </a:rPr>
              <a:t>331.250,00 ku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mbria"/>
              </a:rPr>
              <a:t>Lovstvo, šumarstvo i konjogojstvo- </a:t>
            </a:r>
            <a:r>
              <a:rPr b="0" lang="hr-HR" sz="2400" spc="-1" strike="noStrike">
                <a:solidFill>
                  <a:srgbClr val="000000"/>
                </a:solidFill>
                <a:latin typeface="Cambria"/>
              </a:rPr>
              <a:t>257.990,00 ku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mbria"/>
              </a:rPr>
              <a:t>Tekuće donacije-</a:t>
            </a:r>
            <a:r>
              <a:rPr b="1" lang="hr-HR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Cambria"/>
              </a:rPr>
              <a:t>340.088,79 ku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mbria"/>
              </a:rPr>
              <a:t>Otplata kamata i subvencioniranje kamata-</a:t>
            </a:r>
            <a:r>
              <a:rPr b="1" lang="hr-HR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Cambria"/>
              </a:rPr>
              <a:t>159.524,78 ku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mbria"/>
              </a:rPr>
              <a:t>Elementarne nepogode i donacije-</a:t>
            </a:r>
            <a:r>
              <a:rPr b="1" lang="hr-HR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Cambria"/>
              </a:rPr>
              <a:t>9.975,65 ku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5" descr="LOGO_ZAGORJE_HOR"/>
          <p:cNvPicPr/>
          <p:nvPr/>
        </p:nvPicPr>
        <p:blipFill>
          <a:blip r:embed="rId1"/>
          <a:stretch/>
        </p:blipFill>
        <p:spPr>
          <a:xfrm>
            <a:off x="7524720" y="5589720"/>
            <a:ext cx="1619280" cy="126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70920"/>
            <a:ext cx="8229600" cy="114300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Cambria"/>
              </a:rPr>
              <a:t>Mjere ruralnog razvoj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5" descr="LOGO_ZAGORJE_HOR"/>
          <p:cNvPicPr/>
          <p:nvPr/>
        </p:nvPicPr>
        <p:blipFill>
          <a:blip r:embed="rId1"/>
          <a:stretch/>
        </p:blipFill>
        <p:spPr>
          <a:xfrm>
            <a:off x="7812000" y="5877000"/>
            <a:ext cx="1332000" cy="9810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 txBox="1"/>
          <p:nvPr/>
        </p:nvSpPr>
        <p:spPr>
          <a:xfrm>
            <a:off x="539640" y="1125360"/>
            <a:ext cx="77868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 u="sng">
                <a:solidFill>
                  <a:srgbClr val="000000"/>
                </a:solidFill>
                <a:uFillTx/>
                <a:latin typeface="Cambria"/>
              </a:rPr>
              <a:t>Edukacija za korisnike mjera ruralnog razvo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mbria"/>
              </a:rPr>
              <a:t>Realizirana sredstva: </a:t>
            </a:r>
            <a:r>
              <a:rPr b="0" lang="hr-HR" sz="2000" spc="-1" strike="noStrike" u="sng">
                <a:solidFill>
                  <a:srgbClr val="000000"/>
                </a:solidFill>
                <a:uFillTx/>
                <a:latin typeface="Cambria"/>
              </a:rPr>
              <a:t>171.744,89 kuna za 48 korisni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 u="sng">
                <a:solidFill>
                  <a:srgbClr val="000000"/>
                </a:solidFill>
                <a:uFillTx/>
                <a:latin typeface="Cambria"/>
              </a:rPr>
              <a:t>Potpora za pripremu projek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mbria"/>
              </a:rPr>
              <a:t>Realizirana sredstva: </a:t>
            </a:r>
            <a:r>
              <a:rPr b="0" lang="hr-HR" sz="2000" spc="-1" strike="noStrike" u="sng">
                <a:solidFill>
                  <a:srgbClr val="000000"/>
                </a:solidFill>
                <a:uFillTx/>
                <a:latin typeface="Cambria"/>
              </a:rPr>
              <a:t>103.700,00 kuna za 4 korisni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70920"/>
            <a:ext cx="8229600" cy="114300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Cambria"/>
              </a:rPr>
              <a:t>Mjere ruralnog razvoj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5" descr="LOGO_ZAGORJE_HOR"/>
          <p:cNvPicPr/>
          <p:nvPr/>
        </p:nvPicPr>
        <p:blipFill>
          <a:blip r:embed="rId1"/>
          <a:stretch/>
        </p:blipFill>
        <p:spPr>
          <a:xfrm>
            <a:off x="7812000" y="5877000"/>
            <a:ext cx="1332000" cy="9810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 txBox="1"/>
          <p:nvPr/>
        </p:nvSpPr>
        <p:spPr>
          <a:xfrm>
            <a:off x="539640" y="1196640"/>
            <a:ext cx="77868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 u="sng">
                <a:solidFill>
                  <a:srgbClr val="000000"/>
                </a:solidFill>
                <a:uFillTx/>
                <a:latin typeface="Cambria"/>
              </a:rPr>
              <a:t>Poticanje promocije tradicionalnih poljoprivredno-šumskih prehrambenih proizvoda i jela tradicionalne zagorske kuhin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mbria"/>
              </a:rPr>
              <a:t>Realizirana sredstva: </a:t>
            </a:r>
            <a:r>
              <a:rPr b="0" lang="hr-HR" sz="2000" spc="-1" strike="noStrike" u="sng">
                <a:solidFill>
                  <a:srgbClr val="000000"/>
                </a:solidFill>
                <a:uFillTx/>
                <a:latin typeface="Cambria"/>
              </a:rPr>
              <a:t>114.060,00 kuna za 5 korisni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 u="sng">
                <a:solidFill>
                  <a:srgbClr val="000000"/>
                </a:solidFill>
                <a:uFillTx/>
                <a:latin typeface="Cambria"/>
              </a:rPr>
              <a:t>Potpora samoopskrbnim gospodarstvima koja proizvode za vlastite potrebe i tržiš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mbria"/>
              </a:rPr>
              <a:t>Realizirana sredstva: </a:t>
            </a:r>
            <a:r>
              <a:rPr b="0" lang="hr-HR" sz="2000" spc="-1" strike="noStrike" u="sng">
                <a:solidFill>
                  <a:srgbClr val="000000"/>
                </a:solidFill>
                <a:uFillTx/>
                <a:latin typeface="Cambria"/>
              </a:rPr>
              <a:t>280.406,50 kuna za 89 korisni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70920"/>
            <a:ext cx="8229600" cy="114300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Cambria"/>
              </a:rPr>
              <a:t>Mjere ruralnog razvoj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5" descr="LOGO_ZAGORJE_HOR"/>
          <p:cNvPicPr/>
          <p:nvPr/>
        </p:nvPicPr>
        <p:blipFill>
          <a:blip r:embed="rId1"/>
          <a:stretch/>
        </p:blipFill>
        <p:spPr>
          <a:xfrm>
            <a:off x="7812000" y="5877000"/>
            <a:ext cx="1332000" cy="9810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 txBox="1"/>
          <p:nvPr/>
        </p:nvSpPr>
        <p:spPr>
          <a:xfrm>
            <a:off x="539640" y="1196640"/>
            <a:ext cx="77868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 u="sng">
                <a:solidFill>
                  <a:srgbClr val="000000"/>
                </a:solidFill>
                <a:uFillTx/>
                <a:latin typeface="Cambria"/>
              </a:rPr>
              <a:t>Poticanje razvoja turističkih djelatn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mbria"/>
              </a:rPr>
              <a:t>Realizirana sredstva: </a:t>
            </a:r>
            <a:r>
              <a:rPr b="0" lang="hr-HR" sz="2000" spc="-1" strike="noStrike" u="sng">
                <a:solidFill>
                  <a:srgbClr val="000000"/>
                </a:solidFill>
                <a:uFillTx/>
                <a:latin typeface="Cambria"/>
              </a:rPr>
              <a:t>252.269,44 kune za 7 korisni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 u="sng">
                <a:solidFill>
                  <a:srgbClr val="000000"/>
                </a:solidFill>
                <a:uFillTx/>
                <a:latin typeface="Cambria"/>
              </a:rPr>
              <a:t>Poticanje i promicanje integrirane i ekološke poljoprivredne proizvodn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mbria"/>
              </a:rPr>
              <a:t>Realizirana sredstva: </a:t>
            </a:r>
            <a:r>
              <a:rPr b="0" lang="hr-HR" sz="2000" spc="-1" strike="noStrike" u="sng">
                <a:solidFill>
                  <a:srgbClr val="000000"/>
                </a:solidFill>
                <a:uFillTx/>
                <a:latin typeface="Cambria"/>
              </a:rPr>
              <a:t>41.270,52 kune za 21 korisni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 u="sng">
                <a:solidFill>
                  <a:srgbClr val="000000"/>
                </a:solidFill>
                <a:uFillTx/>
                <a:latin typeface="Cambria"/>
              </a:rPr>
              <a:t>Potpora za unapređenje rada udruga u poljoprivred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mbria"/>
              </a:rPr>
              <a:t>Realizirana sredstva: </a:t>
            </a:r>
            <a:r>
              <a:rPr b="0" lang="hr-HR" sz="2000" spc="-1" strike="noStrike" u="sng">
                <a:solidFill>
                  <a:srgbClr val="000000"/>
                </a:solidFill>
                <a:uFillTx/>
                <a:latin typeface="Cambria"/>
              </a:rPr>
              <a:t>116.000,00 kuna za 8 korisni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 u="sng">
                <a:solidFill>
                  <a:srgbClr val="000000"/>
                </a:solidFill>
                <a:uFillTx/>
                <a:latin typeface="Cambria"/>
              </a:rPr>
              <a:t>Očuvanje i unapređenje kulturnog nasljeđa, seoskih običaja i manifestaci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mbria"/>
              </a:rPr>
              <a:t>Realizirana sredstva: </a:t>
            </a:r>
            <a:r>
              <a:rPr b="0" lang="hr-HR" sz="2000" spc="-1" strike="noStrike" u="sng">
                <a:solidFill>
                  <a:srgbClr val="000000"/>
                </a:solidFill>
                <a:uFillTx/>
                <a:latin typeface="Cambria"/>
              </a:rPr>
              <a:t>418.370,33 kn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Cambria"/>
              </a:rPr>
              <a:t>3. Izložba bučinog ulja Sjeverozapadne Hrvatske- 05.04.2013., Zab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Cambria"/>
              </a:rPr>
              <a:t>7. Babičini kolači- 13.04.2013., Klanje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Cambria"/>
              </a:rPr>
              <a:t>11. Natjecanje orača- 04.05.2013., Zlatar Bistr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Cambria"/>
              </a:rPr>
              <a:t>13. Izložba stoke i  15. Izložba konja- 01.06.2013., Zla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Cambria"/>
              </a:rPr>
              <a:t>100% ZAGORSKO- 20. i 21.09.2013., Zagre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Cambria"/>
              </a:rPr>
              <a:t>Okusi i mirisi Hrvatske- 15.-17.11.2013., Zagre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Cambria"/>
              </a:rPr>
              <a:t>12. Ocjenjivanje i izložba meda- 30.11.2013., Pregr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Cambria"/>
              </a:rPr>
              <a:t>Mjere ruralnog razvoj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5" descr="LOGO_ZAGORJE_HOR"/>
          <p:cNvPicPr/>
          <p:nvPr/>
        </p:nvPicPr>
        <p:blipFill>
          <a:blip r:embed="rId1"/>
          <a:stretch/>
        </p:blipFill>
        <p:spPr>
          <a:xfrm>
            <a:off x="7812000" y="5877000"/>
            <a:ext cx="133200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000000"/>
                </a:solidFill>
                <a:latin typeface="Cambria"/>
              </a:rPr>
              <a:t>100% ZAGORSK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mbria"/>
              </a:rPr>
              <a:t>20. i 21.09.2013., Trg bana Josipa Jelačić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mbria"/>
              </a:rPr>
              <a:t>85 izlagač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mbria"/>
              </a:rPr>
              <a:t>preko 350 izvođač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mbria"/>
              </a:rPr>
              <a:t>Realizirana sredstva: </a:t>
            </a:r>
            <a:r>
              <a:rPr b="0" lang="hr-HR" sz="3200" spc="-1" strike="noStrike" u="sng">
                <a:solidFill>
                  <a:srgbClr val="000000"/>
                </a:solidFill>
                <a:uFillTx/>
                <a:latin typeface="Cambria"/>
              </a:rPr>
              <a:t>114.224,54 ku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5" descr="LOGO_ZAGORJE_HOR"/>
          <p:cNvPicPr/>
          <p:nvPr/>
        </p:nvPicPr>
        <p:blipFill>
          <a:blip r:embed="rId1"/>
          <a:stretch/>
        </p:blipFill>
        <p:spPr>
          <a:xfrm>
            <a:off x="7596360" y="5589720"/>
            <a:ext cx="1547640" cy="126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70920"/>
            <a:ext cx="8229600" cy="114300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Cambria"/>
              </a:rPr>
              <a:t>Mjere ruralnog razvoj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5" descr="LOGO_ZAGORJE_HOR"/>
          <p:cNvPicPr/>
          <p:nvPr/>
        </p:nvPicPr>
        <p:blipFill>
          <a:blip r:embed="rId1"/>
          <a:stretch/>
        </p:blipFill>
        <p:spPr>
          <a:xfrm>
            <a:off x="7812000" y="5877000"/>
            <a:ext cx="1332000" cy="9810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 txBox="1"/>
          <p:nvPr/>
        </p:nvSpPr>
        <p:spPr>
          <a:xfrm>
            <a:off x="539640" y="1196640"/>
            <a:ext cx="77868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 u="sng">
                <a:solidFill>
                  <a:srgbClr val="000000"/>
                </a:solidFill>
                <a:uFillTx/>
                <a:latin typeface="Cambria"/>
              </a:rPr>
              <a:t>Potpora za jačanje strojnih prstenova na području KZ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Cambria"/>
              </a:rPr>
              <a:t>Realizirana sredstva: </a:t>
            </a:r>
            <a:r>
              <a:rPr b="0" lang="hr-HR" sz="1800" spc="-1" strike="noStrike" u="sng">
                <a:solidFill>
                  <a:srgbClr val="000000"/>
                </a:solidFill>
                <a:uFillTx/>
                <a:latin typeface="Cambria"/>
              </a:rPr>
              <a:t>18.782,30 kuna za 1 korisni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 u="sng">
                <a:solidFill>
                  <a:srgbClr val="000000"/>
                </a:solidFill>
                <a:uFillTx/>
                <a:latin typeface="Cambria"/>
              </a:rPr>
              <a:t>Potpora za investicijska ulaganja u poljoprivred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Cambria"/>
              </a:rPr>
              <a:t>Realizirana sredstva: </a:t>
            </a:r>
            <a:r>
              <a:rPr b="0" lang="hr-HR" sz="1800" spc="-1" strike="noStrike" u="sng">
                <a:solidFill>
                  <a:srgbClr val="000000"/>
                </a:solidFill>
                <a:uFillTx/>
                <a:latin typeface="Cambria"/>
              </a:rPr>
              <a:t>613.000,00 kuna za 20 korisni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 u="sng">
                <a:solidFill>
                  <a:srgbClr val="000000"/>
                </a:solidFill>
                <a:uFillTx/>
                <a:latin typeface="Cambria"/>
              </a:rPr>
              <a:t>Revitalizacija i valorizacija prirodno i krajobrazno vrijednih područ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Cambria"/>
              </a:rPr>
              <a:t>Realizirana sredstva: </a:t>
            </a:r>
            <a:r>
              <a:rPr b="0" lang="hr-HR" sz="1800" spc="-1" strike="noStrike" u="sng">
                <a:solidFill>
                  <a:srgbClr val="000000"/>
                </a:solidFill>
                <a:uFillTx/>
                <a:latin typeface="Cambria"/>
              </a:rPr>
              <a:t>20.000,00 ku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1800" spc="-1" strike="noStrike">
                <a:solidFill>
                  <a:srgbClr val="000000"/>
                </a:solidFill>
                <a:latin typeface="Cambria"/>
              </a:rPr>
              <a:t>Za mjere ruralnog razvoja ukupno je realizirano: 2.149.603,80 ku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mbria"/>
              </a:rPr>
              <a:t>Tekući projekti u poljoprivred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 u="sng">
                <a:solidFill>
                  <a:srgbClr val="000000"/>
                </a:solidFill>
                <a:uFillTx/>
                <a:latin typeface="Cambria"/>
              </a:rPr>
              <a:t>Suvremene tehnologije uzgoja trešan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mbria"/>
              </a:rPr>
              <a:t>Realizirana sredstva: 10.000,00 ku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 u="sng">
                <a:solidFill>
                  <a:srgbClr val="000000"/>
                </a:solidFill>
                <a:uFillTx/>
                <a:latin typeface="Cambria"/>
              </a:rPr>
              <a:t>Zaštita i revitalizacija autohtonih sorti vinove lo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mbria"/>
              </a:rPr>
              <a:t>Realizirana sredstva: 83.750,00 ku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 u="sng">
                <a:solidFill>
                  <a:srgbClr val="000000"/>
                </a:solidFill>
                <a:uFillTx/>
                <a:latin typeface="Cambria"/>
              </a:rPr>
              <a:t>Uvođenje integrirane proizvodnje voća u KZ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mbria"/>
              </a:rPr>
              <a:t>Realizirana sredstva: 80.000,00 ku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 u="sng">
                <a:solidFill>
                  <a:srgbClr val="000000"/>
                </a:solidFill>
                <a:uFillTx/>
                <a:latin typeface="Cambria"/>
              </a:rPr>
              <a:t>Reprodukcija i uzgoj zagorskog purana na OPG-i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mbria"/>
              </a:rPr>
              <a:t>Realizirana sredstva: 7.500,00 ku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 u="sng">
                <a:solidFill>
                  <a:srgbClr val="000000"/>
                </a:solidFill>
                <a:uFillTx/>
                <a:latin typeface="Cambria"/>
              </a:rPr>
              <a:t>DHMZ-obrana od tuč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mbria"/>
              </a:rPr>
              <a:t>Realizirana sredstva: 150.000,00 ku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1800" spc="-1" strike="noStrike">
                <a:solidFill>
                  <a:srgbClr val="000000"/>
                </a:solidFill>
                <a:latin typeface="Cambria"/>
              </a:rPr>
              <a:t>Za tekuće projekte ukupno je realizirano 331.250,00 ku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5" descr="LOGO_ZAGORJE_HOR"/>
          <p:cNvPicPr/>
          <p:nvPr/>
        </p:nvPicPr>
        <p:blipFill>
          <a:blip r:embed="rId1"/>
          <a:stretch/>
        </p:blipFill>
        <p:spPr>
          <a:xfrm>
            <a:off x="7596360" y="5589720"/>
            <a:ext cx="1547640" cy="126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468360" y="1341000"/>
            <a:ext cx="822960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 u="sng">
                <a:solidFill>
                  <a:srgbClr val="000000"/>
                </a:solidFill>
                <a:uFillTx/>
                <a:latin typeface="Cambria"/>
              </a:rPr>
              <a:t>Razvoj lovst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mbria"/>
              </a:rPr>
              <a:t>Realizirana sredstva: 117.990,00 ku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 u="sng">
                <a:solidFill>
                  <a:srgbClr val="000000"/>
                </a:solidFill>
                <a:uFillTx/>
                <a:latin typeface="Cambria"/>
              </a:rPr>
              <a:t>Razvoj konjogojst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mbria"/>
              </a:rPr>
              <a:t>Realizirana sredstva: 70.000,00 ku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 u="sng">
                <a:solidFill>
                  <a:srgbClr val="000000"/>
                </a:solidFill>
                <a:uFillTx/>
                <a:latin typeface="Cambria"/>
              </a:rPr>
              <a:t>Osnivanje skloništa za životinj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mbria"/>
              </a:rPr>
              <a:t>Realizirana sredstva: 70.000,00 ku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400" spc="-1" strike="noStrike">
                <a:solidFill>
                  <a:srgbClr val="000000"/>
                </a:solidFill>
                <a:latin typeface="Cambria"/>
              </a:rPr>
              <a:t>Za razvoj lovstva, šumarstva i konjogojstva ukupno je realizirano 257.990,00 ku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5" descr="LOGO_ZAGORJE_HOR"/>
          <p:cNvPicPr/>
          <p:nvPr/>
        </p:nvPicPr>
        <p:blipFill>
          <a:blip r:embed="rId1"/>
          <a:stretch/>
        </p:blipFill>
        <p:spPr>
          <a:xfrm>
            <a:off x="7093080" y="5275440"/>
            <a:ext cx="2050920" cy="1582560"/>
          </a:xfrm>
          <a:prstGeom prst="rect">
            <a:avLst/>
          </a:prstGeom>
          <a:ln w="0">
            <a:noFill/>
          </a:ln>
        </p:spPr>
      </p:pic>
      <p:sp>
        <p:nvSpPr>
          <p:cNvPr id="130" name="TextBox 3"/>
          <p:cNvSpPr/>
          <p:nvPr/>
        </p:nvSpPr>
        <p:spPr>
          <a:xfrm>
            <a:off x="684360" y="404640"/>
            <a:ext cx="7632720" cy="64260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Cambria"/>
              </a:rPr>
              <a:t>Lovstvo, šumarstvo i konjogojstv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468360" y="1341000"/>
            <a:ext cx="822960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 u="sng">
                <a:solidFill>
                  <a:srgbClr val="000000"/>
                </a:solidFill>
                <a:uFillTx/>
                <a:latin typeface="Cambria"/>
              </a:rPr>
              <a:t>Financiranje rada Saveza udruga u poljoprivredi Krapinsko-zagorske župani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mbria"/>
              </a:rPr>
              <a:t>Realizirana sredstva: 180.455,14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000" spc="-1" strike="noStrike">
                <a:solidFill>
                  <a:srgbClr val="000000"/>
                </a:solidFill>
                <a:latin typeface="Cambria"/>
              </a:rPr>
              <a:t>ku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 u="sng">
                <a:solidFill>
                  <a:srgbClr val="000000"/>
                </a:solidFill>
                <a:uFillTx/>
                <a:latin typeface="Cambria"/>
              </a:rPr>
              <a:t>Financiranje rada PZ “Puran zagorskih brega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8002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mbria"/>
              </a:rPr>
              <a:t>Realizirana sredstva: 145.033,65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000" spc="-1" strike="noStrike">
                <a:solidFill>
                  <a:srgbClr val="000000"/>
                </a:solidFill>
                <a:latin typeface="Cambria"/>
              </a:rPr>
              <a:t>ku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8002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 u="sng">
                <a:solidFill>
                  <a:srgbClr val="000000"/>
                </a:solidFill>
                <a:uFillTx/>
                <a:latin typeface="Cambria"/>
              </a:rPr>
              <a:t>Oprost duga za jun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8002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mbria"/>
              </a:rPr>
              <a:t>Realizirana sredstva: 14.600,00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000" spc="-1" strike="noStrike">
                <a:solidFill>
                  <a:srgbClr val="000000"/>
                </a:solidFill>
                <a:latin typeface="Cambria"/>
              </a:rPr>
              <a:t>ku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8002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8002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Cambria"/>
              </a:rPr>
              <a:t>Za tekuće donacije ukupno je realizirano 340.088,79 ku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5" descr="LOGO_ZAGORJE_HOR"/>
          <p:cNvPicPr/>
          <p:nvPr/>
        </p:nvPicPr>
        <p:blipFill>
          <a:blip r:embed="rId1"/>
          <a:stretch/>
        </p:blipFill>
        <p:spPr>
          <a:xfrm>
            <a:off x="7093080" y="5275440"/>
            <a:ext cx="2050920" cy="1582560"/>
          </a:xfrm>
          <a:prstGeom prst="rect">
            <a:avLst/>
          </a:prstGeom>
          <a:ln w="0">
            <a:noFill/>
          </a:ln>
        </p:spPr>
      </p:pic>
      <p:sp>
        <p:nvSpPr>
          <p:cNvPr id="133" name="TextBox 3"/>
          <p:cNvSpPr/>
          <p:nvPr/>
        </p:nvSpPr>
        <p:spPr>
          <a:xfrm>
            <a:off x="684360" y="404640"/>
            <a:ext cx="7632720" cy="76428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Cambria"/>
              </a:rPr>
              <a:t>Tekuće donaci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23640" y="1844280"/>
            <a:ext cx="8094600" cy="2746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hr-HR" sz="4400" spc="-1" strike="noStrike">
                <a:solidFill>
                  <a:srgbClr val="000000"/>
                </a:solidFill>
                <a:latin typeface="Cambria"/>
              </a:rPr>
              <a:t>POTPORE U GOSPODARSTVU  </a:t>
            </a:r>
            <a:br>
              <a:rPr sz="4400"/>
            </a:br>
            <a:r>
              <a:rPr b="1" lang="hr-HR" sz="4200" spc="-1" strike="noStrike">
                <a:solidFill>
                  <a:srgbClr val="000000"/>
                </a:solidFill>
                <a:latin typeface="Cambria"/>
              </a:rPr>
              <a:t>2013. </a:t>
            </a:r>
            <a:br>
              <a:rPr sz="4200"/>
            </a:b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LOGO_ZAGORJE_HOR"/>
          <p:cNvPicPr/>
          <p:nvPr/>
        </p:nvPicPr>
        <p:blipFill>
          <a:blip r:embed="rId1"/>
          <a:stretch/>
        </p:blipFill>
        <p:spPr>
          <a:xfrm>
            <a:off x="7093080" y="5275440"/>
            <a:ext cx="2050920" cy="15825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" descr="C:\Documents and Settings\DrazenkaG\Desktop\Poljoprivreda 2013\Izložba meda\KZZ_Grb_Transparent-smanjen-sa-natpisom.png"/>
          <p:cNvPicPr/>
          <p:nvPr/>
        </p:nvPicPr>
        <p:blipFill>
          <a:blip r:embed="rId2"/>
          <a:stretch/>
        </p:blipFill>
        <p:spPr>
          <a:xfrm>
            <a:off x="3643200" y="214200"/>
            <a:ext cx="165600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468360" y="1341000"/>
            <a:ext cx="822960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 u="sng">
                <a:solidFill>
                  <a:srgbClr val="000000"/>
                </a:solidFill>
                <a:uFillTx/>
                <a:latin typeface="Cambria"/>
              </a:rPr>
              <a:t>Otplata kamate-Ministarstvo poljoprivre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3326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mbria"/>
              </a:rPr>
              <a:t>Realizirana sredstva: 224,96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000" spc="-1" strike="noStrike">
                <a:solidFill>
                  <a:srgbClr val="000000"/>
                </a:solidFill>
                <a:latin typeface="Cambria"/>
              </a:rPr>
              <a:t>ku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 u="sng">
                <a:solidFill>
                  <a:srgbClr val="000000"/>
                </a:solidFill>
                <a:uFillTx/>
                <a:latin typeface="Cambria"/>
              </a:rPr>
              <a:t>Ostali financijski rashodi-naknada PB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776160" indent="-3326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mbria"/>
              </a:rPr>
              <a:t>Realizirana sredstva: 64.570,99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000" spc="-1" strike="noStrike">
                <a:solidFill>
                  <a:srgbClr val="000000"/>
                </a:solidFill>
                <a:latin typeface="Cambria"/>
              </a:rPr>
              <a:t>ku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776160" indent="-33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 u="sng">
                <a:solidFill>
                  <a:srgbClr val="000000"/>
                </a:solidFill>
                <a:uFillTx/>
                <a:latin typeface="Cambria"/>
              </a:rPr>
              <a:t>Subvencioniranje kamata u poljoprivred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776160" indent="-3326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mbria"/>
              </a:rPr>
              <a:t>Realizirana sredstva: 44.559,94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000" spc="-1" strike="noStrike">
                <a:solidFill>
                  <a:srgbClr val="000000"/>
                </a:solidFill>
                <a:latin typeface="Cambria"/>
              </a:rPr>
              <a:t>ku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776160" indent="-33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 u="sng">
                <a:solidFill>
                  <a:srgbClr val="000000"/>
                </a:solidFill>
                <a:uFillTx/>
                <a:latin typeface="Cambria"/>
              </a:rPr>
              <a:t>Subvencioniranje kamata u agroturiz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776160" indent="-3326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mbria"/>
              </a:rPr>
              <a:t>Realizirana sredstva: 34.999,71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000" spc="-1" strike="noStrike">
                <a:solidFill>
                  <a:srgbClr val="000000"/>
                </a:solidFill>
                <a:latin typeface="Cambria"/>
              </a:rPr>
              <a:t>ku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77616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776160" indent="-33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Cambria"/>
              </a:rPr>
              <a:t>Za otplatu kredita i subvencioniranje kamata ukupno je realizirano 159.524,78 ku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5" descr="LOGO_ZAGORJE_HOR"/>
          <p:cNvPicPr/>
          <p:nvPr/>
        </p:nvPicPr>
        <p:blipFill>
          <a:blip r:embed="rId1"/>
          <a:stretch/>
        </p:blipFill>
        <p:spPr>
          <a:xfrm>
            <a:off x="7380360" y="5445000"/>
            <a:ext cx="1763640" cy="1413000"/>
          </a:xfrm>
          <a:prstGeom prst="rect">
            <a:avLst/>
          </a:prstGeom>
          <a:ln w="0">
            <a:noFill/>
          </a:ln>
        </p:spPr>
      </p:pic>
      <p:sp>
        <p:nvSpPr>
          <p:cNvPr id="136" name="TextBox 3"/>
          <p:cNvSpPr/>
          <p:nvPr/>
        </p:nvSpPr>
        <p:spPr>
          <a:xfrm>
            <a:off x="684360" y="404640"/>
            <a:ext cx="7632720" cy="58140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mbria"/>
              </a:rPr>
              <a:t>Otplata kredita i subvencioniranje kamat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468360" y="1341000"/>
            <a:ext cx="822960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 u="sng">
                <a:solidFill>
                  <a:srgbClr val="000000"/>
                </a:solidFill>
                <a:uFillTx/>
                <a:latin typeface="Cambria"/>
              </a:rPr>
              <a:t>Donacije- Dan zagorskog mlije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mbria"/>
              </a:rPr>
              <a:t>Realizirana sredstva: 9.975,65 ku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Cambria"/>
              </a:rPr>
              <a:t>Za donacije ukupno je realizirano 9.975,65 ku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5" descr="LOGO_ZAGORJE_HOR"/>
          <p:cNvPicPr/>
          <p:nvPr/>
        </p:nvPicPr>
        <p:blipFill>
          <a:blip r:embed="rId1"/>
          <a:stretch/>
        </p:blipFill>
        <p:spPr>
          <a:xfrm>
            <a:off x="7093080" y="5275440"/>
            <a:ext cx="2050920" cy="1582560"/>
          </a:xfrm>
          <a:prstGeom prst="rect">
            <a:avLst/>
          </a:prstGeom>
          <a:ln w="0">
            <a:noFill/>
          </a:ln>
        </p:spPr>
      </p:pic>
      <p:sp>
        <p:nvSpPr>
          <p:cNvPr id="139" name="TextBox 3"/>
          <p:cNvSpPr/>
          <p:nvPr/>
        </p:nvSpPr>
        <p:spPr>
          <a:xfrm>
            <a:off x="684360" y="404640"/>
            <a:ext cx="7632720" cy="58140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mbria"/>
              </a:rPr>
              <a:t>Elementarne nepogode i donaci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1989000"/>
            <a:ext cx="7772400" cy="24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000000"/>
                </a:solidFill>
                <a:latin typeface="Cambria"/>
              </a:rPr>
              <a:t>Aktivnosti iz područja prometa i komunalne infrastruktur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5" descr="LOGO_ZAGORJE_HOR"/>
          <p:cNvPicPr/>
          <p:nvPr/>
        </p:nvPicPr>
        <p:blipFill>
          <a:blip r:embed="rId1"/>
          <a:stretch/>
        </p:blipFill>
        <p:spPr>
          <a:xfrm>
            <a:off x="7093080" y="5275440"/>
            <a:ext cx="2050920" cy="15825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6" descr="C:\Documents and Settings\DrazenkaG\Desktop\Poljoprivreda 2013\Izložba meda\KZZ_Grb_Transparent-smanjen-sa-natpisom.png"/>
          <p:cNvPicPr/>
          <p:nvPr/>
        </p:nvPicPr>
        <p:blipFill>
          <a:blip r:embed="rId2"/>
          <a:stretch/>
        </p:blipFill>
        <p:spPr>
          <a:xfrm>
            <a:off x="3780000" y="189000"/>
            <a:ext cx="1655640" cy="14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395280" y="1989000"/>
            <a:ext cx="822960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mbria"/>
              </a:rPr>
              <a:t>U 2013. godini, prema aktivnostima iz područja prometa i komunalne infrastrukture  ukupno je realizirano</a:t>
            </a:r>
            <a:r>
              <a:rPr b="1" lang="hr-HR" sz="2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hr-HR" sz="2800" spc="-1" strike="noStrike">
                <a:solidFill>
                  <a:srgbClr val="000000"/>
                </a:solidFill>
                <a:latin typeface="Cambria"/>
              </a:rPr>
              <a:t>6.678.729,31</a:t>
            </a:r>
            <a:r>
              <a:rPr b="1" lang="hr-HR" sz="2800" spc="-1" strike="noStrike">
                <a:solidFill>
                  <a:srgbClr val="000000"/>
                </a:solidFill>
                <a:latin typeface="Cambria"/>
              </a:rPr>
              <a:t>  </a:t>
            </a:r>
            <a:r>
              <a:rPr b="0" lang="hr-HR" sz="2800" spc="-1" strike="noStrike">
                <a:solidFill>
                  <a:srgbClr val="000000"/>
                </a:solidFill>
                <a:latin typeface="Cambria"/>
              </a:rPr>
              <a:t>kuna, od čega su izvorni prihodi KZŽ </a:t>
            </a:r>
            <a:r>
              <a:rPr b="1" i="1" lang="hr-HR" sz="2800" spc="-1" strike="noStrike">
                <a:solidFill>
                  <a:srgbClr val="000000"/>
                </a:solidFill>
                <a:latin typeface="Cambria"/>
              </a:rPr>
              <a:t>3.737.994,31</a:t>
            </a:r>
            <a:r>
              <a:rPr b="0" lang="hr-HR" sz="2800" spc="-1" strike="noStrike">
                <a:solidFill>
                  <a:srgbClr val="000000"/>
                </a:solidFill>
                <a:latin typeface="Cambria"/>
              </a:rPr>
              <a:t> ku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5" descr="LOGO_ZAGORJE_HOR"/>
          <p:cNvPicPr/>
          <p:nvPr/>
        </p:nvPicPr>
        <p:blipFill>
          <a:blip r:embed="rId1"/>
          <a:stretch/>
        </p:blipFill>
        <p:spPr>
          <a:xfrm>
            <a:off x="7812000" y="5877000"/>
            <a:ext cx="133200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70920"/>
            <a:ext cx="8229600" cy="141300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Cambria"/>
              </a:rPr>
              <a:t>Rekonstrukcija i modernizacija prometne infrastrukt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5" descr="LOGO_ZAGORJE_HOR"/>
          <p:cNvPicPr/>
          <p:nvPr/>
        </p:nvPicPr>
        <p:blipFill>
          <a:blip r:embed="rId1"/>
          <a:stretch/>
        </p:blipFill>
        <p:spPr>
          <a:xfrm>
            <a:off x="7812000" y="5877000"/>
            <a:ext cx="1332000" cy="98100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 txBox="1"/>
          <p:nvPr/>
        </p:nvSpPr>
        <p:spPr>
          <a:xfrm>
            <a:off x="539640" y="1773360"/>
            <a:ext cx="77868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mbria"/>
              </a:rPr>
              <a:t>Održavanje ploča dobrodošlice u KZŽ i turističke signalizacije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mbria"/>
              </a:rPr>
              <a:t>                                </a:t>
            </a:r>
            <a:r>
              <a:rPr b="1" lang="hr-HR" sz="2800" spc="-1" strike="noStrike">
                <a:solidFill>
                  <a:srgbClr val="000000"/>
                </a:solidFill>
                <a:latin typeface="Cambria"/>
              </a:rPr>
              <a:t>realizirano 49.830,00 ku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mbria"/>
              </a:rPr>
              <a:t>Asfaltiranje nerazvrstanih ces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mbria"/>
              </a:rPr>
              <a:t>    </a:t>
            </a:r>
            <a:r>
              <a:rPr b="0" lang="hr-HR" sz="2800" spc="-1" strike="noStrike">
                <a:solidFill>
                  <a:srgbClr val="000000"/>
                </a:solidFill>
                <a:latin typeface="Cambria"/>
              </a:rPr>
              <a:t>Prilazi crkvama i grobljima, te dionicama cesta gdje žive socijalno ugrožene obitelji i invalidi, spojne ceste 2 JLS, prilazi školama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mbria"/>
              </a:rPr>
              <a:t>                                     </a:t>
            </a:r>
            <a:r>
              <a:rPr b="1" lang="hr-HR" sz="2800" spc="-1" strike="noStrike">
                <a:solidFill>
                  <a:srgbClr val="000000"/>
                </a:solidFill>
                <a:latin typeface="Cambria"/>
              </a:rPr>
              <a:t>realizirano 725.000,00 ku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1432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Cambria"/>
              </a:rPr>
              <a:t>Raspodjela sredstava JLS za kapitalna ulaganja (Državni proračun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95280" y="2276280"/>
            <a:ext cx="82296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hr-HR" sz="2800" spc="-1" strike="noStrike">
                <a:solidFill>
                  <a:srgbClr val="000000"/>
                </a:solidFill>
                <a:latin typeface="Cambria"/>
              </a:rPr>
              <a:t>Male komunalne akcije“           648.434,63 ku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mbria"/>
              </a:rPr>
              <a:t>Razvitak vodoopskrbe            1.392.697,71 ku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mbria"/>
              </a:rPr>
              <a:t>Razvitak gospodarskih zona     899.602,66 ku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mbria"/>
              </a:rPr>
              <a:t>                     </a:t>
            </a:r>
            <a:r>
              <a:rPr b="1" lang="hr-HR" sz="2800" spc="-1" strike="noStrike">
                <a:solidFill>
                  <a:srgbClr val="000000"/>
                </a:solidFill>
                <a:latin typeface="Cambria"/>
              </a:rPr>
              <a:t>ukupno realizirano 2.940.735,00 ku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5" descr="LOGO_ZAGORJE_HOR"/>
          <p:cNvPicPr/>
          <p:nvPr/>
        </p:nvPicPr>
        <p:blipFill>
          <a:blip r:embed="rId1"/>
          <a:stretch/>
        </p:blipFill>
        <p:spPr>
          <a:xfrm>
            <a:off x="7812000" y="5877000"/>
            <a:ext cx="133200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Cambria"/>
              </a:rPr>
              <a:t>Odbor za sigurnost u promet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08000" y="2349360"/>
            <a:ext cx="8856720" cy="31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mbria"/>
              </a:rPr>
              <a:t>„</a:t>
            </a:r>
            <a:r>
              <a:rPr b="0" lang="hr-HR" sz="2800" spc="-1" strike="noStrike">
                <a:solidFill>
                  <a:srgbClr val="000000"/>
                </a:solidFill>
                <a:latin typeface="Cambria"/>
              </a:rPr>
              <a:t>Osposobljavanje učenika 5. razreda za samostalno upravljanje biciklom“                          30.000,00 kun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mbria"/>
              </a:rPr>
              <a:t>„</a:t>
            </a:r>
            <a:r>
              <a:rPr b="0" lang="hr-HR" sz="2800" spc="-1" strike="noStrike">
                <a:solidFill>
                  <a:srgbClr val="000000"/>
                </a:solidFill>
                <a:latin typeface="Cambria"/>
              </a:rPr>
              <a:t>Promet nije šala ni opasnost mala“  30.000,00 ku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Cambria"/>
              </a:rPr>
              <a:t>                                   </a:t>
            </a:r>
            <a:r>
              <a:rPr b="1" lang="hr-HR" sz="2800" spc="-1" strike="noStrike">
                <a:solidFill>
                  <a:srgbClr val="000000"/>
                </a:solidFill>
                <a:latin typeface="Cambria"/>
              </a:rPr>
              <a:t>ukupno realizirano: 60.000,00 ku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5" descr="LOGO_ZAGORJE_HOR"/>
          <p:cNvPicPr/>
          <p:nvPr/>
        </p:nvPicPr>
        <p:blipFill>
          <a:blip r:embed="rId1"/>
          <a:stretch/>
        </p:blipFill>
        <p:spPr>
          <a:xfrm>
            <a:off x="7812000" y="5877000"/>
            <a:ext cx="133200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Cambria"/>
              </a:rPr>
              <a:t>Uređenje autobusnih stajališ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95280" y="2060640"/>
            <a:ext cx="822960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mbria"/>
              </a:rPr>
              <a:t>Izrada Elaborata  za označavanje autobusnih stajališta                                       79.375,00 ku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mbria"/>
              </a:rPr>
              <a:t>Obilježavanje autobusnih stajališta i nabava autobusnih nadstrešnica            100.764,50 ku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mbria"/>
              </a:rPr>
              <a:t>                     </a:t>
            </a:r>
            <a:r>
              <a:rPr b="1" lang="hr-HR" sz="2800" spc="-1" strike="noStrike">
                <a:solidFill>
                  <a:srgbClr val="000000"/>
                </a:solidFill>
                <a:latin typeface="Cambria"/>
              </a:rPr>
              <a:t>ukupno realizirano 180.139,50 ku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5" descr="LOGO_ZAGORJE_HOR"/>
          <p:cNvPicPr/>
          <p:nvPr/>
        </p:nvPicPr>
        <p:blipFill>
          <a:blip r:embed="rId1"/>
          <a:stretch/>
        </p:blipFill>
        <p:spPr>
          <a:xfrm>
            <a:off x="7812000" y="5877000"/>
            <a:ext cx="133200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Cambria"/>
              </a:rPr>
              <a:t>Integrirani prometni sustav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68360" y="2420640"/>
            <a:ext cx="822960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mbria"/>
              </a:rPr>
              <a:t>Izrada prometne studije „Plan provođenja temeljnih prometnih istraživanja za području Krapinsko-zagorske županije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mbria"/>
              </a:rPr>
              <a:t>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mbria"/>
              </a:rPr>
              <a:t>                                     </a:t>
            </a:r>
            <a:r>
              <a:rPr b="1" lang="hr-HR" sz="2800" spc="-1" strike="noStrike">
                <a:solidFill>
                  <a:srgbClr val="000000"/>
                </a:solidFill>
                <a:latin typeface="Cambria"/>
              </a:rPr>
              <a:t>realizirano 62.500,00 kuna</a:t>
            </a: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5" descr="LOGO_ZAGORJE_HOR"/>
          <p:cNvPicPr/>
          <p:nvPr/>
        </p:nvPicPr>
        <p:blipFill>
          <a:blip r:embed="rId1"/>
          <a:stretch/>
        </p:blipFill>
        <p:spPr>
          <a:xfrm>
            <a:off x="7812000" y="5877000"/>
            <a:ext cx="133200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5396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Cambria"/>
              </a:rPr>
              <a:t>Obilježavanje </a:t>
            </a:r>
            <a:br>
              <a:rPr sz="4000"/>
            </a:br>
            <a:r>
              <a:rPr b="0" lang="hr-HR" sz="4000" spc="-1" strike="noStrike">
                <a:solidFill>
                  <a:srgbClr val="000000"/>
                </a:solidFill>
                <a:latin typeface="Cambria"/>
              </a:rPr>
              <a:t>željezničko-cestovnih prijelaz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95280" y="2420640"/>
            <a:ext cx="822960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mbria"/>
              </a:rPr>
              <a:t>Izrada projektne dokumentacije za postavu zaštitnih mimoilaznih ograda za pješake na 4 lokacije (prijelazi Hum i Škola na području Grada Zaboka, Stubičke Toplice i Donja Stubica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Cambria"/>
              </a:rPr>
              <a:t>                                     </a:t>
            </a:r>
            <a:r>
              <a:rPr b="1" lang="hr-HR" sz="2800" spc="-1" strike="noStrike">
                <a:solidFill>
                  <a:srgbClr val="000000"/>
                </a:solidFill>
                <a:latin typeface="Cambria"/>
              </a:rPr>
              <a:t>realizirano 86.250,00 kuna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5" descr="LOGO_ZAGORJE_HOR"/>
          <p:cNvPicPr/>
          <p:nvPr/>
        </p:nvPicPr>
        <p:blipFill>
          <a:blip r:embed="rId1"/>
          <a:stretch/>
        </p:blipFill>
        <p:spPr>
          <a:xfrm>
            <a:off x="7812000" y="5877000"/>
            <a:ext cx="133200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000" y="475920"/>
            <a:ext cx="8280360" cy="547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400" spc="-1" strike="noStrike">
                <a:solidFill>
                  <a:srgbClr val="000000"/>
                </a:solidFill>
                <a:latin typeface="Cambria"/>
              </a:rPr>
              <a:t>U 2013. godini, prema aktivnostima iz područja gospodarstva do sada je ukupno realizirano </a:t>
            </a:r>
            <a:r>
              <a:rPr b="1" lang="hr-HR" sz="3400" spc="-1" strike="noStrike">
                <a:solidFill>
                  <a:srgbClr val="000000"/>
                </a:solidFill>
                <a:latin typeface="Cambria"/>
              </a:rPr>
              <a:t>6.862.682,18</a:t>
            </a:r>
            <a:r>
              <a:rPr b="0" lang="hr-HR" sz="3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hr-HR" sz="3400" spc="-1" strike="noStrike">
                <a:solidFill>
                  <a:srgbClr val="000000"/>
                </a:solidFill>
                <a:latin typeface="Cambria"/>
              </a:rPr>
              <a:t>kn</a:t>
            </a:r>
            <a:r>
              <a:rPr b="1" lang="hr-HR" sz="34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hr-HR" sz="3400" spc="-1" strike="noStrike">
                <a:solidFill>
                  <a:srgbClr val="000000"/>
                </a:solidFill>
                <a:latin typeface="Cambria"/>
              </a:rPr>
              <a:t>od čega su:</a:t>
            </a:r>
            <a:br>
              <a:rPr sz="3400"/>
            </a:br>
            <a:br>
              <a:rPr sz="3400"/>
            </a:br>
            <a:r>
              <a:rPr b="0" lang="hr-HR" sz="2200" spc="-1" strike="noStrike">
                <a:solidFill>
                  <a:srgbClr val="000000"/>
                </a:solidFill>
                <a:latin typeface="Cambria"/>
              </a:rPr>
              <a:t>- izvorni prihodi KZŽ – 2.411.048,85 kn  </a:t>
            </a:r>
            <a:br>
              <a:rPr sz="2200"/>
            </a:br>
            <a:r>
              <a:rPr b="0" lang="hr-HR" sz="2200" spc="-1" strike="noStrike">
                <a:solidFill>
                  <a:srgbClr val="000000"/>
                </a:solidFill>
                <a:latin typeface="Cambria"/>
              </a:rPr>
              <a:t>- Ministarstvo poduzetništva i obrta – 1.615.350,67 kn</a:t>
            </a:r>
            <a:br>
              <a:rPr sz="2200"/>
            </a:br>
            <a:r>
              <a:rPr b="0" lang="hr-HR" sz="2200" spc="-1" strike="noStrike">
                <a:solidFill>
                  <a:srgbClr val="000000"/>
                </a:solidFill>
                <a:latin typeface="Cambria"/>
              </a:rPr>
              <a:t>- Fond za zaštitu okoliša i en.učinkovitost – 2.051.315,35 kn</a:t>
            </a:r>
            <a:br>
              <a:rPr sz="2200"/>
            </a:br>
            <a:r>
              <a:rPr b="0" lang="hr-HR" sz="2200" spc="-1" strike="noStrike">
                <a:solidFill>
                  <a:srgbClr val="000000"/>
                </a:solidFill>
                <a:latin typeface="Cambria"/>
              </a:rPr>
              <a:t>- JLS – 784.967,31 kn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5" descr="LOGO_ZAGORJE_HOR"/>
          <p:cNvPicPr/>
          <p:nvPr/>
        </p:nvPicPr>
        <p:blipFill>
          <a:blip r:embed="rId1"/>
          <a:stretch/>
        </p:blipFill>
        <p:spPr>
          <a:xfrm>
            <a:off x="7093080" y="5275440"/>
            <a:ext cx="2050920" cy="158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Cambria"/>
              </a:rPr>
              <a:t>Krapinsko-zagorski aerodrom </a:t>
            </a:r>
            <a:br>
              <a:rPr sz="4000"/>
            </a:br>
            <a:r>
              <a:rPr b="0" lang="hr-HR" sz="4000" spc="-1" strike="noStrike">
                <a:solidFill>
                  <a:srgbClr val="000000"/>
                </a:solidFill>
                <a:latin typeface="Cambria"/>
              </a:rPr>
              <a:t>d.o.o. Zabo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95280" y="2204640"/>
            <a:ext cx="822960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mbria"/>
              </a:rPr>
              <a:t>Kapitalne pomoći – uređenje i održavanje uzletno-sletne staze i ostalih površina, nabava kontejnera za uredski prostor za potrebe kontrolnog tornja na aerodromu, izrada projektne dokumentacije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mbria"/>
              </a:rPr>
              <a:t>                                   </a:t>
            </a:r>
            <a:r>
              <a:rPr b="1" lang="hr-HR" sz="2800" spc="-1" strike="noStrike">
                <a:solidFill>
                  <a:srgbClr val="000000"/>
                </a:solidFill>
                <a:latin typeface="Cambria"/>
              </a:rPr>
              <a:t>realizirano 400.000,00 ku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5" descr="LOGO_ZAGORJE_HOR"/>
          <p:cNvPicPr/>
          <p:nvPr/>
        </p:nvPicPr>
        <p:blipFill>
          <a:blip r:embed="rId1"/>
          <a:stretch/>
        </p:blipFill>
        <p:spPr>
          <a:xfrm>
            <a:off x="7812000" y="5877000"/>
            <a:ext cx="133200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5236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Cambria"/>
              </a:rPr>
              <a:t>Pomoći gradovima i općinama za elementarne nepogod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95280" y="119664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mbria"/>
              </a:rPr>
              <a:t>Izrada 22 Elaborata za sanaciju klizišta 512.510,00 ku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mbria"/>
              </a:rPr>
              <a:t>Sanacija oštećenja na 11 objekata 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mbria"/>
              </a:rPr>
              <a:t>     </a:t>
            </a:r>
            <a:r>
              <a:rPr b="0" lang="hr-HR" sz="2400" spc="-1" strike="noStrike">
                <a:solidFill>
                  <a:srgbClr val="000000"/>
                </a:solidFill>
                <a:latin typeface="Cambria"/>
              </a:rPr>
              <a:t>na 4 nerazvrstane ceste                        575.000,00 ku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mbria"/>
              </a:rPr>
              <a:t>Nabava kamenog materijala za sanacij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mbria"/>
              </a:rPr>
              <a:t>     </a:t>
            </a:r>
            <a:r>
              <a:rPr b="0" lang="hr-HR" sz="2400" spc="-1" strike="noStrike">
                <a:solidFill>
                  <a:srgbClr val="000000"/>
                </a:solidFill>
                <a:latin typeface="Cambria"/>
              </a:rPr>
              <a:t>nerazvrstanih makadamskih cesta        345.000,00 ku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mbria"/>
              </a:rPr>
              <a:t>Pomoći fizičkim osobama za šte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mbria"/>
              </a:rPr>
              <a:t>     </a:t>
            </a:r>
            <a:r>
              <a:rPr b="0" lang="hr-HR" sz="2400" spc="-1" strike="noStrike">
                <a:solidFill>
                  <a:srgbClr val="000000"/>
                </a:solidFill>
                <a:latin typeface="Cambria"/>
              </a:rPr>
              <a:t>nastale uslijed pojave požara                  42.000,00 ku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hr-HR" sz="18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mbria"/>
              </a:rPr>
              <a:t>                            </a:t>
            </a:r>
            <a:r>
              <a:rPr b="1" lang="hr-HR" sz="2400" spc="-1" strike="noStrike">
                <a:solidFill>
                  <a:srgbClr val="000000"/>
                </a:solidFill>
                <a:latin typeface="Cambria"/>
              </a:rPr>
              <a:t>ukupno realizirano 1.474.510,00 ku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5" descr="LOGO_ZAGORJE_HOR"/>
          <p:cNvPicPr/>
          <p:nvPr/>
        </p:nvPicPr>
        <p:blipFill>
          <a:blip r:embed="rId1"/>
          <a:stretch/>
        </p:blipFill>
        <p:spPr>
          <a:xfrm>
            <a:off x="7812000" y="5877000"/>
            <a:ext cx="133200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Cambria"/>
              </a:rPr>
              <a:t>Program vodoopskrbe i odvodnj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68360" y="2637000"/>
            <a:ext cx="8229600" cy="208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mbria"/>
              </a:rPr>
              <a:t>Projekti sanacije i izgradnje javne vodoopskrbne mreže, te sustava javne odvodnj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mbria"/>
              </a:rPr>
              <a:t>                                   </a:t>
            </a:r>
            <a:r>
              <a:rPr b="1" lang="hr-HR" sz="2800" spc="-1" strike="noStrike">
                <a:solidFill>
                  <a:srgbClr val="000000"/>
                </a:solidFill>
                <a:latin typeface="Cambria"/>
              </a:rPr>
              <a:t>realizirano 399.764,81 ku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5" descr="LOGO_ZAGORJE_HOR"/>
          <p:cNvPicPr/>
          <p:nvPr/>
        </p:nvPicPr>
        <p:blipFill>
          <a:blip r:embed="rId1"/>
          <a:stretch/>
        </p:blipFill>
        <p:spPr>
          <a:xfrm>
            <a:off x="7812000" y="5877000"/>
            <a:ext cx="133200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6000" spc="-1" strike="noStrike">
                <a:solidFill>
                  <a:srgbClr val="000000"/>
                </a:solidFill>
                <a:latin typeface="Cambria"/>
              </a:rPr>
              <a:t>HVALA NA PAŽNJI !!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5" descr="LOGO_ZAGORJE_HOR"/>
          <p:cNvPicPr/>
          <p:nvPr/>
        </p:nvPicPr>
        <p:blipFill>
          <a:blip r:embed="rId1"/>
          <a:stretch/>
        </p:blipFill>
        <p:spPr>
          <a:xfrm>
            <a:off x="7093080" y="5275440"/>
            <a:ext cx="2050920" cy="158256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6" descr="C:\Documents and Settings\DrazenkaG\Desktop\Poljoprivreda 2013\Izložba meda\KZZ_Grb_Transparent-smanjen-sa-natpisom.png"/>
          <p:cNvPicPr/>
          <p:nvPr/>
        </p:nvPicPr>
        <p:blipFill>
          <a:blip r:embed="rId2"/>
          <a:stretch/>
        </p:blipFill>
        <p:spPr>
          <a:xfrm>
            <a:off x="324000" y="5418000"/>
            <a:ext cx="1655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785880" y="1643040"/>
          <a:ext cx="7242120" cy="4267080"/>
        </p:xfrm>
        <a:graphic>
          <a:graphicData uri="http://schemas.openxmlformats.org/drawingml/2006/table">
            <a:tbl>
              <a:tblPr/>
              <a:tblGrid>
                <a:gridCol w="2768400"/>
                <a:gridCol w="447372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Aktivnosti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Potpore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</a:tr>
              <a:tr h="131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6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Sajmovi i promidžbene manifestacij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hr-HR" sz="1600" spc="-1" strike="noStrike" u="sng">
                          <a:solidFill>
                            <a:srgbClr val="000000"/>
                          </a:solidFill>
                          <a:uFillTx/>
                          <a:latin typeface="Cambria"/>
                        </a:rPr>
                        <a:t>Realizirano: 300.950,30 k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mbri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Gospodarske manifestacije i promidžb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mbri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Nastupi na međunarodnim sajmovim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mbri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Sajam poslov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mbri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Katalog gospodarstvenik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mbri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Gospodarski zb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6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Unapređenje konkurentnost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hr-HR" sz="1600" spc="-1" strike="noStrike" u="sng">
                          <a:solidFill>
                            <a:srgbClr val="000000"/>
                          </a:solidFill>
                          <a:uFillTx/>
                          <a:latin typeface="Cambria"/>
                        </a:rPr>
                        <a:t>Realizirano: 4.002.251,25  k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mbri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Edukacija i prezentacija obrtničkih zanimanja u OŠ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mbri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Edukacija poduzetništv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mbri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Tradicionalni obrt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mbri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Regresiranje kamata poduzetnicim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mbri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Poduzetnički inkubat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6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Niskoenergetska gradnja i obnovljivi izvori energij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hr-HR" sz="1600" spc="-1" strike="noStrike" u="sng">
                          <a:solidFill>
                            <a:srgbClr val="000000"/>
                          </a:solidFill>
                          <a:uFillTx/>
                          <a:latin typeface="Cambria"/>
                        </a:rPr>
                        <a:t>Realizirano: 2.559.480,63 k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mbri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Energetska učinkovitos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mbri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Obnovljivi izvori energij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400" spc="-1" strike="noStrike">
                <a:solidFill>
                  <a:srgbClr val="000000"/>
                </a:solidFill>
                <a:latin typeface="Cambria"/>
              </a:rPr>
              <a:t>Vrste potpora prema aktivnostima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5" descr="LOGO_ZAGORJE_HOR"/>
          <p:cNvPicPr/>
          <p:nvPr/>
        </p:nvPicPr>
        <p:blipFill>
          <a:blip r:embed="rId1"/>
          <a:stretch/>
        </p:blipFill>
        <p:spPr>
          <a:xfrm>
            <a:off x="8072280" y="6072120"/>
            <a:ext cx="1071720" cy="7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400" spc="-1" strike="noStrike">
                <a:solidFill>
                  <a:srgbClr val="000000"/>
                </a:solidFill>
                <a:latin typeface="Cambria"/>
              </a:rPr>
              <a:t>Sufinanciranje gospodarskih manifestacija i promidžbi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250920" y="1557000"/>
            <a:ext cx="842472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800" spc="-1" strike="noStrike">
                <a:solidFill>
                  <a:srgbClr val="000000"/>
                </a:solidFill>
                <a:latin typeface="Cambria"/>
              </a:rPr>
              <a:t>Sajam “EXPO Real 2013.” u München-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800" spc="-1" strike="noStrike">
                <a:solidFill>
                  <a:srgbClr val="000000"/>
                </a:solidFill>
                <a:latin typeface="Cambria"/>
              </a:rPr>
              <a:t>(07.-09.10.2013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800" spc="-1" strike="noStrike">
                <a:solidFill>
                  <a:srgbClr val="000000"/>
                </a:solidFill>
                <a:latin typeface="Cambria"/>
              </a:rPr>
              <a:t>Studijsko putovanje gospodarstvenika Krapinsko-zagorske županije u Bruxelles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800" spc="-1" strike="noStrike">
                <a:solidFill>
                  <a:srgbClr val="000000"/>
                </a:solidFill>
                <a:latin typeface="Cambria"/>
              </a:rPr>
              <a:t>(08.10.-10.10.2013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Cambria"/>
              </a:rPr>
              <a:t>Realizirano: </a:t>
            </a:r>
            <a:r>
              <a:rPr b="0" lang="hr-HR" sz="2800" spc="-1" strike="noStrike">
                <a:solidFill>
                  <a:srgbClr val="000000"/>
                </a:solidFill>
                <a:latin typeface="Cambria"/>
              </a:rPr>
              <a:t>71.000,00 k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5" descr="LOGO_ZAGORJE_HOR"/>
          <p:cNvPicPr/>
          <p:nvPr/>
        </p:nvPicPr>
        <p:blipFill>
          <a:blip r:embed="rId1"/>
          <a:stretch/>
        </p:blipFill>
        <p:spPr>
          <a:xfrm>
            <a:off x="7812000" y="5877000"/>
            <a:ext cx="133200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400" spc="-1" strike="noStrike">
                <a:solidFill>
                  <a:srgbClr val="000000"/>
                </a:solidFill>
                <a:latin typeface="Cambria"/>
              </a:rPr>
              <a:t>Sufinanciranje nastupa na međunarodnim sajmovima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324000" y="1915920"/>
            <a:ext cx="835344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800" spc="-1" strike="noStrike">
                <a:solidFill>
                  <a:srgbClr val="000000"/>
                </a:solidFill>
                <a:latin typeface="Cambria"/>
              </a:rPr>
              <a:t>Bespovratna potpora poduzetnicima s područja Krapinsko-zagorske županije za sudjelovanje na gospodarskim sajmovima u inozemstvu (javni natječaj 05.02.-07.03.2013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Cambria"/>
              </a:rPr>
              <a:t>Realizirano </a:t>
            </a:r>
            <a:r>
              <a:rPr b="0" lang="hr-HR" sz="2800" spc="-1" strike="noStrike">
                <a:solidFill>
                  <a:srgbClr val="000000"/>
                </a:solidFill>
                <a:latin typeface="Cambria"/>
              </a:rPr>
              <a:t>: 99.983,93 k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5" descr="LOGO_ZAGORJE_HOR"/>
          <p:cNvPicPr/>
          <p:nvPr/>
        </p:nvPicPr>
        <p:blipFill>
          <a:blip r:embed="rId1"/>
          <a:stretch/>
        </p:blipFill>
        <p:spPr>
          <a:xfrm>
            <a:off x="7812000" y="5877000"/>
            <a:ext cx="133200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400" spc="-1" strike="noStrike">
                <a:solidFill>
                  <a:srgbClr val="000000"/>
                </a:solidFill>
                <a:latin typeface="Cambria"/>
              </a:rPr>
              <a:t>Sufinanciranje sajma poslova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539640" y="1844640"/>
            <a:ext cx="8229600" cy="45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800" spc="-1" strike="noStrike">
                <a:solidFill>
                  <a:srgbClr val="000000"/>
                </a:solidFill>
                <a:latin typeface="Cambria"/>
              </a:rPr>
              <a:t>Sajam  poslova u Krapin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800" spc="-1" strike="noStrike">
                <a:solidFill>
                  <a:srgbClr val="000000"/>
                </a:solidFill>
                <a:latin typeface="Cambria"/>
              </a:rPr>
              <a:t>(24. listopada 2013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Cambria"/>
              </a:rPr>
              <a:t>Realizirano</a:t>
            </a:r>
            <a:r>
              <a:rPr b="0" lang="hr-HR" sz="2800" spc="-1" strike="noStrike">
                <a:solidFill>
                  <a:srgbClr val="000000"/>
                </a:solidFill>
                <a:latin typeface="Cambria"/>
              </a:rPr>
              <a:t>: 29.966,37 k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mbr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5" descr="LOGO_ZAGORJE_HOR"/>
          <p:cNvPicPr/>
          <p:nvPr/>
        </p:nvPicPr>
        <p:blipFill>
          <a:blip r:embed="rId1"/>
          <a:stretch/>
        </p:blipFill>
        <p:spPr>
          <a:xfrm>
            <a:off x="7812000" y="5877000"/>
            <a:ext cx="133200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400" spc="-1" strike="noStrike">
                <a:solidFill>
                  <a:srgbClr val="000000"/>
                </a:solidFill>
                <a:latin typeface="Cambria"/>
              </a:rPr>
              <a:t>Sufinanciranje kataloga gospodarstvenika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395280" y="1915920"/>
            <a:ext cx="8229600" cy="429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lvl="1" marL="335880" indent="-3358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800" spc="-1" strike="noStrike">
                <a:solidFill>
                  <a:srgbClr val="000000"/>
                </a:solidFill>
                <a:latin typeface="Cambria"/>
              </a:rPr>
              <a:t>Financiranje izrade promotivnog medija “100 najznačajnijih gospodarskih subjekata Krapinsko-zagorske županije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35880" indent="-335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35880" indent="-3358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800" spc="-1" strike="noStrike">
                <a:solidFill>
                  <a:srgbClr val="000000"/>
                </a:solidFill>
                <a:latin typeface="Cambria"/>
              </a:rPr>
              <a:t>Potpora za Izradu Katalog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35880" indent="-3358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800" spc="-1" strike="noStrike">
                <a:solidFill>
                  <a:srgbClr val="000000"/>
                </a:solidFill>
                <a:latin typeface="Cambria"/>
              </a:rPr>
              <a:t>“ </a:t>
            </a:r>
            <a:r>
              <a:rPr b="1" i="1" lang="hr-HR" sz="2800" spc="-1" strike="noStrike">
                <a:solidFill>
                  <a:srgbClr val="000000"/>
                </a:solidFill>
                <a:latin typeface="Cambria"/>
              </a:rPr>
              <a:t>Od temelja do krova” Krapinsko-zagorske župani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35880" indent="-335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Cambria"/>
              </a:rPr>
              <a:t>Realizirano</a:t>
            </a:r>
            <a:r>
              <a:rPr b="0" lang="hr-HR" sz="2800" spc="-1" strike="noStrike">
                <a:solidFill>
                  <a:srgbClr val="000000"/>
                </a:solidFill>
                <a:latin typeface="Cambria"/>
              </a:rPr>
              <a:t>: 65.000,00 k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LOGO_ZAGORJE_HOR"/>
          <p:cNvPicPr/>
          <p:nvPr/>
        </p:nvPicPr>
        <p:blipFill>
          <a:blip r:embed="rId1"/>
          <a:stretch/>
        </p:blipFill>
        <p:spPr>
          <a:xfrm>
            <a:off x="7812000" y="5877000"/>
            <a:ext cx="133200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9T09:33:53Z</dcterms:created>
  <dc:creator>Tanja</dc:creator>
  <dc:description/>
  <dc:language>en-US</dc:language>
  <cp:lastModifiedBy>drazenkag</cp:lastModifiedBy>
  <dcterms:modified xsi:type="dcterms:W3CDTF">2013-12-20T12:41:35Z</dcterms:modified>
  <cp:revision>180</cp:revision>
  <dc:subject/>
  <dc:title>EU projekti za razvoj turizma</dc:title>
</cp:coreProperties>
</file>