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B69-DA3A-4A87-9B2C-50ACDEDB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BE0-EA9B-40A9-897F-8F8DFA0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8F6-FB33-4785-A959-5474612C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6D1-C0DE-4A02-BDB0-BB143F26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CD5-E8D6-48E5-B34D-5CEAE24E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B16-10B7-4C88-BFF6-23B1C30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B20-8AB5-4630-B258-7A473121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974-F72C-4A99-9FEF-A48B6B6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6A1-6983-45F5-BF04-E7180D7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667-A057-4D95-B2AB-4EBC9FF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781-D1D0-42CA-B959-60E3330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F79-0176-4E2F-8851-7ACB7F2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3E4-E707-4B70-A358-2AB7AFE7FAA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2349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UPRAVNI   ODJEL ZA OBRAZOVANJE, KULTURU, SPORT  I TEHNIČKU KULTURU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DrazenkaG\Desktop\Poljoprivreda 2013\Izložba meda\KZZ_Grb_Transparent-smanjen-sa-natpisom.png"/>
          <p:cNvPicPr/>
          <p:nvPr/>
        </p:nvPicPr>
        <p:blipFill>
          <a:blip r:embed="rId1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OGO_ZAGORJE_HOR"/>
          <p:cNvPicPr/>
          <p:nvPr/>
        </p:nvPicPr>
        <p:blipFill>
          <a:blip r:embed="rId2"/>
          <a:stretch/>
        </p:blipFill>
        <p:spPr>
          <a:xfrm>
            <a:off x="7093080" y="5516640"/>
            <a:ext cx="2050920" cy="1341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554364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rapina, 23. prosinca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NOVA  I  ZAŠTITA  SPOMENIKA KUL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APITALNI  PROJEKTI ZAŠTITE SPOMENIKA KULTURE: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401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APITALNE DONACIJE ZA OBNOVU SPOMENIČKE BAŠTINE DOZNAČUJU SE:  Crkvama, Udrugama, JLS, institu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EKI OD ZNAČAJNIJIH OBJEKATA U OBNO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Crkva MB Snježne Be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Crkva sv. Dominika u Konjšč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Župna kurija u Lob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crkvenoi inventar u župi Zajez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rgulja u c.sv. Katarine Krapina i župi Zagorska S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manje sanacije u dvoru – državnom arhivu Popo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T I TEHNIČKA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NACIJE  SPORTSKOJ ZAJEDNICI  KRAPINSKO – ZAGORSKE ŽUPANIJE: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940.000,00 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NACIJE ZA SPORTSKE MANIFESTACIJE: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60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NACIJE ŠKOLSKOM SPORTSKOM SAVEZU: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194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NACIJE ZA ZAJEDNICU TEHNIČKE KULTURE: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76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hvaljujemo se na pažnji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DrazenkaG\Desktop\Poljoprivreda 2013\Izložba meda\KZZ_Grb_Transparent-smanjen-sa-natpisom.png"/>
          <p:cNvPicPr/>
          <p:nvPr/>
        </p:nvPicPr>
        <p:blipFill>
          <a:blip r:embed="rId2"/>
          <a:stretch/>
        </p:blipFill>
        <p:spPr>
          <a:xfrm>
            <a:off x="3643200" y="21420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UO  KROZ  JAVNE  POTREBE  REALIZIRA  PROGRAME I PROJEK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U  ČETIRI PODRUČJ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RAZOVANJE –        46 860 402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ULTURA –                    1 458 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PORT  I TEHNIČKA  KULTURA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1 270 000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UKUPNO ZA  UO  -     </a:t>
            </a:r>
            <a:r>
              <a:rPr b="1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49 588 402,0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ALIZIRANI     PROJEKTI    U  OBRAZOVANJU  2013.g.  -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6.860.40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0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decentralizirana</a:t>
            </a: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sredstva za provedb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zakonskog standarda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38.499.802</a:t>
            </a: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izvorna</a:t>
            </a: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sredstva za provedbu dopunskog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hr-HR" sz="2700" spc="-1" strike="noStrike">
                <a:solidFill>
                  <a:srgbClr val="000066"/>
                </a:solidFill>
                <a:latin typeface="Arial"/>
              </a:rPr>
              <a:t>standarda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8.360..600 k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ski standard u O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Materijalni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troškovi škola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9.844.971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rijevoz učenika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12.444.412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apitalna ulaganja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3.738.740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izgradnja SD OŠ Đurmane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anacija krovišta POŠ Martinšči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zamjena stolarije u OŠ J.B. Kumrove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anacija svlačionice u OŠ Marija Bistr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energetska učinkovitost u više š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ski standard u S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Materijalni troškovi škola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9.309.706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kn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apitalna ulaganja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1.514.373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kn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Energetska učinkovitost u više š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Materijalni troškovi za uč. domove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1.647.600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Učenički dom u Bedekovčini (162 uč.) i Pregradi (90 u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punski standard za obrazovanje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izvorna 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1256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Učenička natjecanja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               345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Učeničke i studentske stipendije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1.157.6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Sufinanciranje prijevoza srednjoškolaca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2.90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Materijalni troškovi O i S škola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2.13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Investicijsko ulaganje u O  i S škole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  60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Hitne intervencije u O  i S školama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  50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Obveze- studentski krediti-izvrsni i jamstva                165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Pomoć učilištima u KZŽ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66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Produženi boravak u OŠ i nadareni učenici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7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Pomoć za djecu s teškoćama i predškolsku dob        265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Stručna usavršavanja učitelja i nastavnika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  100.0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PROGRAM  KULTURNOG RAZVITKA : 839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UFINANCIRANJE USTANOVA U KULTURI: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110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MANIFESTACIJE OD INTERESA ZA KZŽ: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154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APITALNE DONACIJE NEPROFITNIM ORGANIZACIJAMA:                                     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56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MOĆ ZA PREDSTAVLJANJE KZŽ NA MEĐUNARODNIM NATJECANJIMA:                                          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32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SUFINANCIRANJE IZDAVAČKE DJELATNOSTI I ELEKTRONIČKIH MEDIJA:    218.000,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ČAJNIJE MANIFESTACIJE U KUL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TJEDAN KAJKAVSKE KULTURE – KRAPINA: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D 7. DO 14.9.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25 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TABOR FILM FESTIVAL – MEĐUNARODNI FESTIVAL KRATKOMETRAŽNOG FILMA –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D 13. DO 16.6.2013. (DESINI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38 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GLAZBENI FESTIVAL LJETO U DVORCU ORŠIĆ – SUBTILIA 2013.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(GORNJA STUBICA) – OD LIPNJA DO KOLOVO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                           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8 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GLUMAČKI FESTIVAL U KRAPINI –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D 5. DO 20.4.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20 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DANI KSAVERA ŠANDORA GJALSKOG U ZABOK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D 21. DO 26.10.2013.   -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16 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ULTURNE DJELA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JAVNI POZIV ZA DOSTAVLJANJE PRIJAVA ZA POTPORU IZDAVANJU KNJIGA IZ PRORAČUNA KRAPINSKO-ZAGORSKE ŽUPANIJE U 2013. -  RASPODJELA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100.000 kn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NA PRIJEDLOG KULTURNOG VIJEĆA KZ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JAVNI POZIV ZA PREDLAGANJE PROJEKATA MANIFESTACIJA U KULTURI KRAPINSKO – ZAGORSKE ŽUPANIJE U 2013. : RASPODJELA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100.000 kn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NA PRIJEDLOG KULTURNOG VIJEĆA KZ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DONACIJE ZA ZAJEDNICU AMATERSKIH KULUTRNO-UMJETNIČKIH UDRUGA KZŽ: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140.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SUFINANCIRANJE RADA KNJIŽNIČNE MATIČNE SLUŽ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U KRAPINI: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66.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DONACIJE ZA KAJKAVIANU: 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80.000,00 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OGO_ZAGORJE_HOR"/>
          <p:cNvPicPr/>
          <p:nvPr/>
        </p:nvPicPr>
        <p:blipFill>
          <a:blip r:embed="rId1"/>
          <a:stretch/>
        </p:blipFill>
        <p:spPr>
          <a:xfrm>
            <a:off x="7093080" y="5275440"/>
            <a:ext cx="2050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9:33:53Z</dcterms:created>
  <dc:creator>Tanja</dc:creator>
  <dc:description/>
  <dc:language>en-US</dc:language>
  <cp:lastModifiedBy>Jasna Petek</cp:lastModifiedBy>
  <dcterms:modified xsi:type="dcterms:W3CDTF">2013-12-23T08:41:45Z</dcterms:modified>
  <cp:revision>198</cp:revision>
  <dc:subject/>
  <dc:title>EU projekti za razvoj turizma</dc:title>
</cp:coreProperties>
</file>