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8C29-39B7-4E09-8F96-E336E702487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8F58-F111-49CF-8328-2F4C11B4016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A74D-D832-4928-9EE1-2292F998618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1DF-E413-40E1-9DE4-D370E923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61E-6E52-43C0-B988-7A1DD39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99F-DC88-4B18-8C62-4D2E9176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C41-6B4C-4551-9627-14FE60C5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D65-7720-48F5-8D20-AEBCD97B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436-A75F-44B0-B0E3-42FA621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57C-8301-4842-BF64-F4C714BC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5C5-3DD1-42C6-B777-8647915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B10-E271-44BA-85FC-ABF6C2D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9B0-638A-4A7F-ABE0-3B8D1F84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CC6-1744-4580-9266-23A754C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047-2A5E-481B-8A89-3AE1D34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A30-DA6D-4618-B24A-249EF160828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mbria"/>
              </a:rPr>
              <a:t>UPRAVNI ODJEL ZA ZDRAVSTVO, SOCIJALNU SKRB, UDRUGE I M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DrazenkaG\Desktop\Poljoprivreda 2013\Izložba meda\KZZ_Grb_Transparent-smanjen-sa-natpisom.png"/>
          <p:cNvPicPr/>
          <p:nvPr/>
        </p:nvPicPr>
        <p:blipFill>
          <a:blip r:embed="rId1"/>
          <a:stretch/>
        </p:blipFill>
        <p:spPr>
          <a:xfrm>
            <a:off x="3643200" y="214200"/>
            <a:ext cx="1656000" cy="144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54364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Krapina, 23. prosinca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GO_ZAGORJE_HOR"/>
          <p:cNvPicPr/>
          <p:nvPr/>
        </p:nvPicPr>
        <p:blipFill>
          <a:blip r:embed="rId2"/>
          <a:stretch/>
        </p:blipFill>
        <p:spPr>
          <a:xfrm>
            <a:off x="7093080" y="5516640"/>
            <a:ext cx="2050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24560" cy="12146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jekti financirani u socijalnoj skrbi u 2013. go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moć obiteljima i samcim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30.000,00 kn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104 korisni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nabave školskih učenik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230.000,00 kn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329 korisni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onatalitetni dodatak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82.000,00 kn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182 korisni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dostave toplih obrok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8.900,00kn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(30 kori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moć pri nabavki vozila za GD CK Krapin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9.571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preventivnih programa Obiteljskog centra KZ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50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ovođenje Županijske strategije za osobe s invaliditeto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33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REALIZIRANI PROJEKTI IZ PODRUČJA UDRUGA I MLADIH U  </a:t>
            </a:r>
            <a:br>
              <a:rPr sz="4400"/>
            </a:br>
            <a:r>
              <a:rPr b="1" lang="hr-HR" sz="4200" spc="-1" strike="noStrike">
                <a:solidFill>
                  <a:srgbClr val="000000"/>
                </a:solidFill>
                <a:latin typeface="Cambria"/>
              </a:rPr>
              <a:t>2013. GODI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780000" y="189000"/>
            <a:ext cx="1655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STITA SREDSTVA ŽUPAN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upno: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.593.000,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redstva realizirana u području vezanom za udruge i mlade u 2013. go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4000" y="40428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rapinsko-zagorski aerodrom       700.000,00 ku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projekata vezanih za djelovanje mladih (Županijski savjet mladih, Informativni Web portal za mlade i udruge, centar za mlade KZŽ)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45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nacije udrugama na temelju javnog natječaj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500.000,00 kn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85 udrug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nacije udrugam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252 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Crvenog križa (zakonska obveza)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300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djelatnika Udruge slijepih KZŽ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72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projekata Koordinacije umirovljenik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400.000,00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financiranje savjetovališta za žene –SOS telefon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85.000,00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24560" cy="12146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jekti financirani u području vezanom za udruge i mlade u 2013. go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Cambria"/>
              </a:rPr>
              <a:t>HVALA NA PAŽNJI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UO za zdravstvo, socijalnu skrb, udruge i mlade čine 3 područ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Zdravstvo -27.555.904,00 k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Socijalna skrb - 3.578.650,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Udruge i mladi - 1.593.000,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kupno za UO: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31 136 147,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094600" cy="27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REALIZIRANI PROJEKTI U ZDRAVSTVU U  </a:t>
            </a:r>
            <a:br>
              <a:rPr sz="4400"/>
            </a:br>
            <a:r>
              <a:rPr b="1" lang="hr-HR" sz="4200" spc="-1" strike="noStrike">
                <a:solidFill>
                  <a:srgbClr val="000000"/>
                </a:solidFill>
                <a:latin typeface="Cambria"/>
              </a:rPr>
              <a:t>2013. GODINI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643200" y="21420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redstva realizirana u zdravstvu u 2013. god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_ZAGORJE_HOR"/>
          <p:cNvPicPr/>
          <p:nvPr/>
        </p:nvPicPr>
        <p:blipFill>
          <a:blip r:embed="rId1"/>
          <a:stretch/>
        </p:blipFill>
        <p:spPr>
          <a:xfrm>
            <a:off x="8072280" y="6072120"/>
            <a:ext cx="1071720" cy="78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DECENTRALIZIRA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hodi poslovanja (investicijsko i tekuće održavanje i informatizacija zdravstvenih ustanova):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090.000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hodi za nabavu nefinancijske imovine (investicijsko ulaganj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):                                               4.483.044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tplata kredita:        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0.793.260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kupno: 18.366.304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VLASTITA SREDSTVA ŽUPAN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upno: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.189.600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UKUPNO ZA ZDRAV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27.555.904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4920" y="1547280"/>
            <a:ext cx="8488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Otplata kredita OB Zabok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12.150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 decentralizac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8.950.000,00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lastita sredst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3.200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Otplata kredita SB Stubičke Toplic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343.26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ređen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idroterapije u objektu Maksimilijan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Otplata kredita SB Krapinske Toplic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.500.000,00 k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ređen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idroterapije i otplata CT uređ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Uređenje sob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novom bolničkom objektu SB Krapinsk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oplice:                                              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.200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Adaptacija zgrad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ma zdravlja KZŽ, Ispostave Zabo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1.000.000,00 k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3280" y="404280"/>
            <a:ext cx="770544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jekti financirani u zdravstvu 2013.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Projekti financirani u zdravstvu 2013. god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052280"/>
            <a:ext cx="8461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Nabava opreme i voz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C maseni spektrometar za Zavod za javno zdravstvo KZ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44.875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gitalizacijski radiološki uređaj za OB Zabok: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69.687,5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bavka 2 ginekološka stola za osobe s invaliditetom za OB Zabok i Dom zdravlja KZŽ:   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5 145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bavka 3 vozila za patronažu Doma zdravlja KZŽ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96.250,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bavka jednog sanitetskog vozila za Dom zdravlja KZ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71.946,18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Projekti financirani u zdravstvu 2013. god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7320" y="1484280"/>
            <a:ext cx="86454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Nabava opreme i voz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Nabavka jednog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anitetskog vozil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Zavod za hitnu medicinu KZ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499.956,5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Oprema z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ginekološki odjel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 Zabok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6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Nabavk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defibrilator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Dom zdravlja KZŽ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9.090,81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remanje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osudionic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Društvima crvenog križa KZŽ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56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Ostali projek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Financiranje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aparata s vodom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školama koje nisu priključene na javni vodovod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36.000,00 kn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11 šk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Financiranje analize vode za piće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300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Sufinanciranje preventivnih programa prevencije ovisnost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35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REALIZIRANI PROJEKTI U SOCIJALNOJ SKRBI U  </a:t>
            </a:r>
            <a:br>
              <a:rPr sz="4400"/>
            </a:br>
            <a:r>
              <a:rPr b="1" lang="hr-HR" sz="4200" spc="-1" strike="noStrike">
                <a:solidFill>
                  <a:srgbClr val="000000"/>
                </a:solidFill>
                <a:latin typeface="Cambria"/>
              </a:rPr>
              <a:t>2013. GODINI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780000" y="189000"/>
            <a:ext cx="1655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redstva realizirana u socijalnoj skrbi u 2013. go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CENTRALIZIRA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upno: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893.650,00 k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sredstva su utrošena na materijalne i financijske rashode Centara za socijalnu skrb KZŽ i na pomoć kućanstvima za nabavku ogrij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LASTITA SREDSTVA ŽUPAN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upn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: 685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UPNO ZA SOCIJALNU SK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3.578.65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9:33:53Z</dcterms:created>
  <dc:creator>Tanja</dc:creator>
  <dc:description/>
  <dc:language>en-US</dc:language>
  <cp:lastModifiedBy>Jasna Petek</cp:lastModifiedBy>
  <dcterms:modified xsi:type="dcterms:W3CDTF">2013-12-23T08:42:21Z</dcterms:modified>
  <cp:revision>194</cp:revision>
  <dc:subject/>
  <dc:title>EU projekti za razvoj turizma</dc:title>
</cp:coreProperties>
</file>