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5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35.jpeg" ContentType="image/jpeg"/>
  <Override PartName="/ppt/media/image9.png" ContentType="image/png"/>
  <Override PartName="/ppt/media/image8.jpeg" ContentType="image/jpeg"/>
  <Override PartName="/ppt/media/image38.png" ContentType="image/png"/>
  <Override PartName="/ppt/media/image16.png" ContentType="image/png"/>
  <Override PartName="/ppt/media/image13.gif" ContentType="image/gif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37.jpeg" ContentType="image/jpeg"/>
  <Override PartName="/ppt/media/image39.gif" ContentType="image/gif"/>
  <Override PartName="/ppt/media/image11.wmf" ContentType="image/x-wmf"/>
  <Override PartName="/ppt/media/image3.png" ContentType="image/png"/>
  <Override PartName="/ppt/media/image26.png" ContentType="image/png"/>
  <Override PartName="/ppt/media/image34.jpeg" ContentType="image/jpeg"/>
  <Override PartName="/ppt/media/image7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407C-EC5B-4B92-82E8-244C855D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6426-517E-4EEE-8BF0-BE403036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3AFBAF-5796-4945-9665-94B53E0A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7A849C-8A0E-4DF9-A58B-084B9896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7BD9CB-644B-4663-B7CA-345D1DBC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5B52C1-832F-47F2-83E0-EAF6EA57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535F2F-EE85-4A8C-890D-B6DC2C9E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ED3383-3778-4B0F-9DC5-3164F407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B6F67E-55AD-4242-9BE8-A487F4B0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DBC86A-1010-47F6-A95A-81BA7793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D878B1-6CC1-448A-905E-8A1542BA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8BD0E9-37EF-46F5-B9C3-BFFFEF60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ECF0-ECFB-49F9-AC2F-FC980E25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1313F1-05C9-4F11-9B77-1EEF63E9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4A172F-54CA-42C9-BA2E-E811A3E1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9828ED-DAFA-48E2-95D5-AD2F79D5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CF44EA-1F2D-40D4-8BCE-604FF556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392D5B-9E0B-43CE-8354-40A2041C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3A8392-32F9-42A4-B588-555506F5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BC8F99-D65C-4871-A69B-DA61F665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1A78A0-25CB-4C13-91A4-5B6ED6F0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6D3CBC-9EA6-4D81-ADB3-B4CAB539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244844-5342-4BF1-9F01-EE71F29A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7CFE-0854-4FED-B8C0-40EFDFED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D9E1F2-E6ED-48A3-B0B3-AEEDB75E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5A297A-9A5B-4F08-B584-035E7883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A62685-DF54-4E65-875B-087D759C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A8A00D-5394-40A3-8378-ADA6B8B1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666674-D798-481D-98E2-D0093A3A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863E9A-BAE5-4E1F-9EA8-29CE349D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856977-26B2-4114-AABF-87FC02AE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7CBD09-8AC3-4061-9322-BD0AF940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C7B6BE-2B74-4194-B901-7E40BA54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CF8A35-DA71-4751-979A-5CA1E3F2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CBE062-B6C4-432B-B309-1455D5CF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EB1301-86D0-443C-8BE6-D2191132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368417-BA6C-43F2-8779-7885C63E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8144B4-5880-4011-BF28-55D48C30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9B55F9-EF2F-4E06-89B6-15F8C738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43CCD9-4270-4BCD-92CC-EB4F8851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73B212-B48A-4170-8117-49F3E591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5BAF23-6B58-4DAE-B8A3-807A967C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7C02E8-BA15-413B-9DE7-CD9EB5E0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8F1D2B-741F-49C6-A4E0-066D5D29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19CF1F-9428-46AF-8CAE-FB354BAE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606A43-333C-4C41-81F0-BE523B05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F7173B-76AE-488F-BA1C-CA6605B5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7450F9-EA8B-426C-9967-9CA660FD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2CE859-B192-4050-9B1F-BE9B2523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F4CCF7-69F3-42D5-AF7B-EE7DEC93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E88BCB-D0FA-4F01-932D-B5D56C9F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982ED7-DAC7-4FC0-9E75-7F430929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C951DD-5009-4425-BFF8-B01BEE80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0F3649-AD69-4594-8FD5-21E3FEAC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6DFD5C-DFEF-45CB-B3CE-83A847BA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7541A0-A96A-4F7B-86D4-ADA95A98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BA6227-AE71-4F89-BC89-589493F6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2A098E-8A6A-44E7-AE92-B6F8FC77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F15520-5AFA-4EAD-B790-03F16ABA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2B8C1F-BB65-468A-8E3E-12347939B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FC35FD-3B22-414E-9DDD-87B1BB41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0B49EC2-026F-429D-A2B7-D26D7B31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6B5AC44-5694-4F00-B5A8-D8422AD9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2C0F9F9-D61F-4FD4-873F-D65F10D5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3B70641-BE00-4248-AA3D-EA4F6BFB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A2DE4D7-57A3-4B16-8258-E3161CA2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46747DF-9252-497E-8132-69D28593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C425F52-6DD5-4280-9734-E2F7D186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8C3520-0ABB-41E0-9A7A-28A9B933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BA8267-613C-49AB-9EB2-6CDCBB6E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3D37838-5092-4048-9560-47B4E822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BA7330D-E391-47A0-8DE3-BA2C6085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AEC96BF-A997-4389-8993-93BD783C2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15AF-B6D8-4306-AD5E-48169B4D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C69F-C2A8-4A80-A27D-FD399E90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979F-0502-4AB6-8FDB-5D6225D3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EE60-DC8A-46D6-A9A7-798F49F2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FFF5-6BC2-446A-808C-475EA700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4DED-35E3-4B3C-A9C4-320B53D8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4A5E-FAA5-4051-9E34-F70E3ECB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FB8C-657B-48FA-8F23-6A564518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3B0D-BC7F-4F99-9549-8EAD9014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A813-67C3-484C-8546-205354D4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F6C1-206C-4F92-A8EF-9995FDE6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F890-97FC-4B3E-9C1A-D8D88A9D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DF23-3520-480A-B5AD-CEFFFA0B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BDA6-AB35-4AAE-BCB6-BF4232D8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265F9-E346-4FEF-BF2C-86C0F72F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31859-3B41-41A0-981A-B1BD22BD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FBBEF-8E74-48F6-A04F-28A07F22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DAE6-DD55-4B9F-AA5D-BF89A65F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A145C-51F2-4EAF-925D-A69D00DC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3D152-FBF2-4122-A07D-654F2067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BA2B4-1FBC-44F9-82E0-EB9EEEC9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40B5D-9191-490A-B8F5-B1731BB7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01015-A732-4B34-955C-A6EA5895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AC1CF-5F46-4A2B-9B5F-B1642F57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FC894-4536-484A-AE1E-78CC2F2A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792EE-B8D2-4644-8C8F-2BA22031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C66AA-CEF5-48D2-B4EB-3C54A109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4404-10A5-4C3C-BA9D-B55EE5B4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A56C-2B65-4C40-A3D6-DA581E3E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B96A6F-D3FF-4AD8-AB30-FB89F06F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4740F0-B738-46F2-8EA7-993D1E7A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A390D1-7CA5-4A80-93E3-F4B29932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5D0297-6B86-48F2-84EA-969F2A2E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17D467-9BE2-4040-A343-2EF2105D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90463D-CAA8-4258-9402-6C05C0C0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720170-C019-4085-91D0-9E937884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042936-40BC-4E29-8FC9-52DD7A70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4994A7-91BB-45A5-831B-8DA7D9D0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03D0-9D32-482D-90BA-C78AA656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8CD953-73DA-4739-B4F9-3583E1A6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BA7513-5D07-4A63-98FC-B84CD0FA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714A8E-484C-4DFA-BD8B-5EB2EF88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EDBA1B-D400-440D-BA0D-F380ED96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B81D66-D582-4A9C-8AFB-64C15484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9B313B-E955-46EF-A881-B489E971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B6F5AF-AC17-4582-89E4-CA444270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8FA1CC-B02D-4421-A315-5173D092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D1419F-E5CD-4190-B346-48F166CE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48AA15-253F-49A3-BE70-C5D21D29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D4CC-237C-4810-BC01-7C9A7827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546B04-C5AC-49A2-9CCF-B5A28CCA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1764A4-12AD-4FDB-8720-10B4937D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1103D5-69D9-41A9-9CF9-E24F217C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7C077F-39D6-4713-A25A-CFA47C92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E5AB8E-E443-44CA-811F-942DA32E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103A4E-688B-40A3-B867-45465198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57AA79-6B87-4EF3-A875-323A1622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FB8EFD-A584-44AC-8EEE-B34E0ABF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62C14D-C89B-4C49-971E-76530B37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E442B6-CDA0-45D9-9B0C-BED5138A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F8FB-8159-41D3-890C-FB917AB4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42C6DB-12FD-4D90-9AD3-DD4D8C0A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2960A0-2B4C-4DFE-8FB6-497FFA51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802987-3D10-4758-9F7A-763E1F46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5A7D76-1804-4104-95F7-34576E54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F176B5-DB42-4A5F-937C-32617A78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92617C-ED53-477B-B0FA-F87D3636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A2585B-C167-41CB-92E5-FCEDA713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7854BD-EF70-40BA-884E-0ED6783B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ED38FA-DF16-4F80-8621-AB698539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D36DA6-BA4E-4041-ABAA-C1444194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image" Target="../media/image8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1000e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100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9D18-C779-42C5-8687-6A37FF1E0667}" type="datetime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9878-87B9-4B96-92E1-E6BF9075721D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4"/>
          <p:cNvGrpSpPr/>
          <p:nvPr/>
        </p:nvGrpSpPr>
        <p:grpSpPr>
          <a:xfrm>
            <a:off x="-27000" y="0"/>
            <a:ext cx="9170280" cy="647640"/>
            <a:chOff x="-27000" y="0"/>
            <a:chExt cx="9170280" cy="647640"/>
          </a:xfrm>
        </p:grpSpPr>
        <p:grpSp>
          <p:nvGrpSpPr>
            <p:cNvPr id="5" name="Group 5"/>
            <p:cNvGrpSpPr/>
            <p:nvPr/>
          </p:nvGrpSpPr>
          <p:grpSpPr>
            <a:xfrm>
              <a:off x="-27000" y="3240"/>
              <a:ext cx="9170280" cy="644040"/>
              <a:chOff x="-27000" y="3240"/>
              <a:chExt cx="9170280" cy="644040"/>
            </a:xfrm>
          </p:grpSpPr>
          <p:grpSp>
            <p:nvGrpSpPr>
              <p:cNvPr id="6" name="Group 6"/>
              <p:cNvGrpSpPr/>
              <p:nvPr/>
            </p:nvGrpSpPr>
            <p:grpSpPr>
              <a:xfrm>
                <a:off x="3960" y="3240"/>
                <a:ext cx="9139320" cy="644040"/>
                <a:chOff x="3960" y="3240"/>
                <a:chExt cx="9139320" cy="644040"/>
              </a:xfrm>
            </p:grpSpPr>
            <p:sp>
              <p:nvSpPr>
                <p:cNvPr id="7" name="Rectangle 7"/>
                <p:cNvSpPr/>
                <p:nvPr/>
              </p:nvSpPr>
              <p:spPr>
                <a:xfrm>
                  <a:off x="3960" y="3240"/>
                  <a:ext cx="9134280" cy="207360"/>
                </a:xfrm>
                <a:prstGeom prst="rect">
                  <a:avLst/>
                </a:prstGeom>
                <a:solidFill>
                  <a:srgbClr val="7c7f87"/>
                </a:solidFill>
                <a:ln w="9360">
                  <a:solidFill>
                    <a:srgbClr val="7c7f8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buClr>
                      <a:srgbClr val="ffffff"/>
                    </a:buClr>
                    <a:buSzPct val="7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7c7f87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8"/>
                <p:cNvSpPr/>
                <p:nvPr/>
              </p:nvSpPr>
              <p:spPr>
                <a:xfrm>
                  <a:off x="6840" y="223560"/>
                  <a:ext cx="9136440" cy="207360"/>
                </a:xfrm>
                <a:prstGeom prst="rect">
                  <a:avLst/>
                </a:prstGeom>
                <a:solidFill>
                  <a:srgbClr val="d1000e"/>
                </a:solidFill>
                <a:ln w="9360">
                  <a:solidFill>
                    <a:srgbClr val="d1000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buClr>
                      <a:srgbClr val="ffffff"/>
                    </a:buClr>
                    <a:buSzPct val="7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7c7f87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9"/>
                <p:cNvSpPr/>
                <p:nvPr/>
              </p:nvSpPr>
              <p:spPr>
                <a:xfrm>
                  <a:off x="3960" y="439920"/>
                  <a:ext cx="9134280" cy="207360"/>
                </a:xfrm>
                <a:prstGeom prst="rect">
                  <a:avLst/>
                </a:prstGeom>
                <a:solidFill>
                  <a:srgbClr val="bcbcbc"/>
                </a:solidFill>
                <a:ln w="936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buClr>
                      <a:srgbClr val="ffffff"/>
                    </a:buClr>
                    <a:buSzPct val="7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7c7f8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" name="Line 10"/>
              <p:cNvSpPr/>
              <p:nvPr/>
            </p:nvSpPr>
            <p:spPr>
              <a:xfrm>
                <a:off x="-27000" y="220680"/>
                <a:ext cx="91594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7c7f87"/>
                  </a:solidFill>
                  <a:latin typeface="Arial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>
                <a:off x="-18360" y="430200"/>
                <a:ext cx="91616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7c7f87"/>
                  </a:solidFill>
                  <a:latin typeface="Arial"/>
                </a:endParaRPr>
              </a:p>
            </p:txBody>
          </p:sp>
        </p:grpSp>
        <p:pic>
          <p:nvPicPr>
            <p:cNvPr id="12" name="Picture 12" descr=""/>
            <p:cNvPicPr/>
            <p:nvPr/>
          </p:nvPicPr>
          <p:blipFill>
            <a:blip r:embed="rId5"/>
            <a:stretch/>
          </p:blipFill>
          <p:spPr>
            <a:xfrm>
              <a:off x="222480" y="0"/>
              <a:ext cx="855720" cy="64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TextBox 28"/>
          <p:cNvSpPr/>
          <p:nvPr/>
        </p:nvSpPr>
        <p:spPr>
          <a:xfrm>
            <a:off x="1285920" y="13032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Hrvatski zavod za zapošljavanje</a:t>
            </a:r>
            <a:endParaRPr b="0" lang="en-US" sz="1800" spc="-1" strike="noStrike">
              <a:solidFill>
                <a:srgbClr val="7c7f8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"/>
          <p:cNvPicPr/>
          <p:nvPr/>
        </p:nvPicPr>
        <p:blipFill>
          <a:blip r:embed="rId2"/>
          <a:stretch/>
        </p:blipFill>
        <p:spPr>
          <a:xfrm>
            <a:off x="0" y="428760"/>
            <a:ext cx="9144000" cy="6000480"/>
          </a:xfrm>
          <a:prstGeom prst="rect">
            <a:avLst/>
          </a:prstGeom>
          <a:ln w="0">
            <a:noFill/>
          </a:ln>
        </p:spPr>
      </p:pic>
      <p:sp>
        <p:nvSpPr>
          <p:cNvPr id="435" name="Date Placeholder 3"/>
          <p:cNvSpPr/>
          <p:nvPr/>
        </p:nvSpPr>
        <p:spPr>
          <a:xfrm>
            <a:off x="45720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436" name="Footer Placeholder 4"/>
          <p:cNvSpPr/>
          <p:nvPr/>
        </p:nvSpPr>
        <p:spPr>
          <a:xfrm>
            <a:off x="3124080" y="6500880"/>
            <a:ext cx="289584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8a"/>
                </a:solidFill>
                <a:latin typeface="Arial"/>
              </a:rPr>
              <a:t>CES DFC Provedbena radionica</a:t>
            </a:r>
            <a:endParaRPr b="0" lang="en-US" sz="10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7858080" y="6500880"/>
            <a:ext cx="9190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F266-36AA-48AD-8EF4-DAA771941A08}" type="slidenum">
              <a:rPr b="0" lang="hr-HR" sz="1000" spc="-1" strike="noStrike">
                <a:solidFill>
                  <a:srgbClr val="00008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7c7f87"/>
              </a:solidFill>
              <a:latin typeface="Arial"/>
            </a:endParaRPr>
          </a:p>
        </p:txBody>
      </p:sp>
      <p:pic>
        <p:nvPicPr>
          <p:cNvPr id="438" name="Picture 12" descr="ZnakHR.png"/>
          <p:cNvPicPr/>
          <p:nvPr/>
        </p:nvPicPr>
        <p:blipFill>
          <a:blip r:embed="rId3"/>
          <a:stretch/>
        </p:blipFill>
        <p:spPr>
          <a:xfrm>
            <a:off x="8001000" y="285840"/>
            <a:ext cx="882720" cy="8730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3" descr="logo_vector.tif"/>
          <p:cNvPicPr/>
          <p:nvPr/>
        </p:nvPicPr>
        <p:blipFill>
          <a:blip r:embed="rId4"/>
          <a:stretch/>
        </p:blipFill>
        <p:spPr>
          <a:xfrm>
            <a:off x="8080200" y="5786280"/>
            <a:ext cx="849600" cy="7146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http://europa.eu/abc/symbols/emblem/images/europ_flag/jaune.jpg"/>
          <p:cNvPicPr/>
          <p:nvPr/>
        </p:nvPicPr>
        <p:blipFill>
          <a:blip r:embed="rId5"/>
          <a:stretch/>
        </p:blipFill>
        <p:spPr>
          <a:xfrm>
            <a:off x="409680" y="428760"/>
            <a:ext cx="841320" cy="57132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3"/>
          </p:nvPr>
        </p:nvSpPr>
        <p:spPr>
          <a:xfrm>
            <a:off x="456840" y="6570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4"/>
          </p:nvPr>
        </p:nvSpPr>
        <p:spPr>
          <a:xfrm>
            <a:off x="3124080" y="6500520"/>
            <a:ext cx="28958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CES DFC PROVEDBENA RADIO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1DA7-D676-4C7E-8D68-02F1F6532920}" type="slidenum"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4" descr=""/>
          <p:cNvPicPr/>
          <p:nvPr/>
        </p:nvPicPr>
        <p:blipFill>
          <a:blip r:embed="rId2"/>
          <a:stretch/>
        </p:blipFill>
        <p:spPr>
          <a:xfrm>
            <a:off x="0" y="428760"/>
            <a:ext cx="9144000" cy="6000480"/>
          </a:xfrm>
          <a:prstGeom prst="rect">
            <a:avLst/>
          </a:prstGeom>
          <a:ln w="0">
            <a:noFill/>
          </a:ln>
        </p:spPr>
      </p:pic>
      <p:sp>
        <p:nvSpPr>
          <p:cNvPr id="483" name="Date Placeholder 3"/>
          <p:cNvSpPr/>
          <p:nvPr/>
        </p:nvSpPr>
        <p:spPr>
          <a:xfrm>
            <a:off x="45720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484" name="Footer Placeholder 4"/>
          <p:cNvSpPr/>
          <p:nvPr/>
        </p:nvSpPr>
        <p:spPr>
          <a:xfrm>
            <a:off x="3124080" y="6500880"/>
            <a:ext cx="289584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8a"/>
                </a:solidFill>
                <a:latin typeface="Arial"/>
              </a:rPr>
              <a:t>CES DFC Provedbena radionica</a:t>
            </a:r>
            <a:endParaRPr b="0" lang="en-US" sz="10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485" name="Slide Number Placeholder 5"/>
          <p:cNvSpPr/>
          <p:nvPr/>
        </p:nvSpPr>
        <p:spPr>
          <a:xfrm>
            <a:off x="7858080" y="6500880"/>
            <a:ext cx="9190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A9F3-B25A-408D-86F9-7ECE3DB337BC}" type="slidenum">
              <a:rPr b="0" lang="hr-HR" sz="1000" spc="-1" strike="noStrike">
                <a:solidFill>
                  <a:srgbClr val="00008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7c7f87"/>
              </a:solidFill>
              <a:latin typeface="Arial"/>
            </a:endParaRPr>
          </a:p>
        </p:txBody>
      </p:sp>
      <p:pic>
        <p:nvPicPr>
          <p:cNvPr id="486" name="Picture 12" descr="ZnakHR.png"/>
          <p:cNvPicPr/>
          <p:nvPr/>
        </p:nvPicPr>
        <p:blipFill>
          <a:blip r:embed="rId3"/>
          <a:stretch/>
        </p:blipFill>
        <p:spPr>
          <a:xfrm>
            <a:off x="8001000" y="285840"/>
            <a:ext cx="882720" cy="873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3" descr="logo_vector.tif"/>
          <p:cNvPicPr/>
          <p:nvPr/>
        </p:nvPicPr>
        <p:blipFill>
          <a:blip r:embed="rId4"/>
          <a:stretch/>
        </p:blipFill>
        <p:spPr>
          <a:xfrm>
            <a:off x="8080200" y="5786280"/>
            <a:ext cx="849600" cy="7146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http://europa.eu/abc/symbols/emblem/images/europ_flag/jaune.jpg"/>
          <p:cNvPicPr/>
          <p:nvPr/>
        </p:nvPicPr>
        <p:blipFill>
          <a:blip r:embed="rId5"/>
          <a:stretch/>
        </p:blipFill>
        <p:spPr>
          <a:xfrm>
            <a:off x="409680" y="428760"/>
            <a:ext cx="841320" cy="57132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26"/>
          </p:nvPr>
        </p:nvSpPr>
        <p:spPr>
          <a:xfrm>
            <a:off x="456840" y="6570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27"/>
          </p:nvPr>
        </p:nvSpPr>
        <p:spPr>
          <a:xfrm>
            <a:off x="3124080" y="6500520"/>
            <a:ext cx="28958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CES DFC PROVEDBENA RADIO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B752-D1D1-497F-A128-E176998C02AF}" type="slidenum"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4" descr=""/>
          <p:cNvPicPr/>
          <p:nvPr/>
        </p:nvPicPr>
        <p:blipFill>
          <a:blip r:embed="rId2"/>
          <a:stretch/>
        </p:blipFill>
        <p:spPr>
          <a:xfrm>
            <a:off x="0" y="428760"/>
            <a:ext cx="9144000" cy="6000480"/>
          </a:xfrm>
          <a:prstGeom prst="rect">
            <a:avLst/>
          </a:prstGeom>
          <a:ln w="0">
            <a:noFill/>
          </a:ln>
        </p:spPr>
      </p:pic>
      <p:sp>
        <p:nvSpPr>
          <p:cNvPr id="531" name="Date Placeholder 3"/>
          <p:cNvSpPr/>
          <p:nvPr/>
        </p:nvSpPr>
        <p:spPr>
          <a:xfrm>
            <a:off x="45720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532" name="Footer Placeholder 4"/>
          <p:cNvSpPr/>
          <p:nvPr/>
        </p:nvSpPr>
        <p:spPr>
          <a:xfrm>
            <a:off x="3124080" y="6500880"/>
            <a:ext cx="289584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8a"/>
                </a:solidFill>
                <a:latin typeface="Arial"/>
              </a:rPr>
              <a:t>CES DFC Provedbena radionica</a:t>
            </a:r>
            <a:endParaRPr b="0" lang="en-US" sz="10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533" name="Slide Number Placeholder 5"/>
          <p:cNvSpPr/>
          <p:nvPr/>
        </p:nvSpPr>
        <p:spPr>
          <a:xfrm>
            <a:off x="7858080" y="6500880"/>
            <a:ext cx="9190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4EA9-972B-4C86-A779-2C7EFDC0002E}" type="slidenum">
              <a:rPr b="0" lang="hr-HR" sz="1000" spc="-1" strike="noStrike">
                <a:solidFill>
                  <a:srgbClr val="00008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7c7f87"/>
              </a:solidFill>
              <a:latin typeface="Arial"/>
            </a:endParaRPr>
          </a:p>
        </p:txBody>
      </p:sp>
      <p:pic>
        <p:nvPicPr>
          <p:cNvPr id="534" name="Picture 12" descr="ZnakHR.png"/>
          <p:cNvPicPr/>
          <p:nvPr/>
        </p:nvPicPr>
        <p:blipFill>
          <a:blip r:embed="rId3"/>
          <a:stretch/>
        </p:blipFill>
        <p:spPr>
          <a:xfrm>
            <a:off x="8001000" y="285840"/>
            <a:ext cx="882720" cy="8730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3" descr="logo_vector.tif"/>
          <p:cNvPicPr/>
          <p:nvPr/>
        </p:nvPicPr>
        <p:blipFill>
          <a:blip r:embed="rId4"/>
          <a:stretch/>
        </p:blipFill>
        <p:spPr>
          <a:xfrm>
            <a:off x="8080200" y="5786280"/>
            <a:ext cx="849600" cy="7146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" descr="http://europa.eu/abc/symbols/emblem/images/europ_flag/jaune.jpg"/>
          <p:cNvPicPr/>
          <p:nvPr/>
        </p:nvPicPr>
        <p:blipFill>
          <a:blip r:embed="rId5"/>
          <a:stretch/>
        </p:blipFill>
        <p:spPr>
          <a:xfrm>
            <a:off x="409680" y="428760"/>
            <a:ext cx="841320" cy="57132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29"/>
          </p:nvPr>
        </p:nvSpPr>
        <p:spPr>
          <a:xfrm>
            <a:off x="456840" y="6570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0"/>
          </p:nvPr>
        </p:nvSpPr>
        <p:spPr>
          <a:xfrm>
            <a:off x="3124080" y="6500520"/>
            <a:ext cx="28958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CES DFC PROVEDBENA RADIO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E335-0CA8-44B6-9D07-0848326D8FC8}" type="slidenum"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4" descr=""/>
          <p:cNvPicPr/>
          <p:nvPr/>
        </p:nvPicPr>
        <p:blipFill>
          <a:blip r:embed="rId2"/>
          <a:stretch/>
        </p:blipFill>
        <p:spPr>
          <a:xfrm>
            <a:off x="0" y="428760"/>
            <a:ext cx="9144000" cy="6000480"/>
          </a:xfrm>
          <a:prstGeom prst="rect">
            <a:avLst/>
          </a:prstGeom>
          <a:ln w="0">
            <a:noFill/>
          </a:ln>
        </p:spPr>
      </p:pic>
      <p:sp>
        <p:nvSpPr>
          <p:cNvPr id="579" name="Date Placeholder 3"/>
          <p:cNvSpPr/>
          <p:nvPr/>
        </p:nvSpPr>
        <p:spPr>
          <a:xfrm>
            <a:off x="45720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580" name="Footer Placeholder 4"/>
          <p:cNvSpPr/>
          <p:nvPr/>
        </p:nvSpPr>
        <p:spPr>
          <a:xfrm>
            <a:off x="3124080" y="6500880"/>
            <a:ext cx="289584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8a"/>
                </a:solidFill>
                <a:latin typeface="Arial"/>
              </a:rPr>
              <a:t>CES DFC Provedbena radionica</a:t>
            </a:r>
            <a:endParaRPr b="0" lang="en-US" sz="10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581" name="Slide Number Placeholder 5"/>
          <p:cNvSpPr/>
          <p:nvPr/>
        </p:nvSpPr>
        <p:spPr>
          <a:xfrm>
            <a:off x="7858080" y="6500880"/>
            <a:ext cx="9190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1105-1807-4E80-8C57-4EBA12E22506}" type="slidenum">
              <a:rPr b="0" lang="hr-HR" sz="1000" spc="-1" strike="noStrike">
                <a:solidFill>
                  <a:srgbClr val="00008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7c7f87"/>
              </a:solidFill>
              <a:latin typeface="Arial"/>
            </a:endParaRPr>
          </a:p>
        </p:txBody>
      </p:sp>
      <p:pic>
        <p:nvPicPr>
          <p:cNvPr id="582" name="Picture 12" descr="ZnakHR.png"/>
          <p:cNvPicPr/>
          <p:nvPr/>
        </p:nvPicPr>
        <p:blipFill>
          <a:blip r:embed="rId3"/>
          <a:stretch/>
        </p:blipFill>
        <p:spPr>
          <a:xfrm>
            <a:off x="8001000" y="285840"/>
            <a:ext cx="882720" cy="8730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3" descr="logo_vector.tif"/>
          <p:cNvPicPr/>
          <p:nvPr/>
        </p:nvPicPr>
        <p:blipFill>
          <a:blip r:embed="rId4"/>
          <a:stretch/>
        </p:blipFill>
        <p:spPr>
          <a:xfrm>
            <a:off x="8080200" y="5786280"/>
            <a:ext cx="849600" cy="7146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http://europa.eu/abc/symbols/emblem/images/europ_flag/jaune.jpg"/>
          <p:cNvPicPr/>
          <p:nvPr/>
        </p:nvPicPr>
        <p:blipFill>
          <a:blip r:embed="rId5"/>
          <a:stretch/>
        </p:blipFill>
        <p:spPr>
          <a:xfrm>
            <a:off x="409680" y="428760"/>
            <a:ext cx="841320" cy="57132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32"/>
          </p:nvPr>
        </p:nvSpPr>
        <p:spPr>
          <a:xfrm>
            <a:off x="456840" y="6570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33"/>
          </p:nvPr>
        </p:nvSpPr>
        <p:spPr>
          <a:xfrm>
            <a:off x="3124080" y="6500520"/>
            <a:ext cx="28958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CES DFC PROVEDBENA RADIO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3305-BEC2-421A-9B7A-75A178F14098}" type="slidenum"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4" descr=""/>
          <p:cNvPicPr/>
          <p:nvPr/>
        </p:nvPicPr>
        <p:blipFill>
          <a:blip r:embed="rId2"/>
          <a:stretch/>
        </p:blipFill>
        <p:spPr>
          <a:xfrm>
            <a:off x="0" y="428760"/>
            <a:ext cx="9144000" cy="6000480"/>
          </a:xfrm>
          <a:prstGeom prst="rect">
            <a:avLst/>
          </a:prstGeom>
          <a:ln w="0">
            <a:noFill/>
          </a:ln>
        </p:spPr>
      </p:pic>
      <p:sp>
        <p:nvSpPr>
          <p:cNvPr id="627" name="Date Placeholder 3"/>
          <p:cNvSpPr/>
          <p:nvPr/>
        </p:nvSpPr>
        <p:spPr>
          <a:xfrm>
            <a:off x="45720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628" name="Footer Placeholder 4"/>
          <p:cNvSpPr/>
          <p:nvPr/>
        </p:nvSpPr>
        <p:spPr>
          <a:xfrm>
            <a:off x="3124080" y="6500880"/>
            <a:ext cx="289584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8a"/>
                </a:solidFill>
                <a:latin typeface="Arial"/>
              </a:rPr>
              <a:t>CES DFC Provedbena radionica</a:t>
            </a:r>
            <a:endParaRPr b="0" lang="en-US" sz="10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629" name="Slide Number Placeholder 5"/>
          <p:cNvSpPr/>
          <p:nvPr/>
        </p:nvSpPr>
        <p:spPr>
          <a:xfrm>
            <a:off x="7858080" y="6500880"/>
            <a:ext cx="9190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A671-A28E-4788-833E-3114C14C2337}" type="slidenum">
              <a:rPr b="0" lang="hr-HR" sz="1000" spc="-1" strike="noStrike">
                <a:solidFill>
                  <a:srgbClr val="00008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7c7f87"/>
              </a:solidFill>
              <a:latin typeface="Arial"/>
            </a:endParaRPr>
          </a:p>
        </p:txBody>
      </p:sp>
      <p:pic>
        <p:nvPicPr>
          <p:cNvPr id="630" name="Picture 12" descr="ZnakHR.png"/>
          <p:cNvPicPr/>
          <p:nvPr/>
        </p:nvPicPr>
        <p:blipFill>
          <a:blip r:embed="rId3"/>
          <a:stretch/>
        </p:blipFill>
        <p:spPr>
          <a:xfrm>
            <a:off x="8001000" y="285840"/>
            <a:ext cx="882720" cy="873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3" descr="logo_vector.tif"/>
          <p:cNvPicPr/>
          <p:nvPr/>
        </p:nvPicPr>
        <p:blipFill>
          <a:blip r:embed="rId4"/>
          <a:stretch/>
        </p:blipFill>
        <p:spPr>
          <a:xfrm>
            <a:off x="8080200" y="5786280"/>
            <a:ext cx="849600" cy="7146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" descr="http://europa.eu/abc/symbols/emblem/images/europ_flag/jaune.jpg"/>
          <p:cNvPicPr/>
          <p:nvPr/>
        </p:nvPicPr>
        <p:blipFill>
          <a:blip r:embed="rId5"/>
          <a:stretch/>
        </p:blipFill>
        <p:spPr>
          <a:xfrm>
            <a:off x="409680" y="428760"/>
            <a:ext cx="841320" cy="57132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dt" idx="35"/>
          </p:nvPr>
        </p:nvSpPr>
        <p:spPr>
          <a:xfrm>
            <a:off x="456840" y="6570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ftr" idx="36"/>
          </p:nvPr>
        </p:nvSpPr>
        <p:spPr>
          <a:xfrm>
            <a:off x="3124080" y="6500520"/>
            <a:ext cx="28958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CES DFC PROVEDBENA RADIO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sldNum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3F56-5543-408A-8353-8D73BEA71268}" type="slidenum"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0" y="428760"/>
            <a:ext cx="9144000" cy="6000480"/>
          </a:xfrm>
          <a:prstGeom prst="rect">
            <a:avLst/>
          </a:prstGeom>
          <a:ln w="0">
            <a:noFill/>
          </a:ln>
        </p:spPr>
      </p:pic>
      <p:sp>
        <p:nvSpPr>
          <p:cNvPr id="53" name="Date Placeholder 3"/>
          <p:cNvSpPr/>
          <p:nvPr/>
        </p:nvSpPr>
        <p:spPr>
          <a:xfrm>
            <a:off x="45720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3124080" y="6500880"/>
            <a:ext cx="289584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8a"/>
                </a:solidFill>
                <a:latin typeface="Arial"/>
              </a:rPr>
              <a:t>CES DFC Provedbena radionica</a:t>
            </a:r>
            <a:endParaRPr b="0" lang="en-US" sz="10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7858080" y="6500880"/>
            <a:ext cx="9190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70FD-D393-4F11-820F-A3C5D7C1C61A}" type="slidenum">
              <a:rPr b="0" lang="hr-HR" sz="1000" spc="-1" strike="noStrike">
                <a:solidFill>
                  <a:srgbClr val="00008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7c7f87"/>
              </a:solidFill>
              <a:latin typeface="Arial"/>
            </a:endParaRPr>
          </a:p>
        </p:txBody>
      </p:sp>
      <p:pic>
        <p:nvPicPr>
          <p:cNvPr id="56" name="Picture 12" descr="ZnakHR.png"/>
          <p:cNvPicPr/>
          <p:nvPr/>
        </p:nvPicPr>
        <p:blipFill>
          <a:blip r:embed="rId3"/>
          <a:stretch/>
        </p:blipFill>
        <p:spPr>
          <a:xfrm>
            <a:off x="8001000" y="285840"/>
            <a:ext cx="882720" cy="87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logo_vector.tif"/>
          <p:cNvPicPr/>
          <p:nvPr/>
        </p:nvPicPr>
        <p:blipFill>
          <a:blip r:embed="rId4"/>
          <a:stretch/>
        </p:blipFill>
        <p:spPr>
          <a:xfrm>
            <a:off x="8080200" y="5786280"/>
            <a:ext cx="849600" cy="714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europa.eu/abc/symbols/emblem/images/europ_flag/jaune.jpg"/>
          <p:cNvPicPr/>
          <p:nvPr/>
        </p:nvPicPr>
        <p:blipFill>
          <a:blip r:embed="rId5"/>
          <a:stretch/>
        </p:blipFill>
        <p:spPr>
          <a:xfrm>
            <a:off x="409680" y="428760"/>
            <a:ext cx="84132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44"/>
          <p:cNvGrpSpPr/>
          <p:nvPr/>
        </p:nvGrpSpPr>
        <p:grpSpPr>
          <a:xfrm>
            <a:off x="-27000" y="0"/>
            <a:ext cx="9170280" cy="647640"/>
            <a:chOff x="-27000" y="0"/>
            <a:chExt cx="9170280" cy="647640"/>
          </a:xfrm>
        </p:grpSpPr>
        <p:grpSp>
          <p:nvGrpSpPr>
            <p:cNvPr id="96" name="Group 45"/>
            <p:cNvGrpSpPr/>
            <p:nvPr/>
          </p:nvGrpSpPr>
          <p:grpSpPr>
            <a:xfrm>
              <a:off x="-27000" y="3240"/>
              <a:ext cx="9170280" cy="644040"/>
              <a:chOff x="-27000" y="3240"/>
              <a:chExt cx="9170280" cy="644040"/>
            </a:xfrm>
          </p:grpSpPr>
          <p:grpSp>
            <p:nvGrpSpPr>
              <p:cNvPr id="97" name="Group 47"/>
              <p:cNvGrpSpPr/>
              <p:nvPr/>
            </p:nvGrpSpPr>
            <p:grpSpPr>
              <a:xfrm>
                <a:off x="3960" y="3240"/>
                <a:ext cx="9139320" cy="644040"/>
                <a:chOff x="3960" y="3240"/>
                <a:chExt cx="9139320" cy="644040"/>
              </a:xfrm>
            </p:grpSpPr>
            <p:sp>
              <p:nvSpPr>
                <p:cNvPr id="98" name="Rectangle 7"/>
                <p:cNvSpPr/>
                <p:nvPr/>
              </p:nvSpPr>
              <p:spPr>
                <a:xfrm>
                  <a:off x="3960" y="3240"/>
                  <a:ext cx="9134280" cy="207360"/>
                </a:xfrm>
                <a:prstGeom prst="rect">
                  <a:avLst/>
                </a:prstGeom>
                <a:solidFill>
                  <a:srgbClr val="7c7f87"/>
                </a:solidFill>
                <a:ln w="9360">
                  <a:solidFill>
                    <a:srgbClr val="7c7f8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buClr>
                      <a:srgbClr val="ffffff"/>
                    </a:buClr>
                    <a:buSzPct val="7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7c7f87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8"/>
                <p:cNvSpPr/>
                <p:nvPr/>
              </p:nvSpPr>
              <p:spPr>
                <a:xfrm>
                  <a:off x="6840" y="223560"/>
                  <a:ext cx="9136440" cy="207360"/>
                </a:xfrm>
                <a:prstGeom prst="rect">
                  <a:avLst/>
                </a:prstGeom>
                <a:solidFill>
                  <a:srgbClr val="d1000e"/>
                </a:solidFill>
                <a:ln w="9360">
                  <a:solidFill>
                    <a:srgbClr val="d1000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buClr>
                      <a:srgbClr val="ffffff"/>
                    </a:buClr>
                    <a:buSzPct val="7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7c7f87"/>
                    </a:solidFill>
                    <a:latin typeface="Arial"/>
                  </a:endParaRPr>
                </a:p>
              </p:txBody>
            </p:sp>
            <p:sp>
              <p:nvSpPr>
                <p:cNvPr id="100" name="Rectangle 9"/>
                <p:cNvSpPr/>
                <p:nvPr/>
              </p:nvSpPr>
              <p:spPr>
                <a:xfrm>
                  <a:off x="3960" y="439920"/>
                  <a:ext cx="9134280" cy="207360"/>
                </a:xfrm>
                <a:prstGeom prst="rect">
                  <a:avLst/>
                </a:prstGeom>
                <a:solidFill>
                  <a:srgbClr val="bcbcbc"/>
                </a:solidFill>
                <a:ln w="936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buClr>
                      <a:srgbClr val="ffffff"/>
                    </a:buClr>
                    <a:buSzPct val="7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7c7f8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Line 10"/>
              <p:cNvSpPr/>
              <p:nvPr/>
            </p:nvSpPr>
            <p:spPr>
              <a:xfrm>
                <a:off x="-27000" y="220680"/>
                <a:ext cx="91594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7c7f87"/>
                  </a:solidFill>
                  <a:latin typeface="Arial"/>
                </a:endParaRPr>
              </a:p>
            </p:txBody>
          </p:sp>
          <p:sp>
            <p:nvSpPr>
              <p:cNvPr id="102" name="Line 11"/>
              <p:cNvSpPr/>
              <p:nvPr/>
            </p:nvSpPr>
            <p:spPr>
              <a:xfrm>
                <a:off x="-18360" y="430200"/>
                <a:ext cx="91616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7c7f87"/>
                  </a:solidFill>
                  <a:latin typeface="Arial"/>
                </a:endParaRPr>
              </a:p>
            </p:txBody>
          </p:sp>
        </p:grpSp>
        <p:pic>
          <p:nvPicPr>
            <p:cNvPr id="103" name="Picture 12" descr=""/>
            <p:cNvPicPr/>
            <p:nvPr/>
          </p:nvPicPr>
          <p:blipFill>
            <a:blip r:embed="rId2"/>
            <a:stretch/>
          </p:blipFill>
          <p:spPr>
            <a:xfrm>
              <a:off x="222480" y="0"/>
              <a:ext cx="855720" cy="64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TextBox 12"/>
          <p:cNvSpPr/>
          <p:nvPr/>
        </p:nvSpPr>
        <p:spPr>
          <a:xfrm>
            <a:off x="1285920" y="142920"/>
            <a:ext cx="65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Hrvatski zavod za zapošljavanje</a:t>
            </a:r>
            <a:endParaRPr b="0" lang="en-US" sz="16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1000e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100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FFED-E566-4D11-A311-C1144C3EBF30}" type="datetime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9735-D75D-49AA-8491-6A815E4298F2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4"/>
          <p:cNvGrpSpPr/>
          <p:nvPr/>
        </p:nvGrpSpPr>
        <p:grpSpPr>
          <a:xfrm>
            <a:off x="-27000" y="0"/>
            <a:ext cx="9170280" cy="647640"/>
            <a:chOff x="-27000" y="0"/>
            <a:chExt cx="9170280" cy="647640"/>
          </a:xfrm>
        </p:grpSpPr>
        <p:grpSp>
          <p:nvGrpSpPr>
            <p:cNvPr id="147" name="Group 5"/>
            <p:cNvGrpSpPr/>
            <p:nvPr/>
          </p:nvGrpSpPr>
          <p:grpSpPr>
            <a:xfrm>
              <a:off x="-27000" y="3240"/>
              <a:ext cx="9170280" cy="644040"/>
              <a:chOff x="-27000" y="3240"/>
              <a:chExt cx="9170280" cy="644040"/>
            </a:xfrm>
          </p:grpSpPr>
          <p:grpSp>
            <p:nvGrpSpPr>
              <p:cNvPr id="148" name="Group 6"/>
              <p:cNvGrpSpPr/>
              <p:nvPr/>
            </p:nvGrpSpPr>
            <p:grpSpPr>
              <a:xfrm>
                <a:off x="3960" y="3240"/>
                <a:ext cx="9139320" cy="644040"/>
                <a:chOff x="3960" y="3240"/>
                <a:chExt cx="9139320" cy="644040"/>
              </a:xfrm>
            </p:grpSpPr>
            <p:sp>
              <p:nvSpPr>
                <p:cNvPr id="149" name="Rectangle 7"/>
                <p:cNvSpPr/>
                <p:nvPr/>
              </p:nvSpPr>
              <p:spPr>
                <a:xfrm>
                  <a:off x="3960" y="3240"/>
                  <a:ext cx="9134280" cy="207360"/>
                </a:xfrm>
                <a:prstGeom prst="rect">
                  <a:avLst/>
                </a:prstGeom>
                <a:solidFill>
                  <a:srgbClr val="7c7f87"/>
                </a:solidFill>
                <a:ln w="9360">
                  <a:solidFill>
                    <a:srgbClr val="7c7f8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buClr>
                      <a:srgbClr val="ffffff"/>
                    </a:buClr>
                    <a:buSzPct val="7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7c7f87"/>
                    </a:solidFill>
                    <a:latin typeface="Arial"/>
                  </a:endParaRPr>
                </a:p>
              </p:txBody>
            </p:sp>
            <p:sp>
              <p:nvSpPr>
                <p:cNvPr id="150" name="Rectangle 8"/>
                <p:cNvSpPr/>
                <p:nvPr/>
              </p:nvSpPr>
              <p:spPr>
                <a:xfrm>
                  <a:off x="6840" y="223560"/>
                  <a:ext cx="9136440" cy="207360"/>
                </a:xfrm>
                <a:prstGeom prst="rect">
                  <a:avLst/>
                </a:prstGeom>
                <a:solidFill>
                  <a:srgbClr val="d1000e"/>
                </a:solidFill>
                <a:ln w="9360">
                  <a:solidFill>
                    <a:srgbClr val="d1000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buClr>
                      <a:srgbClr val="ffffff"/>
                    </a:buClr>
                    <a:buSzPct val="7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7c7f87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9"/>
                <p:cNvSpPr/>
                <p:nvPr/>
              </p:nvSpPr>
              <p:spPr>
                <a:xfrm>
                  <a:off x="3960" y="439920"/>
                  <a:ext cx="9134280" cy="207360"/>
                </a:xfrm>
                <a:prstGeom prst="rect">
                  <a:avLst/>
                </a:prstGeom>
                <a:solidFill>
                  <a:srgbClr val="bcbcbc"/>
                </a:solidFill>
                <a:ln w="936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buClr>
                      <a:srgbClr val="ffffff"/>
                    </a:buClr>
                    <a:buSzPct val="7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7c7f8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" name="Line 10"/>
              <p:cNvSpPr/>
              <p:nvPr/>
            </p:nvSpPr>
            <p:spPr>
              <a:xfrm>
                <a:off x="-27000" y="220680"/>
                <a:ext cx="91594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7c7f87"/>
                  </a:solidFill>
                  <a:latin typeface="Arial"/>
                </a:endParaRPr>
              </a:p>
            </p:txBody>
          </p:sp>
          <p:sp>
            <p:nvSpPr>
              <p:cNvPr id="153" name="Line 11"/>
              <p:cNvSpPr/>
              <p:nvPr/>
            </p:nvSpPr>
            <p:spPr>
              <a:xfrm>
                <a:off x="-18360" y="430200"/>
                <a:ext cx="91616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7c7f87"/>
                  </a:solidFill>
                  <a:latin typeface="Arial"/>
                </a:endParaRPr>
              </a:p>
            </p:txBody>
          </p:sp>
        </p:grpSp>
        <p:pic>
          <p:nvPicPr>
            <p:cNvPr id="154" name="Picture 12" descr=""/>
            <p:cNvPicPr/>
            <p:nvPr/>
          </p:nvPicPr>
          <p:blipFill>
            <a:blip r:embed="rId2"/>
            <a:stretch/>
          </p:blipFill>
          <p:spPr>
            <a:xfrm>
              <a:off x="222480" y="0"/>
              <a:ext cx="855720" cy="64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TextBox 28"/>
          <p:cNvSpPr/>
          <p:nvPr/>
        </p:nvSpPr>
        <p:spPr>
          <a:xfrm>
            <a:off x="1285920" y="13032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Hrvatski zavod za zapošljavanje</a:t>
            </a:r>
            <a:endParaRPr b="0" lang="en-US" sz="18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1000e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100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58F7-FC67-486E-A41B-669E4901D255}" type="datetime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ahoma"/>
              </a:rPr>
              <a:t>Hrvatski zavod za zapošljavanje  Područna služba Osij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657D-21D7-4904-9DC2-A1196E67827A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2"/>
          <a:stretch/>
        </p:blipFill>
        <p:spPr>
          <a:xfrm>
            <a:off x="0" y="428760"/>
            <a:ext cx="9144000" cy="6000480"/>
          </a:xfrm>
          <a:prstGeom prst="rect">
            <a:avLst/>
          </a:prstGeom>
          <a:ln w="0">
            <a:noFill/>
          </a:ln>
        </p:spPr>
      </p:pic>
      <p:sp>
        <p:nvSpPr>
          <p:cNvPr id="197" name="Date Placeholder 3"/>
          <p:cNvSpPr/>
          <p:nvPr/>
        </p:nvSpPr>
        <p:spPr>
          <a:xfrm>
            <a:off x="45720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7858080" y="6500880"/>
            <a:ext cx="9190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c7f87"/>
              </a:solidFill>
              <a:latin typeface="Arial"/>
            </a:endParaRPr>
          </a:p>
        </p:txBody>
      </p:sp>
      <p:pic>
        <p:nvPicPr>
          <p:cNvPr id="199" name="Picture 12" descr="ZnakHR.png"/>
          <p:cNvPicPr/>
          <p:nvPr/>
        </p:nvPicPr>
        <p:blipFill>
          <a:blip r:embed="rId3"/>
          <a:stretch/>
        </p:blipFill>
        <p:spPr>
          <a:xfrm>
            <a:off x="8001000" y="285840"/>
            <a:ext cx="882720" cy="873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3" descr="logo_vector.tif"/>
          <p:cNvPicPr/>
          <p:nvPr/>
        </p:nvPicPr>
        <p:blipFill>
          <a:blip r:embed="rId4"/>
          <a:stretch/>
        </p:blipFill>
        <p:spPr>
          <a:xfrm>
            <a:off x="7956720" y="6165720"/>
            <a:ext cx="718920" cy="604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http://europa.eu/abc/symbols/emblem/images/europ_flag/jaune.jpg"/>
          <p:cNvPicPr/>
          <p:nvPr/>
        </p:nvPicPr>
        <p:blipFill>
          <a:blip r:embed="rId5"/>
          <a:stretch/>
        </p:blipFill>
        <p:spPr>
          <a:xfrm>
            <a:off x="409680" y="428760"/>
            <a:ext cx="841320" cy="5713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5" descr="logo"/>
          <p:cNvPicPr/>
          <p:nvPr/>
        </p:nvPicPr>
        <p:blipFill>
          <a:blip r:embed="rId6"/>
          <a:srcRect l="0" t="0" r="0" b="38192"/>
          <a:stretch/>
        </p:blipFill>
        <p:spPr>
          <a:xfrm>
            <a:off x="54000" y="6234120"/>
            <a:ext cx="1709640" cy="4698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570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c7f8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"/>
          <p:cNvPicPr/>
          <p:nvPr/>
        </p:nvPicPr>
        <p:blipFill>
          <a:blip r:embed="rId2"/>
          <a:stretch/>
        </p:blipFill>
        <p:spPr>
          <a:xfrm>
            <a:off x="0" y="428760"/>
            <a:ext cx="9144000" cy="6000480"/>
          </a:xfrm>
          <a:prstGeom prst="rect">
            <a:avLst/>
          </a:prstGeom>
          <a:ln w="0">
            <a:noFill/>
          </a:ln>
        </p:spPr>
      </p:pic>
      <p:sp>
        <p:nvSpPr>
          <p:cNvPr id="243" name="Date Placeholder 3"/>
          <p:cNvSpPr/>
          <p:nvPr/>
        </p:nvSpPr>
        <p:spPr>
          <a:xfrm>
            <a:off x="45720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3124080" y="6500880"/>
            <a:ext cx="289584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8a"/>
                </a:solidFill>
                <a:latin typeface="Arial"/>
              </a:rPr>
              <a:t>CES DFC Provedbena radionica</a:t>
            </a:r>
            <a:endParaRPr b="0" lang="en-US" sz="10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7858080" y="6500880"/>
            <a:ext cx="9190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785F-5FBA-4F3E-AB32-303DA85955A0}" type="slidenum">
              <a:rPr b="0" lang="hr-HR" sz="1000" spc="-1" strike="noStrike">
                <a:solidFill>
                  <a:srgbClr val="00008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7c7f87"/>
              </a:solidFill>
              <a:latin typeface="Arial"/>
            </a:endParaRPr>
          </a:p>
        </p:txBody>
      </p:sp>
      <p:pic>
        <p:nvPicPr>
          <p:cNvPr id="246" name="Picture 12" descr="ZnakHR.png"/>
          <p:cNvPicPr/>
          <p:nvPr/>
        </p:nvPicPr>
        <p:blipFill>
          <a:blip r:embed="rId3"/>
          <a:stretch/>
        </p:blipFill>
        <p:spPr>
          <a:xfrm>
            <a:off x="8001000" y="285840"/>
            <a:ext cx="882720" cy="873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3" descr="logo_vector.tif"/>
          <p:cNvPicPr/>
          <p:nvPr/>
        </p:nvPicPr>
        <p:blipFill>
          <a:blip r:embed="rId4"/>
          <a:stretch/>
        </p:blipFill>
        <p:spPr>
          <a:xfrm>
            <a:off x="8080200" y="5786280"/>
            <a:ext cx="849600" cy="714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http://europa.eu/abc/symbols/emblem/images/europ_flag/jaune.jpg"/>
          <p:cNvPicPr/>
          <p:nvPr/>
        </p:nvPicPr>
        <p:blipFill>
          <a:blip r:embed="rId5"/>
          <a:stretch/>
        </p:blipFill>
        <p:spPr>
          <a:xfrm>
            <a:off x="409680" y="428760"/>
            <a:ext cx="841320" cy="5713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1"/>
          </p:nvPr>
        </p:nvSpPr>
        <p:spPr>
          <a:xfrm>
            <a:off x="456840" y="6570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2"/>
          </p:nvPr>
        </p:nvSpPr>
        <p:spPr>
          <a:xfrm>
            <a:off x="3124080" y="6500520"/>
            <a:ext cx="28958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CES DFC PROVEDBENA RADIO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A35E-CD47-4F54-9EFF-9A987413E4ED}" type="slidenum"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"/>
          <p:cNvPicPr/>
          <p:nvPr/>
        </p:nvPicPr>
        <p:blipFill>
          <a:blip r:embed="rId2"/>
          <a:stretch/>
        </p:blipFill>
        <p:spPr>
          <a:xfrm>
            <a:off x="0" y="428760"/>
            <a:ext cx="9144000" cy="6000480"/>
          </a:xfrm>
          <a:prstGeom prst="rect">
            <a:avLst/>
          </a:prstGeom>
          <a:ln w="0">
            <a:noFill/>
          </a:ln>
        </p:spPr>
      </p:pic>
      <p:sp>
        <p:nvSpPr>
          <p:cNvPr id="291" name="Date Placeholder 3"/>
          <p:cNvSpPr/>
          <p:nvPr/>
        </p:nvSpPr>
        <p:spPr>
          <a:xfrm>
            <a:off x="45720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292" name="Footer Placeholder 4"/>
          <p:cNvSpPr/>
          <p:nvPr/>
        </p:nvSpPr>
        <p:spPr>
          <a:xfrm>
            <a:off x="3124080" y="6500880"/>
            <a:ext cx="289584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8a"/>
                </a:solidFill>
                <a:latin typeface="Arial"/>
              </a:rPr>
              <a:t>CES DFC Provedbena radionica</a:t>
            </a:r>
            <a:endParaRPr b="0" lang="en-US" sz="10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293" name="Slide Number Placeholder 5"/>
          <p:cNvSpPr/>
          <p:nvPr/>
        </p:nvSpPr>
        <p:spPr>
          <a:xfrm>
            <a:off x="7858080" y="6500880"/>
            <a:ext cx="9190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C210-03B0-42EF-8B8B-4B4940D11002}" type="slidenum">
              <a:rPr b="0" lang="hr-HR" sz="1000" spc="-1" strike="noStrike">
                <a:solidFill>
                  <a:srgbClr val="00008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7c7f87"/>
              </a:solidFill>
              <a:latin typeface="Arial"/>
            </a:endParaRPr>
          </a:p>
        </p:txBody>
      </p:sp>
      <p:pic>
        <p:nvPicPr>
          <p:cNvPr id="294" name="Picture 12" descr="ZnakHR.png"/>
          <p:cNvPicPr/>
          <p:nvPr/>
        </p:nvPicPr>
        <p:blipFill>
          <a:blip r:embed="rId3"/>
          <a:stretch/>
        </p:blipFill>
        <p:spPr>
          <a:xfrm>
            <a:off x="8001000" y="285840"/>
            <a:ext cx="882720" cy="873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logo_vector.tif"/>
          <p:cNvPicPr/>
          <p:nvPr/>
        </p:nvPicPr>
        <p:blipFill>
          <a:blip r:embed="rId4"/>
          <a:stretch/>
        </p:blipFill>
        <p:spPr>
          <a:xfrm>
            <a:off x="8080200" y="5786280"/>
            <a:ext cx="849600" cy="714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http://europa.eu/abc/symbols/emblem/images/europ_flag/jaune.jpg"/>
          <p:cNvPicPr/>
          <p:nvPr/>
        </p:nvPicPr>
        <p:blipFill>
          <a:blip r:embed="rId5"/>
          <a:stretch/>
        </p:blipFill>
        <p:spPr>
          <a:xfrm>
            <a:off x="409680" y="428760"/>
            <a:ext cx="841320" cy="5713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4"/>
          </p:nvPr>
        </p:nvSpPr>
        <p:spPr>
          <a:xfrm>
            <a:off x="456840" y="6570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5"/>
          </p:nvPr>
        </p:nvSpPr>
        <p:spPr>
          <a:xfrm>
            <a:off x="3124080" y="6500520"/>
            <a:ext cx="28958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CES DFC PROVEDBENA RADIO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9113-575A-4A37-947B-7FEE50D61BA4}" type="slidenum"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"/>
          <p:cNvPicPr/>
          <p:nvPr/>
        </p:nvPicPr>
        <p:blipFill>
          <a:blip r:embed="rId2"/>
          <a:stretch/>
        </p:blipFill>
        <p:spPr>
          <a:xfrm>
            <a:off x="0" y="428760"/>
            <a:ext cx="9144000" cy="6000480"/>
          </a:xfrm>
          <a:prstGeom prst="rect">
            <a:avLst/>
          </a:prstGeom>
          <a:ln w="0">
            <a:noFill/>
          </a:ln>
        </p:spPr>
      </p:pic>
      <p:sp>
        <p:nvSpPr>
          <p:cNvPr id="339" name="Date Placeholder 3"/>
          <p:cNvSpPr/>
          <p:nvPr/>
        </p:nvSpPr>
        <p:spPr>
          <a:xfrm>
            <a:off x="45720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3124080" y="6500880"/>
            <a:ext cx="289584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8a"/>
                </a:solidFill>
                <a:latin typeface="Arial"/>
              </a:rPr>
              <a:t>CES DFC Provedbena radionica</a:t>
            </a:r>
            <a:endParaRPr b="0" lang="en-US" sz="10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7858080" y="6500880"/>
            <a:ext cx="9190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921B-DF66-4710-ABDC-C54A5E8CD456}" type="slidenum">
              <a:rPr b="0" lang="hr-HR" sz="1000" spc="-1" strike="noStrike">
                <a:solidFill>
                  <a:srgbClr val="00008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7c7f87"/>
              </a:solidFill>
              <a:latin typeface="Arial"/>
            </a:endParaRPr>
          </a:p>
        </p:txBody>
      </p:sp>
      <p:pic>
        <p:nvPicPr>
          <p:cNvPr id="342" name="Picture 12" descr="ZnakHR.png"/>
          <p:cNvPicPr/>
          <p:nvPr/>
        </p:nvPicPr>
        <p:blipFill>
          <a:blip r:embed="rId3"/>
          <a:stretch/>
        </p:blipFill>
        <p:spPr>
          <a:xfrm>
            <a:off x="8001000" y="285840"/>
            <a:ext cx="882720" cy="873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3" descr="logo_vector.tif"/>
          <p:cNvPicPr/>
          <p:nvPr/>
        </p:nvPicPr>
        <p:blipFill>
          <a:blip r:embed="rId4"/>
          <a:stretch/>
        </p:blipFill>
        <p:spPr>
          <a:xfrm>
            <a:off x="8080200" y="5786280"/>
            <a:ext cx="849600" cy="7146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http://europa.eu/abc/symbols/emblem/images/europ_flag/jaune.jpg"/>
          <p:cNvPicPr/>
          <p:nvPr/>
        </p:nvPicPr>
        <p:blipFill>
          <a:blip r:embed="rId5"/>
          <a:stretch/>
        </p:blipFill>
        <p:spPr>
          <a:xfrm>
            <a:off x="409680" y="428760"/>
            <a:ext cx="841320" cy="5713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17"/>
          </p:nvPr>
        </p:nvSpPr>
        <p:spPr>
          <a:xfrm>
            <a:off x="456840" y="6570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8"/>
          </p:nvPr>
        </p:nvSpPr>
        <p:spPr>
          <a:xfrm>
            <a:off x="3124080" y="6500520"/>
            <a:ext cx="28958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CES DFC PROVEDBENA RADIO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F6A6-C957-4050-844A-F7C04AF7D55D}" type="slidenum"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4" descr=""/>
          <p:cNvPicPr/>
          <p:nvPr/>
        </p:nvPicPr>
        <p:blipFill>
          <a:blip r:embed="rId2"/>
          <a:stretch/>
        </p:blipFill>
        <p:spPr>
          <a:xfrm>
            <a:off x="0" y="428760"/>
            <a:ext cx="9144000" cy="6000480"/>
          </a:xfrm>
          <a:prstGeom prst="rect">
            <a:avLst/>
          </a:prstGeom>
          <a:ln w="0">
            <a:noFill/>
          </a:ln>
        </p:spPr>
      </p:pic>
      <p:sp>
        <p:nvSpPr>
          <p:cNvPr id="387" name="Date Placeholder 3"/>
          <p:cNvSpPr/>
          <p:nvPr/>
        </p:nvSpPr>
        <p:spPr>
          <a:xfrm>
            <a:off x="45720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3124080" y="6500880"/>
            <a:ext cx="289584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8a"/>
                </a:solidFill>
                <a:latin typeface="Arial"/>
              </a:rPr>
              <a:t>CES DFC Provedbena radionica</a:t>
            </a:r>
            <a:endParaRPr b="0" lang="en-US" sz="10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389" name="Slide Number Placeholder 5"/>
          <p:cNvSpPr/>
          <p:nvPr/>
        </p:nvSpPr>
        <p:spPr>
          <a:xfrm>
            <a:off x="7858080" y="6500880"/>
            <a:ext cx="9190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D037-BC1C-49E3-ACA7-9884C2CD976D}" type="slidenum">
              <a:rPr b="0" lang="hr-HR" sz="1000" spc="-1" strike="noStrike">
                <a:solidFill>
                  <a:srgbClr val="00008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7c7f87"/>
              </a:solidFill>
              <a:latin typeface="Arial"/>
            </a:endParaRPr>
          </a:p>
        </p:txBody>
      </p:sp>
      <p:pic>
        <p:nvPicPr>
          <p:cNvPr id="390" name="Picture 12" descr="ZnakHR.png"/>
          <p:cNvPicPr/>
          <p:nvPr/>
        </p:nvPicPr>
        <p:blipFill>
          <a:blip r:embed="rId3"/>
          <a:stretch/>
        </p:blipFill>
        <p:spPr>
          <a:xfrm>
            <a:off x="8001000" y="285840"/>
            <a:ext cx="882720" cy="873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3" descr="logo_vector.tif"/>
          <p:cNvPicPr/>
          <p:nvPr/>
        </p:nvPicPr>
        <p:blipFill>
          <a:blip r:embed="rId4"/>
          <a:stretch/>
        </p:blipFill>
        <p:spPr>
          <a:xfrm>
            <a:off x="8080200" y="5786280"/>
            <a:ext cx="849600" cy="7146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http://europa.eu/abc/symbols/emblem/images/europ_flag/jaune.jpg"/>
          <p:cNvPicPr/>
          <p:nvPr/>
        </p:nvPicPr>
        <p:blipFill>
          <a:blip r:embed="rId5"/>
          <a:stretch/>
        </p:blipFill>
        <p:spPr>
          <a:xfrm>
            <a:off x="409680" y="428760"/>
            <a:ext cx="841320" cy="5713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0"/>
          </p:nvPr>
        </p:nvSpPr>
        <p:spPr>
          <a:xfrm>
            <a:off x="456840" y="6570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1"/>
          </p:nvPr>
        </p:nvSpPr>
        <p:spPr>
          <a:xfrm>
            <a:off x="3124080" y="6500520"/>
            <a:ext cx="28958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CES DFC PROVEDBENA RADIO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83EB-F85B-45AD-BBCD-BFFF07706284}" type="slidenum"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hyperlink" Target="mailto:hzz.krapina@hzz.hr" TargetMode="External"/><Relationship Id="rId3" Type="http://schemas.openxmlformats.org/officeDocument/2006/relationships/hyperlink" Target="http://www.hzz.hr/" TargetMode="External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41"/>
          <p:cNvSpPr/>
          <p:nvPr/>
        </p:nvSpPr>
        <p:spPr>
          <a:xfrm>
            <a:off x="1042920" y="2276640"/>
            <a:ext cx="7416720" cy="37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d1000e"/>
                </a:solidFill>
                <a:latin typeface="Arial"/>
              </a:rPr>
              <a:t>   </a:t>
            </a:r>
            <a:r>
              <a:rPr b="1" lang="hr-HR" sz="3200" spc="-1" strike="noStrike">
                <a:solidFill>
                  <a:srgbClr val="d1000e"/>
                </a:solidFill>
                <a:latin typeface="Arial"/>
              </a:rPr>
              <a:t>TRIBINA</a:t>
            </a:r>
            <a:endParaRPr b="0" lang="en-US" sz="3200" spc="-1" strike="noStrike">
              <a:solidFill>
                <a:srgbClr val="7c7f87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d1000e"/>
                </a:solidFill>
                <a:latin typeface="Arial"/>
              </a:rPr>
              <a:t>Zapošljavanje i EU fondovi – mogućnosti za razvoj</a:t>
            </a:r>
            <a:endParaRPr b="0" lang="en-US" sz="3200" spc="-1" strike="noStrike">
              <a:solidFill>
                <a:srgbClr val="7c7f87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c7f87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7f87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d1000e"/>
                </a:solidFill>
                <a:latin typeface="Arial"/>
              </a:rPr>
              <a:t>Mirjana Jurman, predstojnica</a:t>
            </a:r>
            <a:endParaRPr b="0" lang="en-US" sz="2000" spc="-1" strike="noStrike">
              <a:solidFill>
                <a:srgbClr val="7c7f87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d1000e"/>
                </a:solidFill>
                <a:latin typeface="Arial"/>
              </a:rPr>
              <a:t>HZZ Područni ured Krapina</a:t>
            </a:r>
            <a:endParaRPr b="0" lang="en-US" sz="2000" spc="-1" strike="noStrike">
              <a:solidFill>
                <a:srgbClr val="7c7f87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d1000e"/>
                </a:solidFill>
                <a:latin typeface="Arial"/>
              </a:rPr>
              <a:t>Pregrada, 17. siječanj 2014.</a:t>
            </a:r>
            <a:endParaRPr b="0" lang="en-US" sz="2000" spc="-1" strike="noStrike">
              <a:solidFill>
                <a:srgbClr val="7c7f87"/>
              </a:solidFill>
              <a:latin typeface="Arial"/>
            </a:endParaRPr>
          </a:p>
        </p:txBody>
      </p:sp>
      <p:pic>
        <p:nvPicPr>
          <p:cNvPr id="675" name="Picture 30" descr=""/>
          <p:cNvPicPr/>
          <p:nvPr/>
        </p:nvPicPr>
        <p:blipFill>
          <a:blip r:embed="rId1"/>
          <a:stretch/>
        </p:blipFill>
        <p:spPr>
          <a:xfrm>
            <a:off x="611280" y="795240"/>
            <a:ext cx="1433520" cy="1800360"/>
          </a:xfrm>
          <a:prstGeom prst="rect">
            <a:avLst/>
          </a:prstGeom>
          <a:ln w="0">
            <a:noFill/>
          </a:ln>
        </p:spPr>
      </p:pic>
      <p:pic>
        <p:nvPicPr>
          <p:cNvPr id="676" name="Slika 1" descr=""/>
          <p:cNvPicPr/>
          <p:nvPr/>
        </p:nvPicPr>
        <p:blipFill>
          <a:blip r:embed="rId2"/>
          <a:stretch/>
        </p:blipFill>
        <p:spPr>
          <a:xfrm>
            <a:off x="6986520" y="824040"/>
            <a:ext cx="154620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1066320" y="5373720"/>
            <a:ext cx="76820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n-NO" sz="2800" spc="-1" strike="noStrike">
                <a:solidFill>
                  <a:srgbClr val="000000"/>
                </a:solidFill>
                <a:latin typeface="Arial"/>
              </a:rPr>
              <a:t>roj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zaposlenih osoba</a:t>
            </a:r>
            <a:r>
              <a:rPr b="0" lang="nn-N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 dan 31.XII.2013. </a:t>
            </a:r>
            <a:r>
              <a:rPr b="0" lang="nn-NO" sz="2800" spc="-1" strike="noStrike">
                <a:solidFill>
                  <a:srgbClr val="000000"/>
                </a:solidFill>
                <a:latin typeface="Arial"/>
              </a:rPr>
              <a:t>= 8.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615</a:t>
            </a:r>
            <a:r>
              <a:rPr b="0" lang="nn-NO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1" lang="nn-NO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nn-NO" sz="2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u odnosu na 31.XII.2012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1071360" y="620280"/>
            <a:ext cx="7543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d1000e"/>
                </a:solidFill>
                <a:latin typeface="Arial"/>
              </a:rPr>
              <a:t>Kretanje nezaposlenosti u 2012. i 2013.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Chart 1" descr=""/>
          <p:cNvPicPr/>
          <p:nvPr/>
        </p:nvPicPr>
        <p:blipFill>
          <a:blip r:embed="rId3"/>
          <a:stretch/>
        </p:blipFill>
        <p:spPr>
          <a:xfrm>
            <a:off x="849240" y="1535040"/>
            <a:ext cx="7589880" cy="3787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 txBox="1"/>
          <p:nvPr/>
        </p:nvSpPr>
        <p:spPr>
          <a:xfrm>
            <a:off x="539280" y="6093000"/>
            <a:ext cx="828036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280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manjuje se broj korisnika NN i udio korisnika NN u ukupnom broju nezaposlenih osoba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0.11.2013. broj korisnika NN je 2.269 osoba (26,7%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755640" y="691920"/>
            <a:ext cx="81374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d1000e"/>
                </a:solidFill>
                <a:latin typeface="Arial"/>
              </a:rPr>
              <a:t>Korisnici novčane naknade i udio korisnika NN u ukupnom broju nezaposlenih (godišnji prosjek 2006.-2013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Chart 1" descr=""/>
          <p:cNvPicPr/>
          <p:nvPr/>
        </p:nvPicPr>
        <p:blipFill>
          <a:blip r:embed="rId2"/>
          <a:stretch/>
        </p:blipFill>
        <p:spPr>
          <a:xfrm>
            <a:off x="920880" y="1577880"/>
            <a:ext cx="7662600" cy="4565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ravokutnik 2"/>
          <p:cNvSpPr/>
          <p:nvPr/>
        </p:nvSpPr>
        <p:spPr>
          <a:xfrm>
            <a:off x="857160" y="714240"/>
            <a:ext cx="72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d1000e"/>
                </a:solidFill>
                <a:latin typeface="Arial"/>
              </a:rPr>
              <a:t>Osobe uključene u  Mjere aktivne politike zapošljavanja u razdoblju od 2006.-2013. g.</a:t>
            </a:r>
            <a:endParaRPr b="0" lang="en-US" sz="2800" spc="-1" strike="noStrike">
              <a:solidFill>
                <a:srgbClr val="7c7f87"/>
              </a:solidFill>
              <a:latin typeface="Arial"/>
            </a:endParaRPr>
          </a:p>
        </p:txBody>
      </p:sp>
      <p:pic>
        <p:nvPicPr>
          <p:cNvPr id="706" name="Grafikon 1" descr=""/>
          <p:cNvPicPr/>
          <p:nvPr/>
        </p:nvPicPr>
        <p:blipFill>
          <a:blip r:embed="rId1"/>
          <a:stretch/>
        </p:blipFill>
        <p:spPr>
          <a:xfrm>
            <a:off x="488880" y="1865160"/>
            <a:ext cx="8021880" cy="4494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41"/>
          <p:cNvSpPr/>
          <p:nvPr/>
        </p:nvSpPr>
        <p:spPr>
          <a:xfrm>
            <a:off x="804960" y="785880"/>
            <a:ext cx="79819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708" name="Pravokutnik 5"/>
          <p:cNvSpPr/>
          <p:nvPr/>
        </p:nvSpPr>
        <p:spPr>
          <a:xfrm>
            <a:off x="0" y="67320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d1000e"/>
                </a:solidFill>
                <a:latin typeface="Arial"/>
              </a:rPr>
              <a:t>Usporedba broja osoba po Mjerama u 2011., 2012. i 2013.</a:t>
            </a:r>
            <a:endParaRPr b="0" lang="en-US" sz="2700" spc="-1" strike="noStrike">
              <a:solidFill>
                <a:srgbClr val="7c7f87"/>
              </a:solidFill>
              <a:latin typeface="Arial"/>
            </a:endParaRPr>
          </a:p>
        </p:txBody>
      </p:sp>
      <p:pic>
        <p:nvPicPr>
          <p:cNvPr id="709" name="Tablica 6" descr=""/>
          <p:cNvPicPr/>
          <p:nvPr/>
        </p:nvPicPr>
        <p:blipFill>
          <a:blip r:embed="rId1"/>
          <a:stretch/>
        </p:blipFill>
        <p:spPr>
          <a:xfrm>
            <a:off x="457200" y="1238400"/>
            <a:ext cx="8369280" cy="5448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1071360" y="785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00000"/>
                </a:solidFill>
                <a:latin typeface="Arial"/>
              </a:rPr>
              <a:t>Samozapošljavanje – oblik djelat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Rezervirano mjesto sadržaja 4" descr=""/>
          <p:cNvPicPr/>
          <p:nvPr/>
        </p:nvPicPr>
        <p:blipFill>
          <a:blip r:embed="rId1"/>
          <a:stretch/>
        </p:blipFill>
        <p:spPr>
          <a:xfrm>
            <a:off x="488880" y="1722600"/>
            <a:ext cx="8237520" cy="470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4"/>
          <p:cNvSpPr/>
          <p:nvPr/>
        </p:nvSpPr>
        <p:spPr>
          <a:xfrm>
            <a:off x="900000" y="2133720"/>
            <a:ext cx="7272360" cy="1439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8e8e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d1000e"/>
                </a:solidFill>
                <a:latin typeface="Tahoma"/>
              </a:rPr>
              <a:t>Aktivnosti Lokalnog partnerstva za zapošljavanje</a:t>
            </a:r>
            <a:endParaRPr b="0" lang="en-US" sz="3200" spc="-1" strike="noStrike">
              <a:solidFill>
                <a:srgbClr val="7c7f87"/>
              </a:solidFill>
              <a:latin typeface="Arial"/>
            </a:endParaRPr>
          </a:p>
        </p:txBody>
      </p:sp>
      <p:pic>
        <p:nvPicPr>
          <p:cNvPr id="713" name="Picture 13" descr="Banner HZZ WEB homepage_2010new2"/>
          <p:cNvPicPr/>
          <p:nvPr/>
        </p:nvPicPr>
        <p:blipFill>
          <a:blip r:embed="rId1"/>
          <a:stretch/>
        </p:blipFill>
        <p:spPr>
          <a:xfrm>
            <a:off x="539640" y="4221000"/>
            <a:ext cx="8244000" cy="1770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 txBox="1"/>
          <p:nvPr/>
        </p:nvSpPr>
        <p:spPr>
          <a:xfrm>
            <a:off x="826560" y="1773360"/>
            <a:ext cx="754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PA 2007-2009 Komponenta IV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Lokalna partnerstva za zapošljavanje - faza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4 partnera (lokalna uprava i samouprava, institucije, obrazovne ustanove, udruge) s područja Krapinsko-zagorske župan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5. prosinca 2010. Sporazum o lokalnom partnerstvu za zapošljavan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2. lipnja 2011. Strategija razvoja ljudskih potencijala KZŽ 2011.-20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kcijski i komunikacijski planovi za provedbu i praćenje Strateg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826920" y="765000"/>
            <a:ext cx="79329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308520" indent="-308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1000e"/>
                </a:solidFill>
                <a:latin typeface="Arial"/>
              </a:rPr>
              <a:t>Lokalna partnerstva za zapošljavanje -Partnersko vijeće za tržište rada KZ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Dijagram 4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632720" cy="503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 txBox="1"/>
          <p:nvPr/>
        </p:nvSpPr>
        <p:spPr>
          <a:xfrm>
            <a:off x="1071360" y="785520"/>
            <a:ext cx="7543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2" descr="C:\Documents and Settings\ahlupic\My Documents\Partnership for Development\Za WEB\Okrugli stol-07-07-2011\P1000413.JPG"/>
          <p:cNvPicPr/>
          <p:nvPr/>
        </p:nvPicPr>
        <p:blipFill>
          <a:blip r:embed="rId1"/>
          <a:stretch/>
        </p:blipFill>
        <p:spPr>
          <a:xfrm>
            <a:off x="755640" y="1009800"/>
            <a:ext cx="3538440" cy="279216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5" descr="C:\Documents and Settings\ahlupic\My Documents\Partnership for Development\IPA4.1.1.1.01.02.c02_4QR\Outputs\1-Establishment of Regional Partnership\Meeting-Agreement\Pictures-08-11\IMG_5127.jpg"/>
          <p:cNvPicPr/>
          <p:nvPr/>
        </p:nvPicPr>
        <p:blipFill>
          <a:blip r:embed="rId2"/>
          <a:srcRect l="3572" t="0" r="1786" b="14277"/>
          <a:stretch/>
        </p:blipFill>
        <p:spPr>
          <a:xfrm>
            <a:off x="4572000" y="993600"/>
            <a:ext cx="3816360" cy="280836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2" descr="\\KR-FILE\NovaRazmjena\2011\Slike\LPE3 radionica Krapina 27012011\IMG_6532.jpg"/>
          <p:cNvPicPr/>
          <p:nvPr/>
        </p:nvPicPr>
        <p:blipFill>
          <a:blip r:embed="rId3"/>
          <a:stretch/>
        </p:blipFill>
        <p:spPr>
          <a:xfrm>
            <a:off x="4572000" y="3933720"/>
            <a:ext cx="3816360" cy="254340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2" descr=""/>
          <p:cNvPicPr/>
          <p:nvPr/>
        </p:nvPicPr>
        <p:blipFill>
          <a:blip r:embed="rId4"/>
          <a:stretch/>
        </p:blipFill>
        <p:spPr>
          <a:xfrm>
            <a:off x="755640" y="3973680"/>
            <a:ext cx="3529080" cy="254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85560" y="27432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723" name="Picture 2" descr="C:\Documents and Settings\ahlupic\My Documents\Partnership for Development\Za WEB\Radionica-Vođenje sastanaka-10-05-2011\P1000029.JPG"/>
          <p:cNvPicPr/>
          <p:nvPr/>
        </p:nvPicPr>
        <p:blipFill>
          <a:blip r:embed="rId1"/>
          <a:srcRect l="1107" t="0" r="0" b="1476"/>
          <a:stretch/>
        </p:blipFill>
        <p:spPr>
          <a:xfrm>
            <a:off x="4716360" y="836640"/>
            <a:ext cx="3743280" cy="24829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3" descr="C:\Documents and Settings\ahlupic\My Documents\Partnership for Development\Za WEB\Radionica-Vođenje sastanaka-10-05-2011\P1000032.JPG"/>
          <p:cNvPicPr/>
          <p:nvPr/>
        </p:nvPicPr>
        <p:blipFill>
          <a:blip r:embed="rId2"/>
          <a:srcRect l="0" t="17717" r="2215" b="4429"/>
          <a:stretch/>
        </p:blipFill>
        <p:spPr>
          <a:xfrm>
            <a:off x="357120" y="3571920"/>
            <a:ext cx="3998880" cy="27892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4" descr="C:\Documents and Settings\ahlupic\My Documents\Partnership for Development\Za WEB\Radionica-Vođenje sastanaka-10-05-2011\P1000034.JPG"/>
          <p:cNvPicPr/>
          <p:nvPr/>
        </p:nvPicPr>
        <p:blipFill>
          <a:blip r:embed="rId3"/>
          <a:srcRect l="6644" t="14765" r="5536" b="14765"/>
          <a:stretch/>
        </p:blipFill>
        <p:spPr>
          <a:xfrm>
            <a:off x="357120" y="836640"/>
            <a:ext cx="3998880" cy="244800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2" descr="C:\Documents and Settings\ahlupic\My Documents\Partnership for Development\IPA4.1.1.1.01.02.c02_3QR\Outputs\3-Education\Workshop Team Work\Pictures\P1000536.JPG"/>
          <p:cNvPicPr/>
          <p:nvPr/>
        </p:nvPicPr>
        <p:blipFill>
          <a:blip r:embed="rId4"/>
          <a:srcRect l="2171" t="2605" r="0" b="2605"/>
          <a:stretch/>
        </p:blipFill>
        <p:spPr>
          <a:xfrm>
            <a:off x="4705200" y="3571920"/>
            <a:ext cx="3754440" cy="278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1066320" y="1999800"/>
            <a:ext cx="754380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1000e"/>
                </a:solidFill>
                <a:latin typeface="Tahoma"/>
              </a:rPr>
              <a:t>Stanje/kretanja na tržištu rada Krapinsko-zagorske županije s osvrtom na provedbu Mjera aktivne politike zapošlja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1000e"/>
                </a:solidFill>
                <a:latin typeface="Tahoma"/>
              </a:rPr>
              <a:t>Aktivnosti Lokalnog partnerstva za zapošlja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071360" y="785520"/>
            <a:ext cx="71722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d1000e"/>
                </a:solidFill>
                <a:latin typeface="Arial"/>
              </a:rPr>
              <a:t>Sadrž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6813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Tahoma"/>
              </a:rPr>
              <a:t>www.partnerstvo-razvoj.net</a:t>
            </a:r>
            <a:br>
              <a:rPr sz="4000"/>
            </a:b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323640" y="1557360"/>
            <a:ext cx="8605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 ciljem pružanja svih važnih informacija vezanih za tržište rada Krapinsko-zagorske županije, a relevantne su zaposlenima, poslodavcima, nezaposlenim i neaktivnim osobama, učenicima  i studentima. Stranica je interaktivni portal poslodavaca i krajnjih korisn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c00000"/>
                </a:solidFill>
                <a:latin typeface="Arial"/>
              </a:rPr>
              <a:t>Plan: 6 partnera objavljuje svoje informacije na porta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c00000"/>
                </a:solidFill>
                <a:latin typeface="Arial"/>
              </a:rPr>
              <a:t>Realizacija: 19 partnera objavljuje svoje informacije na porta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d1000e"/>
                </a:solidFill>
                <a:latin typeface="Tahoma"/>
              </a:rPr>
              <a:t>PROJEKTI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68000" y="1557000"/>
            <a:ext cx="81421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VED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gram za cjeloživotno uč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kogranična surad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uropa za građ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PA IV. kompon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JAVLJENO / U PROVED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PA IV. kompon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gram za cjeloživotno uč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kogranična surad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1" name=""/>
          <p:cNvGraphicFramePr/>
          <p:nvPr/>
        </p:nvGraphicFramePr>
        <p:xfrm>
          <a:off x="250920" y="1268280"/>
          <a:ext cx="8497800" cy="5329440"/>
        </p:xfrm>
        <a:graphic>
          <a:graphicData uri="http://schemas.openxmlformats.org/drawingml/2006/table">
            <a:tbl>
              <a:tblPr/>
              <a:tblGrid>
                <a:gridCol w="6465960"/>
                <a:gridCol w="2031840"/>
              </a:tblGrid>
              <a:tr h="26676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JAVITELJ</a:t>
                      </a:r>
                      <a:endParaRPr b="0" lang="en-US" sz="14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1872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GOVORENI IZNOS</a:t>
                      </a:r>
                      <a:endParaRPr b="0" lang="en-US" sz="14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1872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</a:tr>
              <a:tr h="26532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imnazija Antuna Gustava Matoša, Zabok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1872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494,40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1872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</a:tr>
              <a:tr h="2664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Š Matije Gubca, Gornja Stubica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11,00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f4f9fa"/>
                    </a:solidFill>
                  </a:tcPr>
                </a:tc>
              </a:tr>
              <a:tr h="26532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Š Viktora Kovačića, Him na Sutli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0,00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</a:tr>
              <a:tr h="26676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Š Franje Horvata Kiša, Lobor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0,00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f4f9fa"/>
                    </a:solidFill>
                  </a:tcPr>
                </a:tc>
              </a:tr>
              <a:tr h="26676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Š Donja Stubica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0,00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</a:tr>
              <a:tr h="26496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Š Pregrada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405,00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f4f9fa"/>
                    </a:solidFill>
                  </a:tcPr>
                </a:tc>
              </a:tr>
              <a:tr h="27288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P RH, Policijska uprava KZŽ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384,00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</a:tr>
              <a:tr h="26676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Š Bedekovčina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498,57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f4f9fa"/>
                    </a:solidFill>
                  </a:tcPr>
                </a:tc>
              </a:tr>
              <a:tr h="26532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Š Viktora Kovačića, Hum na Sutli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05,00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</a:tr>
              <a:tr h="26676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Š Lijepa naša Tuhelj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802,57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f4f9fa"/>
                    </a:solidFill>
                  </a:tcPr>
                </a:tc>
              </a:tr>
              <a:tr h="26496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Š Bedekovčina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44,00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</a:tr>
              <a:tr h="3096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reža udruga KZŽ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000,00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f4f9fa"/>
                    </a:solidFill>
                  </a:tcPr>
                </a:tc>
              </a:tr>
              <a:tr h="26496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Š Marija Bistrica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91,70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</a:tr>
              <a:tr h="26676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Škola za umjetnost, dizajn, grafiku i odjeću, Zabok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330,00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f4f9fa"/>
                    </a:solidFill>
                  </a:tcPr>
                </a:tc>
              </a:tr>
              <a:tr h="26532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Š Bedekovčina - multilateralna mobilnost učenika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.500,00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</a:tr>
              <a:tr h="2664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Š Oroslavlje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.500,00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f4f9fa"/>
                    </a:solidFill>
                  </a:tcPr>
                </a:tc>
              </a:tr>
              <a:tr h="26676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Š Bedekovčina 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.500,00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</a:tr>
              <a:tr h="22392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imnazija Antuna Gustava Matoša, Zabok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.500,00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f4f9fa"/>
                    </a:solidFill>
                  </a:tcPr>
                </a:tc>
              </a:tr>
              <a:tr h="26676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Š Bedekovčina 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.038,00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</a:tr>
            </a:tbl>
          </a:graphicData>
        </a:graphic>
      </p:graphicFrame>
      <p:sp>
        <p:nvSpPr>
          <p:cNvPr id="732" name="Naslov 1"/>
          <p:cNvSpPr/>
          <p:nvPr/>
        </p:nvSpPr>
        <p:spPr>
          <a:xfrm>
            <a:off x="468360" y="770040"/>
            <a:ext cx="8229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1000e"/>
                </a:solidFill>
                <a:latin typeface="Tahoma"/>
              </a:rPr>
              <a:t>PROJEKTI – PROGRAM ZA CJELOŽIVOTNO UČENJE</a:t>
            </a:r>
            <a:endParaRPr b="0" lang="en-US" sz="2400" spc="-1" strike="noStrike">
              <a:solidFill>
                <a:srgbClr val="7c7f87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3" name=""/>
          <p:cNvGraphicFramePr/>
          <p:nvPr/>
        </p:nvGraphicFramePr>
        <p:xfrm>
          <a:off x="108000" y="981000"/>
          <a:ext cx="8785080" cy="5929560"/>
        </p:xfrm>
        <a:graphic>
          <a:graphicData uri="http://schemas.openxmlformats.org/drawingml/2006/table">
            <a:tbl>
              <a:tblPr/>
              <a:tblGrid>
                <a:gridCol w="5589360"/>
                <a:gridCol w="3195720"/>
              </a:tblGrid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AZIV PROJEKTA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1872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kupni prihvatljivi troškovi (EUR)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1872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NTERPRENEURSHIP HZ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1872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7.345,00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1872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RAFTING PROFESSIONS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8.266,83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f4f9fa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HOMER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9.901,50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ZVOJ ZA RAZVOJ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1.235,00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f4f9fa"/>
                    </a:solidFill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OPIMO NA SKUPNO POT ZNANJA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0.478,17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RAFTATTRACT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8.861,41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f4f9fa"/>
                    </a:solidFill>
                  </a:tcPr>
                </a:tc>
              </a:tr>
              <a:tr h="319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ZNAČITEV OB SOTLI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3.819,40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O POTEH DEDIŠČINE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6.243,00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f4f9fa"/>
                    </a:solidFill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C HALOZE – ZAGORJE /  TZ HALOZE – ZAGORJE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.189,00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URISTIČNA SOTLA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.020,00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f4f9fa"/>
                    </a:solidFill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WATER IS LIFE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9.364,36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URIZEM S KOLESOM 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7.609,75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f4f9fa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RIJINA ROMARSKA POT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3.836,96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WELNESS 3 plus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72.422,04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f4f9fa"/>
                    </a:solidFill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8 UR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89.068,53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HS-OKP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64.966,36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f4f9fa"/>
                    </a:solidFill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MEDISANUS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13.670,15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PRINT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41.109,31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f4f9fa"/>
                    </a:solidFill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OM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1.734,74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KULT PRO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6.767,37</a:t>
                      </a:r>
                      <a:endParaRPr b="0" lang="en-US" sz="16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f4f9fa"/>
                    </a:solidFill>
                  </a:tcPr>
                </a:tc>
              </a:tr>
            </a:tbl>
          </a:graphicData>
        </a:graphic>
      </p:graphicFrame>
      <p:sp>
        <p:nvSpPr>
          <p:cNvPr id="734" name="Naslov 1"/>
          <p:cNvSpPr/>
          <p:nvPr/>
        </p:nvSpPr>
        <p:spPr>
          <a:xfrm>
            <a:off x="468360" y="620640"/>
            <a:ext cx="822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1000e"/>
                </a:solidFill>
                <a:latin typeface="Tahoma"/>
              </a:rPr>
              <a:t>PROJEKTI – PREKOGRANIČNA SURADNJA</a:t>
            </a:r>
            <a:endParaRPr b="0" lang="en-US" sz="2400" spc="-1" strike="noStrike">
              <a:solidFill>
                <a:srgbClr val="7c7f87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5" name=""/>
          <p:cNvGraphicFramePr/>
          <p:nvPr/>
        </p:nvGraphicFramePr>
        <p:xfrm>
          <a:off x="539640" y="836640"/>
          <a:ext cx="7920000" cy="741240"/>
        </p:xfrm>
        <a:graphic>
          <a:graphicData uri="http://schemas.openxmlformats.org/drawingml/2006/table">
            <a:tbl>
              <a:tblPr/>
              <a:tblGrid>
                <a:gridCol w="3961080"/>
                <a:gridCol w="3958920"/>
              </a:tblGrid>
              <a:tr h="3715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JEKTI – EUROPA ZA GRAĐANE</a:t>
                      </a:r>
                      <a:endParaRPr b="0" lang="en-US" sz="18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1872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iends of Europe</a:t>
                      </a:r>
                      <a:endParaRPr b="0" lang="en-US" sz="18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1872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.000,00 EUR</a:t>
                      </a:r>
                      <a:endParaRPr b="0" lang="en-US" sz="18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1872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6" name=""/>
          <p:cNvGraphicFramePr/>
          <p:nvPr/>
        </p:nvGraphicFramePr>
        <p:xfrm>
          <a:off x="539640" y="1916280"/>
          <a:ext cx="7920000" cy="1484280"/>
        </p:xfrm>
        <a:graphic>
          <a:graphicData uri="http://schemas.openxmlformats.org/drawingml/2006/table">
            <a:tbl>
              <a:tblPr/>
              <a:tblGrid>
                <a:gridCol w="3961080"/>
                <a:gridCol w="3958920"/>
              </a:tblGrid>
              <a:tr h="37116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JEKTI - PROGRESS</a:t>
                      </a:r>
                      <a:endParaRPr b="0" lang="en-US" sz="18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1872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YE</a:t>
                      </a:r>
                      <a:endParaRPr b="0" lang="en-US" sz="18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1872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0.276,97 EUR</a:t>
                      </a:r>
                      <a:endParaRPr b="0" lang="en-US" sz="18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1872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ar for Changes</a:t>
                      </a:r>
                      <a:endParaRPr b="0" lang="en-US" sz="18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f4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.585,99 EUR</a:t>
                      </a:r>
                      <a:endParaRPr b="0" lang="en-US" sz="18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f4f9f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FFECT</a:t>
                      </a:r>
                      <a:endParaRPr b="0" lang="en-US" sz="18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6.758,22 EUR</a:t>
                      </a:r>
                      <a:endParaRPr b="0" lang="en-US" sz="18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7" name=""/>
          <p:cNvGraphicFramePr/>
          <p:nvPr/>
        </p:nvGraphicFramePr>
        <p:xfrm>
          <a:off x="539640" y="3645000"/>
          <a:ext cx="7993080" cy="2493720"/>
        </p:xfrm>
        <a:graphic>
          <a:graphicData uri="http://schemas.openxmlformats.org/drawingml/2006/table">
            <a:tbl>
              <a:tblPr/>
              <a:tblGrid>
                <a:gridCol w="3997440"/>
                <a:gridCol w="3995640"/>
              </a:tblGrid>
              <a:tr h="3715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JEKTI IPA IV. KOMPONENTA </a:t>
                      </a:r>
                      <a:endParaRPr b="0" lang="en-US" sz="18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1872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dology curriculum</a:t>
                      </a:r>
                      <a:endParaRPr b="0" lang="en-US" sz="18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1872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7.304,17 EUR</a:t>
                      </a:r>
                      <a:endParaRPr b="0" lang="en-US" sz="18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1872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reasing knowledge and information on Renewables</a:t>
                      </a:r>
                      <a:endParaRPr b="0" lang="en-US" sz="18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f4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4.978,95 EUR</a:t>
                      </a:r>
                      <a:endParaRPr b="0" lang="en-US" sz="18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f4f9f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lick&amp;Learn</a:t>
                      </a:r>
                      <a:endParaRPr b="0" lang="en-US" sz="18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1.349,27 EUR</a:t>
                      </a:r>
                      <a:endParaRPr b="0" lang="en-US" sz="18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limited</a:t>
                      </a:r>
                      <a:endParaRPr b="0" lang="en-US" sz="18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f4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.579,87 EUR</a:t>
                      </a:r>
                      <a:endParaRPr b="0" lang="en-US" sz="18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f4f9fa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tnership for Development</a:t>
                      </a:r>
                      <a:endParaRPr b="0" lang="en-US" sz="18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.371,00 EUR</a:t>
                      </a:r>
                      <a:endParaRPr b="0" lang="en-US" sz="18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8" name=""/>
          <p:cNvGraphicFramePr/>
          <p:nvPr/>
        </p:nvGraphicFramePr>
        <p:xfrm>
          <a:off x="108000" y="1413000"/>
          <a:ext cx="9036000" cy="5445000"/>
        </p:xfrm>
        <a:graphic>
          <a:graphicData uri="http://schemas.openxmlformats.org/drawingml/2006/table">
            <a:tbl>
              <a:tblPr/>
              <a:tblGrid>
                <a:gridCol w="5637240"/>
                <a:gridCol w="3398760"/>
              </a:tblGrid>
              <a:tr h="285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 employment partnership: opportunity to unlock local talent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1872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 provedbi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1872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</a:tr>
              <a:tr h="284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kogranična Mentorska akademija mladih - maPOM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1872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 evaluaciji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1872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</a:tr>
              <a:tr h="504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novljivi izvori energije za svjetliju budućnost (RES for lighter future)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dobren - čeka se potpis ugovora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f4f9fa"/>
                    </a:solidFill>
                  </a:tcPr>
                </a:tc>
              </a:tr>
              <a:tr h="285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kreni se, nauči nešto novo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 rezervnoj listi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</a:tr>
              <a:tr h="285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FFECT – usklađivanje vještina za podržavanje razvoja karijere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 tijeku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f4f9fa"/>
                    </a:solidFill>
                  </a:tcPr>
                </a:tc>
              </a:tr>
              <a:tr h="590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ključivanje osoba s invaliditetom na tržište rada kroz održivi model programa volontiranja za osobe s invaliditetom u turizmu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slan Concept Note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</a:tr>
              <a:tr h="5889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z predrasuda do većeg zapošljavanja i socijalnog uključenja osoba s invaliditetom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slan Concept Note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f4f9fa"/>
                    </a:solidFill>
                  </a:tcPr>
                </a:tc>
              </a:tr>
              <a:tr h="285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SS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slana prijava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</a:tr>
              <a:tr h="285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hINK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 provedbi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f4f9fa"/>
                    </a:solidFill>
                  </a:tcPr>
                </a:tc>
              </a:tr>
              <a:tr h="285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tnership&amp;Opportunities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slan Concept Note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</a:tr>
              <a:tr h="538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ink social, Do social, Z+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slan Concept Note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f4f9fa"/>
                    </a:solidFill>
                  </a:tcPr>
                </a:tc>
              </a:tr>
              <a:tr h="676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People Have the Power! Sustainable models of CSOs and citizen participation in local and regional decision-making processes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 provedbi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e8f3f4"/>
                    </a:solidFill>
                  </a:tcPr>
                </a:tc>
              </a:tr>
              <a:tr h="547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“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ONG” platform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S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gthening Organizational Networks’ Gaps)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bfde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vršen, odobreno završno izvješće</a:t>
                      </a:r>
                      <a:endParaRPr b="0" lang="en-US" sz="1200" spc="-1" strike="noStrike">
                        <a:solidFill>
                          <a:srgbClr val="7c7f87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e8e8e8"/>
                      </a:solidFill>
                    </a:lnL>
                    <a:lnR w="5760">
                      <a:solidFill>
                        <a:srgbClr val="e8e8e8"/>
                      </a:solidFill>
                    </a:lnR>
                    <a:lnT w="5760">
                      <a:solidFill>
                        <a:srgbClr val="e8e8e8"/>
                      </a:solidFill>
                    </a:lnT>
                    <a:lnB w="5760">
                      <a:solidFill>
                        <a:srgbClr val="e8e8e8"/>
                      </a:solidFill>
                    </a:lnB>
                    <a:solidFill>
                      <a:srgbClr val="f4f9fa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WordArt 17"/>
          <p:cNvSpPr txBox="1"/>
          <p:nvPr/>
        </p:nvSpPr>
        <p:spPr>
          <a:xfrm>
            <a:off x="1332000" y="189000"/>
            <a:ext cx="456552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urier New"/>
              </a:rPr>
              <a:t>Hrvatski zavod za zapošljavanje - CES DFC</a:t>
            </a:r>
            <a:endParaRPr b="1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urier New"/>
              <a:ea typeface="Courier New"/>
            </a:endParaRPr>
          </a:p>
        </p:txBody>
      </p:sp>
      <p:sp>
        <p:nvSpPr>
          <p:cNvPr id="740" name="Naslov 1"/>
          <p:cNvSpPr/>
          <p:nvPr/>
        </p:nvSpPr>
        <p:spPr>
          <a:xfrm>
            <a:off x="85680" y="1700280"/>
            <a:ext cx="9058320" cy="25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c00000"/>
                </a:solidFill>
                <a:latin typeface="Calibri"/>
                <a:ea typeface="Arial"/>
              </a:rPr>
              <a:t>LOKALNA PARTNERSTVA ZA ZAPOŠLJAVANJE</a:t>
            </a:r>
            <a:br>
              <a:rPr sz="3600"/>
            </a:br>
            <a:br>
              <a:rPr sz="3600"/>
            </a:br>
            <a:r>
              <a:rPr b="0" lang="hr-HR" sz="3600" spc="-1" strike="noStrike">
                <a:solidFill>
                  <a:srgbClr val="376092"/>
                </a:solidFill>
                <a:latin typeface="Calibri"/>
                <a:ea typeface="Arial"/>
              </a:rPr>
              <a:t> </a:t>
            </a:r>
            <a:r>
              <a:rPr b="0" lang="hr-HR" sz="3600" spc="-1" strike="noStrike">
                <a:solidFill>
                  <a:srgbClr val="c00000"/>
                </a:solidFill>
                <a:latin typeface="Calibri"/>
                <a:ea typeface="Arial"/>
              </a:rPr>
              <a:t>Mogućnosti za otključavanje lokalnog talenta </a:t>
            </a:r>
            <a:endParaRPr b="0" lang="en-US" sz="3600" spc="-1" strike="noStrike">
              <a:solidFill>
                <a:srgbClr val="7c7f87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WordArt 17"/>
          <p:cNvSpPr txBox="1"/>
          <p:nvPr/>
        </p:nvSpPr>
        <p:spPr>
          <a:xfrm>
            <a:off x="1332000" y="189000"/>
            <a:ext cx="456552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urier New"/>
              </a:rPr>
              <a:t>Hrvatski zavod za zapošljavanje - CES DFC</a:t>
            </a:r>
            <a:endParaRPr b="1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urier New"/>
              <a:ea typeface="Courier New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00000"/>
                </a:solidFill>
                <a:latin typeface="Calibri"/>
              </a:rPr>
              <a:t>OSOBNA ISKAZN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Lokalne inicijative za poticanje zapošljavanj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perativni program za razvoj ljudskih potencijala 2007-2013, IPA IV komponen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rajanje: 12 mjese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rijednost – 29.954,93 EUR (EU 95%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WordArt 17"/>
          <p:cNvSpPr txBox="1"/>
          <p:nvPr/>
        </p:nvSpPr>
        <p:spPr>
          <a:xfrm>
            <a:off x="1332000" y="189000"/>
            <a:ext cx="456552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urier New"/>
              </a:rPr>
              <a:t>Hrvatski zavod za zapošljavanje - CES DFC</a:t>
            </a:r>
            <a:endParaRPr b="1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urier New"/>
              <a:ea typeface="Courier New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00000"/>
                </a:solidFill>
                <a:latin typeface="Calibri"/>
              </a:rPr>
              <a:t>AKTIVNOS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alibri"/>
              </a:rPr>
              <a:t>STRATEŠKO PLANIR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Radionice – 8 radionica, 25 sudionika – uvod u strateško planiranje, faktori uspjeha, priprema strateškog planiranja, strateško razmišljanje, situacijska analiza, strateški razvoj, implementacija strateškog pl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Razvoj nove SRLJP – 15 sudionika, 5 radionic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Radionice – kohezijska politika – 20 sudionika, 10 radionica – priprema projekata, e-učion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WordArt 17"/>
          <p:cNvSpPr txBox="1"/>
          <p:nvPr/>
        </p:nvSpPr>
        <p:spPr>
          <a:xfrm>
            <a:off x="1332000" y="189000"/>
            <a:ext cx="456552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urier New"/>
              </a:rPr>
              <a:t>Hrvatski zavod za zapošljavanje - CES DFC</a:t>
            </a:r>
            <a:endParaRPr b="1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urier New"/>
              <a:ea typeface="Courier New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00000"/>
                </a:solidFill>
                <a:latin typeface="Calibri"/>
              </a:rPr>
              <a:t>AKTIVNOST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alibri"/>
              </a:rPr>
              <a:t>INTERNI TRENINZI T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Jedan korak više –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radionica za udruge, potencijalni novi članovi, 20 sudionika, 3 radion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Radionice timskog rada – 5 radionica, 2 dana, 20 članova (</a:t>
            </a: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teambuild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4"/>
          <p:cNvSpPr/>
          <p:nvPr/>
        </p:nvSpPr>
        <p:spPr>
          <a:xfrm>
            <a:off x="900000" y="2133720"/>
            <a:ext cx="7272360" cy="1439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8e8e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d1000e"/>
                </a:solidFill>
                <a:latin typeface="Tahoma"/>
              </a:rPr>
              <a:t>Stanje/kretanja na tržištu rada Krapinsko-zagorske županije s osvrtom na provedbu Mjera aktivne politike zapošljavanja</a:t>
            </a:r>
            <a:endParaRPr b="0" lang="en-US" sz="3200" spc="-1" strike="noStrike">
              <a:solidFill>
                <a:srgbClr val="7c7f87"/>
              </a:solidFill>
              <a:latin typeface="Arial"/>
            </a:endParaRPr>
          </a:p>
        </p:txBody>
      </p:sp>
      <p:pic>
        <p:nvPicPr>
          <p:cNvPr id="680" name="Picture 13" descr="Banner HZZ WEB homepage_2010new2"/>
          <p:cNvPicPr/>
          <p:nvPr/>
        </p:nvPicPr>
        <p:blipFill>
          <a:blip r:embed="rId1"/>
          <a:stretch/>
        </p:blipFill>
        <p:spPr>
          <a:xfrm>
            <a:off x="539640" y="4221000"/>
            <a:ext cx="8244000" cy="1770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WordArt 17"/>
          <p:cNvSpPr txBox="1"/>
          <p:nvPr/>
        </p:nvSpPr>
        <p:spPr>
          <a:xfrm>
            <a:off x="1332000" y="189000"/>
            <a:ext cx="456552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urier New"/>
              </a:rPr>
              <a:t>Hrvatski zavod za zapošljavanje - CES DFC</a:t>
            </a:r>
            <a:endParaRPr b="1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urier New"/>
              <a:ea typeface="Courier New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00000"/>
                </a:solidFill>
                <a:latin typeface="Calibri"/>
              </a:rPr>
              <a:t>AKTIVNOS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alibri"/>
              </a:rPr>
              <a:t>PRIPREMA PROMOTIVNIH MATERIJA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Vizualni dizajn partnerstva – razvoj glavnih alata – logo, memorandum, žig, knjiga standar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Razvoj promotivnih materijala – broušra, </a:t>
            </a: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pingv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omocija – 2 radio emisije, 2 član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WordArt 17"/>
          <p:cNvSpPr txBox="1"/>
          <p:nvPr/>
        </p:nvSpPr>
        <p:spPr>
          <a:xfrm>
            <a:off x="1332000" y="189000"/>
            <a:ext cx="456552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urier New"/>
              </a:rPr>
              <a:t>Hrvatski zavod za zapošljavanje - CES DFC</a:t>
            </a:r>
            <a:endParaRPr b="1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urier New"/>
              <a:ea typeface="Courier New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00000"/>
                </a:solidFill>
                <a:latin typeface="Calibri"/>
              </a:rPr>
              <a:t>REZULTA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Minimalno 100 sudionika radion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Razvijena nova strategija RLJP 2014. – 2020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Tiskano 100 kom strategij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Razvijena e-učion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Razvijeni radni materijal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Održana 31 radionica (3 za udruge nove članove 28 za članov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1000 brošu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ingv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2 radio emisije / 2 novinska člank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HZZlogo"/>
          <p:cNvPicPr/>
          <p:nvPr/>
        </p:nvPicPr>
        <p:blipFill>
          <a:blip r:embed="rId1"/>
          <a:stretch/>
        </p:blipFill>
        <p:spPr>
          <a:xfrm>
            <a:off x="3419640" y="706320"/>
            <a:ext cx="2160360" cy="1643040"/>
          </a:xfrm>
          <a:prstGeom prst="rect">
            <a:avLst/>
          </a:prstGeom>
          <a:ln w="0">
            <a:noFill/>
          </a:ln>
        </p:spPr>
      </p:pic>
      <p:sp>
        <p:nvSpPr>
          <p:cNvPr id="757" name="TextBox 4"/>
          <p:cNvSpPr/>
          <p:nvPr/>
        </p:nvSpPr>
        <p:spPr>
          <a:xfrm>
            <a:off x="142920" y="2286000"/>
            <a:ext cx="8858160" cy="28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HRVATSKI ZAVOD ZA ZAPOŠLJAVANJE</a:t>
            </a:r>
            <a:endParaRPr b="0" lang="en-US" sz="1900" spc="-1" strike="noStrike">
              <a:solidFill>
                <a:srgbClr val="7c7f87"/>
              </a:solidFill>
              <a:latin typeface="Arial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PODRUČNI URED KRAPINA</a:t>
            </a:r>
            <a:endParaRPr b="0" lang="en-US" sz="1900" spc="-1" strike="noStrike">
              <a:solidFill>
                <a:srgbClr val="7c7f87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K. Š. Đalskog 4</a:t>
            </a:r>
            <a:endParaRPr b="0" lang="en-US" sz="1200" spc="-1" strike="noStrike">
              <a:solidFill>
                <a:srgbClr val="7c7f87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49000 Krapina</a:t>
            </a:r>
            <a:endParaRPr b="0" lang="en-US" sz="1200" spc="-1" strike="noStrike">
              <a:solidFill>
                <a:srgbClr val="7c7f87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Tel. +385-(0)49-382-252</a:t>
            </a:r>
            <a:endParaRPr b="0" lang="en-US" sz="1200" spc="-1" strike="noStrike">
              <a:solidFill>
                <a:srgbClr val="7c7f87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Fax. +385-(0)49-373-295</a:t>
            </a:r>
            <a:endParaRPr b="0" lang="en-US" sz="1200" spc="-1" strike="noStrike">
              <a:solidFill>
                <a:srgbClr val="7c7f87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c7f87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c7f87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 u="sng">
                <a:solidFill>
                  <a:srgbClr val="d1000e"/>
                </a:solidFill>
                <a:uFillTx/>
                <a:latin typeface="Arial"/>
                <a:hlinkClick r:id="rId2"/>
              </a:rPr>
              <a:t>hzz.krapina@hzz.hr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2200" spc="-1" strike="noStrike" baseline="-25000">
                <a:solidFill>
                  <a:srgbClr val="000000"/>
                </a:solidFill>
                <a:latin typeface="Arial"/>
              </a:rPr>
              <a:t>***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200" spc="-1" strike="noStrike" u="sng">
                <a:solidFill>
                  <a:srgbClr val="d1000e"/>
                </a:solidFill>
                <a:uFillTx/>
                <a:latin typeface="Arial"/>
                <a:hlinkClick r:id="rId3"/>
              </a:rPr>
              <a:t>www.hzz.hr</a:t>
            </a:r>
            <a:r>
              <a:rPr b="1" lang="hr-HR" sz="2200" spc="-1" strike="noStrike">
                <a:solidFill>
                  <a:srgbClr val="7c7f8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7c7f87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00"/>
                </a:solidFill>
                <a:latin typeface="Arial"/>
              </a:rPr>
              <a:t>HVALA NA POZORNOSTI!</a:t>
            </a:r>
            <a:endParaRPr b="0" lang="en-US" sz="2800" spc="-1" strike="noStrike">
              <a:solidFill>
                <a:srgbClr val="7c7f87"/>
              </a:solidFill>
              <a:latin typeface="Arial"/>
            </a:endParaRPr>
          </a:p>
        </p:txBody>
      </p:sp>
      <p:pic>
        <p:nvPicPr>
          <p:cNvPr id="758" name="Slika 1" descr=""/>
          <p:cNvPicPr/>
          <p:nvPr/>
        </p:nvPicPr>
        <p:blipFill>
          <a:blip r:embed="rId4"/>
          <a:stretch/>
        </p:blipFill>
        <p:spPr>
          <a:xfrm>
            <a:off x="1557360" y="5300640"/>
            <a:ext cx="6161040" cy="100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900000" y="1628640"/>
            <a:ext cx="7677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1.595 obveznika poreza na dobit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I.-XII. 201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ema prihodu: prerađivačka industrija 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najviše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– proizvodnja gotovih metalnih proizvoda osim strojeva i opreme, proizvodnja ostalih nemetalnih mineralnih proizvoda, proizvodnja tekstila, odjeće i kože),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e 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trgovina na veliko i malo 2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8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e djelatnosti ostvaruju 70,63% ukupnih prihoda i zapošljavaju 65,15% ukupno zaposlenih u župani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2.491 obrtnik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XI. 2013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33.500 zaposlenih i 8.342 nezaposlenih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IX. 2013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stopa nezaposlenosti – 19,9%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IX. 2013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1071360" y="620280"/>
            <a:ext cx="7543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d1000e"/>
                </a:solidFill>
                <a:latin typeface="Arial"/>
              </a:rPr>
              <a:t>Gospodarstvo KZ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6"/>
          <p:cNvSpPr/>
          <p:nvPr/>
        </p:nvSpPr>
        <p:spPr>
          <a:xfrm>
            <a:off x="1042920" y="5877000"/>
            <a:ext cx="76788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zvor: </a:t>
            </a:r>
            <a:r>
              <a:rPr b="0" i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ZS, HGK ŽK Krapina, OK KZŽ, HZMO, HZZ</a:t>
            </a:r>
            <a:endParaRPr b="0" lang="en-US" sz="1600" spc="-1" strike="noStrike">
              <a:solidFill>
                <a:srgbClr val="7c7f87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468000" y="1557360"/>
            <a:ext cx="8675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+ trend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st dobiti prije oporezivanja (11,1%) i pozitivna razlika prihoda i rashoda (17,4 mil. kuna)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2012./201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st izvoza (11,5%) na ukupno 209,6 mil. USD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I.-VI. 13./12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zitivna vanjskotrgovinska razmjena (31,9 mil. US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trend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manjen broj tvrtki (1,6%)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2012./201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ad prihoda (0,9%)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2012./201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manjuje se broj obrtnika (4,6%)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XI. 2013. / XI. 201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ste nezaposlenost (4,1%)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2013./201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071360" y="620280"/>
            <a:ext cx="7543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d1000e"/>
                </a:solidFill>
                <a:latin typeface="Arial"/>
              </a:rPr>
              <a:t>Gospodarstvo KZ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6"/>
          <p:cNvSpPr/>
          <p:nvPr/>
        </p:nvSpPr>
        <p:spPr>
          <a:xfrm>
            <a:off x="250920" y="5686560"/>
            <a:ext cx="87138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zvor: 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rvatski zavod za mirovinsko osiguranje, Hrvatski zavod za zapošljavanje, izračun HZZ  PU Krapina</a:t>
            </a:r>
            <a:endParaRPr b="0" lang="en-US" sz="1400" spc="-1" strike="noStrike">
              <a:solidFill>
                <a:srgbClr val="7c7f87"/>
              </a:solidFill>
              <a:latin typeface="Arial"/>
            </a:endParaRPr>
          </a:p>
        </p:txBody>
      </p:sp>
      <p:sp>
        <p:nvSpPr>
          <p:cNvPr id="687" name="Rectangle 2"/>
          <p:cNvSpPr/>
          <p:nvPr/>
        </p:nvSpPr>
        <p:spPr>
          <a:xfrm>
            <a:off x="376200" y="758880"/>
            <a:ext cx="85168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d1000e"/>
                </a:solidFill>
                <a:latin typeface="Arial"/>
              </a:rPr>
              <a:t>Kretanja na području zaposlenosti i nezaposlenosti (rujan 2012. - rujan 2013. godine)</a:t>
            </a:r>
            <a:endParaRPr b="0" lang="en-US" sz="2800" spc="-1" strike="noStrike">
              <a:solidFill>
                <a:srgbClr val="7c7f87"/>
              </a:solidFill>
              <a:latin typeface="Arial"/>
            </a:endParaRPr>
          </a:p>
        </p:txBody>
      </p:sp>
      <p:pic>
        <p:nvPicPr>
          <p:cNvPr id="688" name="Picture 3" descr=""/>
          <p:cNvPicPr/>
          <p:nvPr/>
        </p:nvPicPr>
        <p:blipFill>
          <a:blip r:embed="rId1"/>
          <a:stretch/>
        </p:blipFill>
        <p:spPr>
          <a:xfrm>
            <a:off x="449280" y="1717560"/>
            <a:ext cx="8226360" cy="4025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179280" y="5876640"/>
            <a:ext cx="896472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51"/>
              </a:spcBef>
              <a:buSzPct val="1280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većan je prosječan broj NO (+4,1%), prijavljenih potreba za radnicima (+22,4%), zaposlenih iz evidencije (+29,0%) i brisanih iz evidencije iz ostalih razloga (+4,1%), a smanjen je broj novoprijavljenih u evidenciju (-4,3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1071360" y="620280"/>
            <a:ext cx="7543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d1000e"/>
                </a:solidFill>
                <a:latin typeface="Arial"/>
              </a:rPr>
              <a:t>Kretanja registrirane nezaposlenosti i zapošljavanja (I.-XII. 2013./2012. g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Chart 1" descr=""/>
          <p:cNvPicPr/>
          <p:nvPr/>
        </p:nvPicPr>
        <p:blipFill>
          <a:blip r:embed="rId2"/>
          <a:stretch/>
        </p:blipFill>
        <p:spPr>
          <a:xfrm>
            <a:off x="633240" y="1506600"/>
            <a:ext cx="8166240" cy="43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179280" y="6021360"/>
            <a:ext cx="885672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prethodne dvije godine KZŽ ima značajno više stope rasta registrirane nezaposlenosti u odnosu na prosjek RH (11./10. +8,0%, 12./11. +11,3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539640" y="549000"/>
            <a:ext cx="83534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d1000e"/>
                </a:solidFill>
                <a:latin typeface="Arial"/>
              </a:rPr>
              <a:t>Prosječan broj NO i stopa rasta (I.-XII. 2013./2012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2" descr=""/>
          <p:cNvPicPr/>
          <p:nvPr/>
        </p:nvPicPr>
        <p:blipFill>
          <a:blip r:embed="rId2"/>
          <a:stretch/>
        </p:blipFill>
        <p:spPr>
          <a:xfrm>
            <a:off x="5867280" y="1268280"/>
            <a:ext cx="2333880" cy="4824720"/>
          </a:xfrm>
          <a:prstGeom prst="rect">
            <a:avLst/>
          </a:prstGeom>
          <a:ln w="0">
            <a:noFill/>
          </a:ln>
        </p:spPr>
      </p:pic>
      <p:pic>
        <p:nvPicPr>
          <p:cNvPr id="695" name="Grafikon 7" descr=""/>
          <p:cNvPicPr/>
          <p:nvPr/>
        </p:nvPicPr>
        <p:blipFill>
          <a:blip r:embed="rId3"/>
          <a:stretch/>
        </p:blipFill>
        <p:spPr>
          <a:xfrm>
            <a:off x="344520" y="1217520"/>
            <a:ext cx="5357880" cy="485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50560" y="6092640"/>
            <a:ext cx="8893080" cy="6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načajan je pad prosječnog broja nezaposlenih osoba bez radnog iskustva od -22,4% evidentiran u razini obrazovanja fakultet, akademija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395280" y="626760"/>
            <a:ext cx="8748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d1000e"/>
                </a:solidFill>
                <a:latin typeface="Arial"/>
              </a:rPr>
              <a:t>Stopa rasta prosječnog broja NO i NO bez radnog iskustva prema razini obrazovanja (I.-XII. 2013./2012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Chart 1" descr=""/>
          <p:cNvPicPr/>
          <p:nvPr/>
        </p:nvPicPr>
        <p:blipFill>
          <a:blip r:embed="rId2"/>
          <a:stretch/>
        </p:blipFill>
        <p:spPr>
          <a:xfrm>
            <a:off x="776160" y="1577880"/>
            <a:ext cx="7324920" cy="4422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6:43:48Z</dcterms:created>
  <dc:creator>Marijo Macan</dc:creator>
  <dc:description/>
  <dc:language>en-US</dc:language>
  <cp:lastModifiedBy>Zvonko Tušek</cp:lastModifiedBy>
  <cp:lastPrinted>2014-01-13T10:29:19Z</cp:lastPrinted>
  <dcterms:modified xsi:type="dcterms:W3CDTF">2014-01-21T09:36:38Z</dcterms:modified>
  <cp:revision>130</cp:revision>
  <dc:subject/>
  <dc:title>Slide 1</dc:title>
</cp:coreProperties>
</file>