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EDAB-5213-4B6A-BA73-97CB800BCA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AC05C-4D08-4DF0-AF4B-0431D97A01C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F9340B-7E31-4D8A-BB41-3E1E2E2F93C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7C93CF-11F6-4D51-AD0E-6C7DEE5C97E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31444E-73F2-468A-9775-F3A7D3F3CFC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8567E1-500C-47F9-82CD-6C0F5B80D29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F931F8-7DC7-4199-A727-B4ABFEBBED8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582A98-3E47-44BB-84B3-47E6B2F1B0A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871D63-F894-46FB-88BA-680C768E7EA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72CFB2-D3F2-4CF3-B1DE-69FC8F81555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4068CC-CD18-4379-8274-130F69FA41B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25497-F194-4058-A42C-C4B28D137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7918-4608-411D-BC6B-9F4BC14DE4B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3F5568-0C25-4B81-9E17-84B78CD7D48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E26DC-C1D2-4EE4-8744-8F8C8E48A98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740433-0810-4995-8922-32458B751C7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88672-BB51-4AAC-B0BA-A498B6DBBDF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9FCDCB-59E3-464A-9512-E28198344EC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A6C79-6BA9-4814-8991-DA32D56DDF7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4CD03A-35A2-4C4B-AB95-512ADC610E2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6DE6A-28B9-42DE-B1B1-3F422EEF57A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D14BB-66BA-433F-BAA2-ACD4C423E0D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19D757-F79D-47AE-91A3-C2075AD9D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7ADB2-9E7B-47DA-BBED-8D9A508D58E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D3DF8-E97F-45FA-8336-D4CDF00C601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E4959-557E-4162-AEC9-0BB402A5D5B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9BFCE-1D0D-463A-A91A-4CEEFFA4DA2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725BA-69B2-48A9-A636-21CE7B72B25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9C6E4-54EF-44AC-8AB5-7E917CAA058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77F3D-3C81-440D-BCAD-EC7A3522C24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1C3D4-3CF7-44CA-B446-8AB50A270E1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E0F2F-292E-4DC3-BC2E-18F363438C9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541D8-2D90-422D-B400-DD3E0C0DB66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67CCE-E265-458A-B498-AF2E874972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BDA02-937F-4222-AA99-033C9302ED1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2A479-9BC7-4472-82BF-3055EE4A29A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0C2B0-F596-448D-A2FB-421C37D9836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AE5C4-F792-436A-8179-90AA93EA918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FA0D41-7C25-4C0C-9C37-B6E08E3C35D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0D1B17-8149-4A02-B192-02C50B89A13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356E94-E8EA-44EC-8D23-903178D5A02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6CAF12-9644-4B05-8F69-1C98E646334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7CB9C2-6FDD-4995-96D3-722FD64BBEF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21F5DE-2D4C-4F86-AF50-1EC2D0FADA2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EABC0D-74A0-4D77-B6FB-35FDDBD926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E1043-C7E3-46B6-847F-E6E0F9CD98C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3B9B7F-34A6-4DB7-AA81-8287576476C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C9293F-F95B-496F-968A-3A67FD7DFAE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8A8B5D-4CD3-45F8-9B2E-1D8A5D822ED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57B04C-AF22-4429-A601-80736E75899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E7E97A-9ADE-4BB4-8676-05588D2726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103BC-C1BD-407A-8C6D-18598280CE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B6E02-4948-4EAB-A5ED-68F12255A8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61DB-64FD-4229-A19D-C1AD01391C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7ABF6-5D2B-456A-8BD2-E51D75A967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5D948-8586-46C3-B3C8-82572AB5B4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7CAB2-5AB6-4C9B-B6B6-2CFA510F8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A2436-3823-4435-9862-D68E0F4533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8A890-0960-4DD8-93BA-D025091C05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02580-2A1C-44CA-813A-7E1F62D5BF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98B54-F063-4D0D-B23B-AD0F3A7CAA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7F269-6432-4B9E-8DB9-490C6D6D8B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029F-1C68-48FC-95B7-D40BEA8136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CD8E-2224-472B-A7AD-4C6FC0DCEF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9E99-6B49-4245-A402-BAADBD47CB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1A1-50BC-4415-80F0-42296EBC65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ACC-549A-4E5C-8B48-C346B209A6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AD552-C373-40E5-9A28-DD8A49634B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256A-411C-49FE-88B5-9E7FF10C1F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06F8-7D0A-4C59-94E7-1073AC1837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0CC-8E8A-4537-83BD-B84FB12FD7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EBFD-5069-4F17-9FC0-B8C9FAA80E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FC3-B7B2-4168-A840-CD6C42DDF3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BD2-DA5A-4749-A80A-F6C2D1BB10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BB5A-E53C-4F9C-8984-32F7053C39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6AAC7-293A-4FBE-A603-A12A4BBFA31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C1929-B7C8-4EA9-9E39-ED77C98C3B7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95308-0E2D-4AA5-9896-B59023629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DAA3-97A0-4E1D-93BB-23CED9291CD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774D9-7B10-4527-9EA0-0BCE3F2F69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E3FA0-6CD0-422E-9335-E35C2046BC6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5AB5A-16EC-4DBB-8DDF-F7BE82444D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7D31F-A23B-430B-93AF-D570626706E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2DD38-4BF8-48DA-BB06-A0697BEFB85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66FC2-AA5D-4857-8C7C-C36DBB67F1A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354D5-D10F-4931-8B01-7A50141E62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B3F33-E096-46D0-8259-FAB8666642F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0EFB8-CF0A-448F-8ED2-9A0FA82D21E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786B8-1E00-4E91-95F8-94711D852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C433E-9D39-44B8-A30E-58001AFB53B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620FF-A9AF-4363-A225-169C06202FF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34A6D-E7B1-4350-97C1-3DFC0E0E493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DCB12-F318-4C10-AAB0-7754A966509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FA480-CC98-4BF0-8DAE-6629F25EB87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05516-B2BA-4537-8CEB-7BE6E7C6607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2AB50-BC34-4EDB-A1F7-7F42311716A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2D87C-5AE9-464A-A15D-6AD100AFFFC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1ECA3-DD6D-4218-8C40-87F65BAEC6B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6A29C-2D21-4B79-8F50-5B989996C0B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66048-4E5C-471D-94F8-67DE25F31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4197E-AB9D-4B84-9572-F8FC650F42F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29837-E3FC-47BA-B8D4-55C3082C7F1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84F8-0294-497A-A4F9-210DD67E5C5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2680-7C3B-457E-BD42-8CB406E39C8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12DB-3EDE-4E14-9C92-2AC27F4AAB1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9808-5150-4892-98FB-06660EF341F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6964-4047-423E-8EFB-E165D181915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42ED-13B4-4027-90CD-F3C81495B56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68E7-2DC9-494A-8718-AFCDBEF5C47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B103-FDFE-4334-82C0-87BF72A1819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84EA-ADF4-48A1-8F96-336D48F92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2ECA1-3DC9-438C-A5D5-5B554A7EDD1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1B15-9252-41CF-B1A1-19BC5B3C019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BE11-86C6-40B0-9959-A5A8B9472EE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B9FF-FCE3-4864-8779-6AFE054FE57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C783-C761-414E-99E9-492B6904F80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160C8-1606-427C-8DB7-25A57E2CA5D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DCEE9D-A24A-4DCB-8263-7F8C1AC1516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4B4B77-C542-4B9A-9D16-50C97EFF473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FB194D-47F7-4B26-BFBC-115BDD3C7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avokutnik 3"/>
          <p:cNvSpPr/>
          <p:nvPr/>
        </p:nvSpPr>
        <p:spPr>
          <a:xfrm>
            <a:off x="250920" y="981000"/>
            <a:ext cx="8642160" cy="532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c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2C53-F239-49CE-81C9-688B652B4E79}" type="slidenum">
              <a:rPr b="0" lang="hr-HR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ravokutnik 3"/>
          <p:cNvSpPr/>
          <p:nvPr/>
        </p:nvSpPr>
        <p:spPr>
          <a:xfrm>
            <a:off x="250920" y="981000"/>
            <a:ext cx="8642160" cy="532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Slika 6" descr=""/>
          <p:cNvPicPr/>
          <p:nvPr/>
        </p:nvPicPr>
        <p:blipFill>
          <a:blip r:embed="rId2"/>
          <a:stretch/>
        </p:blipFill>
        <p:spPr>
          <a:xfrm>
            <a:off x="179280" y="6359400"/>
            <a:ext cx="1656000" cy="41292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c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8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C69C-18DE-4507-8C73-082E7D669DA1}" type="slidenum">
              <a:rPr b="0" lang="hr-HR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ravokutnik 3"/>
          <p:cNvSpPr/>
          <p:nvPr/>
        </p:nvSpPr>
        <p:spPr>
          <a:xfrm>
            <a:off x="250920" y="981000"/>
            <a:ext cx="8642160" cy="532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Slika 6" descr=""/>
          <p:cNvPicPr/>
          <p:nvPr/>
        </p:nvPicPr>
        <p:blipFill>
          <a:blip r:embed="rId2"/>
          <a:stretch/>
        </p:blipFill>
        <p:spPr>
          <a:xfrm>
            <a:off x="179280" y="6359400"/>
            <a:ext cx="1656000" cy="41292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c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sldNum" idx="9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2B58-CFDA-42E4-B2F4-5EBC0D0A58E2}" type="slidenum">
              <a:rPr b="0" lang="hr-HR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ravokutnik 3"/>
          <p:cNvSpPr/>
          <p:nvPr/>
        </p:nvSpPr>
        <p:spPr>
          <a:xfrm>
            <a:off x="250920" y="981000"/>
            <a:ext cx="8642160" cy="532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Slika 6" descr=""/>
          <p:cNvPicPr/>
          <p:nvPr/>
        </p:nvPicPr>
        <p:blipFill>
          <a:blip r:embed="rId2"/>
          <a:stretch/>
        </p:blipFill>
        <p:spPr>
          <a:xfrm>
            <a:off x="179280" y="6359400"/>
            <a:ext cx="1656000" cy="41292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c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10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5517-FFDC-4C7C-8D82-0797B05E843E}" type="slidenum">
              <a:rPr b="0" lang="hr-HR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ravokutnik 3"/>
          <p:cNvSpPr/>
          <p:nvPr/>
        </p:nvSpPr>
        <p:spPr>
          <a:xfrm>
            <a:off x="250920" y="981000"/>
            <a:ext cx="8642160" cy="532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" name="Slika 6" descr=""/>
          <p:cNvPicPr/>
          <p:nvPr/>
        </p:nvPicPr>
        <p:blipFill>
          <a:blip r:embed="rId2"/>
          <a:stretch/>
        </p:blipFill>
        <p:spPr>
          <a:xfrm>
            <a:off x="2463840" y="1484280"/>
            <a:ext cx="4218120" cy="1050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c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4FE3-800B-43E8-AE8B-782C508FC333}" type="slidenum">
              <a:rPr b="0" lang="hr-HR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ravokutnik 3"/>
          <p:cNvSpPr/>
          <p:nvPr/>
        </p:nvSpPr>
        <p:spPr>
          <a:xfrm>
            <a:off x="250920" y="981000"/>
            <a:ext cx="8642160" cy="532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Slika 6" descr=""/>
          <p:cNvPicPr/>
          <p:nvPr/>
        </p:nvPicPr>
        <p:blipFill>
          <a:blip r:embed="rId2"/>
          <a:stretch/>
        </p:blipFill>
        <p:spPr>
          <a:xfrm>
            <a:off x="179280" y="6359400"/>
            <a:ext cx="1656000" cy="412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c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887C-7702-403C-A790-CDB178A79AD2}" type="slidenum">
              <a:rPr b="0" lang="hr-HR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ravokutnik 3"/>
          <p:cNvSpPr/>
          <p:nvPr/>
        </p:nvSpPr>
        <p:spPr>
          <a:xfrm>
            <a:off x="250920" y="981000"/>
            <a:ext cx="8642160" cy="532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Slika 6" descr=""/>
          <p:cNvPicPr/>
          <p:nvPr/>
        </p:nvPicPr>
        <p:blipFill>
          <a:blip r:embed="rId2"/>
          <a:stretch/>
        </p:blipFill>
        <p:spPr>
          <a:xfrm>
            <a:off x="179280" y="6359400"/>
            <a:ext cx="1656000" cy="412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c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EBA6-9E5A-42F9-BF7F-C999F00182A8}" type="slidenum">
              <a:rPr b="0" lang="hr-HR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ravokutnik 3"/>
          <p:cNvSpPr/>
          <p:nvPr/>
        </p:nvSpPr>
        <p:spPr>
          <a:xfrm>
            <a:off x="250920" y="981000"/>
            <a:ext cx="8642160" cy="532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Slika 6" descr=""/>
          <p:cNvPicPr/>
          <p:nvPr/>
        </p:nvPicPr>
        <p:blipFill>
          <a:blip r:embed="rId2"/>
          <a:stretch/>
        </p:blipFill>
        <p:spPr>
          <a:xfrm>
            <a:off x="179280" y="6359400"/>
            <a:ext cx="1656000" cy="4129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c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8A26-D864-4A66-A4B2-0E2F8402D52C}" type="slidenum">
              <a:rPr b="0" lang="hr-HR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ravokutnik 3"/>
          <p:cNvSpPr/>
          <p:nvPr/>
        </p:nvSpPr>
        <p:spPr>
          <a:xfrm>
            <a:off x="250920" y="981000"/>
            <a:ext cx="8642160" cy="532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Slika 6" descr=""/>
          <p:cNvPicPr/>
          <p:nvPr/>
        </p:nvPicPr>
        <p:blipFill>
          <a:blip r:embed="rId2"/>
          <a:stretch/>
        </p:blipFill>
        <p:spPr>
          <a:xfrm>
            <a:off x="179280" y="6359400"/>
            <a:ext cx="1656000" cy="412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c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6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7CF0-677A-498A-96F9-9245AE5F2847}" type="slidenum">
              <a:rPr b="0" lang="hr-HR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ravokutnik 3"/>
          <p:cNvSpPr/>
          <p:nvPr/>
        </p:nvSpPr>
        <p:spPr>
          <a:xfrm>
            <a:off x="250920" y="981000"/>
            <a:ext cx="8642160" cy="532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ravokutnik 6"/>
          <p:cNvSpPr/>
          <p:nvPr/>
        </p:nvSpPr>
        <p:spPr>
          <a:xfrm>
            <a:off x="250920" y="692280"/>
            <a:ext cx="8642160" cy="6049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c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ravokutnik 3"/>
          <p:cNvSpPr/>
          <p:nvPr/>
        </p:nvSpPr>
        <p:spPr>
          <a:xfrm>
            <a:off x="250920" y="981000"/>
            <a:ext cx="8642160" cy="532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ravokutnik 6"/>
          <p:cNvSpPr/>
          <p:nvPr/>
        </p:nvSpPr>
        <p:spPr>
          <a:xfrm>
            <a:off x="108000" y="115920"/>
            <a:ext cx="8928000" cy="655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c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ravokutnik 3"/>
          <p:cNvSpPr/>
          <p:nvPr/>
        </p:nvSpPr>
        <p:spPr>
          <a:xfrm>
            <a:off x="250920" y="981000"/>
            <a:ext cx="8642160" cy="532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Slika 6" descr=""/>
          <p:cNvPicPr/>
          <p:nvPr/>
        </p:nvPicPr>
        <p:blipFill>
          <a:blip r:embed="rId2"/>
          <a:stretch/>
        </p:blipFill>
        <p:spPr>
          <a:xfrm>
            <a:off x="179280" y="6359400"/>
            <a:ext cx="1656000" cy="4129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c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7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45FF-4577-497F-B928-7B25B4C33D77}" type="slidenum">
              <a:rPr b="0" lang="hr-HR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3"/>
          <p:cNvSpPr/>
          <p:nvPr/>
        </p:nvSpPr>
        <p:spPr>
          <a:xfrm>
            <a:off x="395280" y="580536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Calibri"/>
                <a:ea typeface="Tahoma"/>
              </a:rPr>
              <a:t>Pregrada, 17. siječnja 2014</a:t>
            </a:r>
            <a:r>
              <a:rPr b="0" lang="hr-HR" sz="2000" spc="-1" strike="noStrike">
                <a:solidFill>
                  <a:srgbClr val="404040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Naslov 1"/>
          <p:cNvSpPr/>
          <p:nvPr/>
        </p:nvSpPr>
        <p:spPr>
          <a:xfrm>
            <a:off x="33480" y="1557360"/>
            <a:ext cx="9001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256536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e60000"/>
                </a:solidFill>
                <a:latin typeface="Verdana"/>
              </a:rPr>
              <a:t>ZAKONODAVNE INICIJATIVE </a:t>
            </a:r>
            <a:br>
              <a:rPr sz="3200"/>
            </a:br>
            <a:r>
              <a:rPr b="1" lang="hr-HR" sz="3200" spc="-1" strike="noStrike">
                <a:solidFill>
                  <a:srgbClr val="e60000"/>
                </a:solidFill>
                <a:latin typeface="Verdana"/>
              </a:rPr>
              <a:t>MINISTARSTVA RADA </a:t>
            </a:r>
            <a:br>
              <a:rPr sz="3200"/>
            </a:br>
            <a:r>
              <a:rPr b="1" lang="hr-HR" sz="3200" spc="-1" strike="noStrike">
                <a:solidFill>
                  <a:srgbClr val="e60000"/>
                </a:solidFill>
                <a:latin typeface="Verdana"/>
              </a:rPr>
              <a:t>I MIROVINSKOGA SUSTAVA</a:t>
            </a:r>
            <a:endParaRPr b="1" lang="en-US" sz="32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414080" y="4724280"/>
            <a:ext cx="63262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04040"/>
                </a:solidFill>
                <a:latin typeface="Calibri"/>
              </a:rPr>
              <a:t>M I N I S T A R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04040"/>
                </a:solidFill>
                <a:latin typeface="Calibri"/>
              </a:rPr>
              <a:t>prof.dr.sc. Mirando Mrsić, dr. med.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000" spc="-1" strike="noStrike">
                <a:solidFill>
                  <a:srgbClr val="dc0000"/>
                </a:solidFill>
                <a:latin typeface="Verdana"/>
              </a:rPr>
              <a:t>USKLAĐIVANJE MIROVINA</a:t>
            </a:r>
            <a:r>
              <a:rPr b="1" lang="hr-HR" sz="3000" spc="-1" strike="noStrike">
                <a:solidFill>
                  <a:srgbClr val="dc0000"/>
                </a:solidFill>
                <a:latin typeface="Verdana"/>
              </a:rPr>
              <a:t> (2)</a:t>
            </a: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404028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040"/>
                </a:solidFill>
                <a:latin typeface="Calibri"/>
              </a:rPr>
              <a:t>STARI ZAKON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6840" y="1412640"/>
            <a:ext cx="40402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n</a:t>
            </a:r>
            <a:r>
              <a:rPr b="0" lang="vi-VN" sz="2400" spc="-1" strike="noStrike">
                <a:solidFill>
                  <a:srgbClr val="404040"/>
                </a:solidFill>
                <a:latin typeface="Calibri"/>
              </a:rPr>
              <a:t>ačin usklađivanja mirovina isti za sve vrste propisa po kojem je ostvareno pravo na mirovinu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43280" y="1052280"/>
            <a:ext cx="404208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040"/>
                </a:solidFill>
                <a:latin typeface="Calibri"/>
              </a:rPr>
              <a:t>NOVI ZAKON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644720" y="1412640"/>
            <a:ext cx="4041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404040"/>
                </a:solidFill>
                <a:latin typeface="Calibri"/>
              </a:rPr>
              <a:t>mirovine ostvarene prema posebnim propisima usklađiva</a:t>
            </a: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t</a:t>
            </a:r>
            <a:r>
              <a:rPr b="0" lang="vi-VN" sz="2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će</a:t>
            </a:r>
            <a:r>
              <a:rPr b="0" lang="vi-VN" sz="2400" spc="-1" strike="noStrike">
                <a:solidFill>
                  <a:srgbClr val="404040"/>
                </a:solidFill>
                <a:latin typeface="Calibri"/>
              </a:rPr>
              <a:t> se ako je realni rast BDP-a u svakom od tri prethodna uzastopna tromjesečja najmanje 2,0%  u odnosu na isto tromjesečje prethodne kalendarske godine i ako je deficit državnog proračuna manji od 3%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1" name="Rezervirano mjesto broja slajda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4EFD-36DA-4755-BFA6-FB563A05CBAC}" type="slidenum">
              <a:rPr b="0" lang="hr-HR" sz="1200" spc="-1" strike="noStrike">
                <a:solidFill>
                  <a:srgbClr val="a6a6a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kstniOkvir 2"/>
          <p:cNvSpPr/>
          <p:nvPr/>
        </p:nvSpPr>
        <p:spPr>
          <a:xfrm>
            <a:off x="620640" y="52293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04040"/>
                </a:solidFill>
                <a:latin typeface="Calibri"/>
              </a:rPr>
              <a:t>ukidanje povlaštenih mirovina za saborske zastupnike, članove vlade i suce Ustavnog su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dc0000"/>
                </a:solidFill>
                <a:latin typeface="Verdana"/>
              </a:rPr>
              <a:t>ISPLATA MIROVINA</a:t>
            </a: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404028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040"/>
                </a:solidFill>
                <a:latin typeface="Calibri"/>
              </a:rPr>
              <a:t>STARI ZAKON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6840" y="1484280"/>
            <a:ext cx="40402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180.000 korisnika koji primaju mirovinu putem pošte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3280" y="1052280"/>
            <a:ext cx="404208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040"/>
                </a:solidFill>
                <a:latin typeface="Calibri"/>
              </a:rPr>
              <a:t>NOVI ZAKON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644720" y="1484280"/>
            <a:ext cx="4041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dosadašnji korisnici koji primaju i dalje će dobivati mirovinu na isti način, putem pošte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novi korisnici nakon 1. siječnja 2014. primaju mirovinu isključivo preko banke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8" name="Rezervirano mjesto broja slajda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E786-22FA-42EE-9180-81DD5F8C35B4}" type="slidenum">
              <a:rPr b="0" lang="hr-HR" sz="1200" spc="-1" strike="noStrike">
                <a:solidFill>
                  <a:srgbClr val="a6a6a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9" name="Picture 3" descr="C:\Documents and Settings\kzdravko\My Documents\My Pictures\Clipart\poštar1.jpg"/>
          <p:cNvPicPr/>
          <p:nvPr/>
        </p:nvPicPr>
        <p:blipFill>
          <a:blip r:embed="rId1"/>
          <a:stretch/>
        </p:blipFill>
        <p:spPr>
          <a:xfrm>
            <a:off x="1116000" y="3068640"/>
            <a:ext cx="2376360" cy="16588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" descr="C:\Documents and Settings\kzdravko\My Documents\My Pictures\Clipart\bank_manager.gif"/>
          <p:cNvPicPr/>
          <p:nvPr/>
        </p:nvPicPr>
        <p:blipFill>
          <a:blip r:embed="rId2"/>
          <a:stretch/>
        </p:blipFill>
        <p:spPr>
          <a:xfrm>
            <a:off x="6588000" y="4508640"/>
            <a:ext cx="1543320" cy="150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1360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e60000"/>
                </a:solidFill>
                <a:latin typeface="Verdana"/>
              </a:rPr>
              <a:t>ZAKON O RADU</a:t>
            </a:r>
            <a:br>
              <a:rPr sz="4000"/>
            </a:br>
            <a:endParaRPr b="1" lang="en-US" sz="4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552" name="Rezervirano mjesto broja slajda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6662-B46F-47EF-A8E2-FA1200B045C7}" type="slidenum">
              <a:rPr b="0" lang="hr-HR" sz="1200" spc="-1" strike="noStrike">
                <a:solidFill>
                  <a:srgbClr val="a6a6a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dc0000"/>
                </a:solidFill>
                <a:latin typeface="Verdana"/>
              </a:rPr>
              <a:t>REFORME U DRŽAVAMA ČLANICAMA EU? </a:t>
            </a:r>
            <a:endParaRPr b="1" lang="en-US" sz="27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404040"/>
                </a:solidFill>
                <a:latin typeface="Calibri"/>
              </a:rPr>
              <a:t>Izmjene radno-socijalnog zakonodavstva odnosile su se na:</a:t>
            </a: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404040"/>
                </a:solidFill>
                <a:latin typeface="Calibri"/>
              </a:rPr>
              <a:t>izmjene pojedinih instituta u cilju olakšavanja otpuštanja radnika</a:t>
            </a:r>
            <a:r>
              <a:rPr b="0" lang="hr-HR" sz="2200" spc="-1" strike="noStrike">
                <a:solidFill>
                  <a:srgbClr val="404040"/>
                </a:solidFill>
                <a:latin typeface="Calibri"/>
              </a:rPr>
              <a:t> (kao primjerice smanjenje otkaznih rokova, smanjenje iznosa otpremnina, smanjivanje kriterija i olakšavanje postupka kolektivnog otpuštanja radnika),</a:t>
            </a: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404040"/>
                </a:solidFill>
                <a:latin typeface="Calibri"/>
              </a:rPr>
              <a:t>postizanje interne fleksibilnosti kod poslodavca (dodatnom fleksibilizacijom u uređenju radnog vremena i rasporeda radnog vremena </a:t>
            </a:r>
            <a:r>
              <a:rPr b="0" lang="hr-HR" sz="2200" spc="-1" strike="noStrike">
                <a:solidFill>
                  <a:srgbClr val="404040"/>
                </a:solidFill>
                <a:latin typeface="Calibri"/>
              </a:rPr>
              <a:t>kroz omogućavanje korištenja tzv. „banke sati“ na razini godine, omogućavanjem premještaja radnika na drugo radno mjesto ili mjesto rada bez postupka otkazivanja ugovora o radu),</a:t>
            </a: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404040"/>
                </a:solidFill>
                <a:latin typeface="Calibri"/>
              </a:rPr>
              <a:t>smanjenje kriterija za zapošljavanje radnika na određeno vrijeme</a:t>
            </a:r>
            <a:r>
              <a:rPr b="0" lang="hr-HR" sz="2200" spc="-1" strike="noStrike">
                <a:solidFill>
                  <a:srgbClr val="404040"/>
                </a:solidFill>
                <a:latin typeface="Calibri"/>
              </a:rPr>
              <a:t>, pooštravanje kazni za poslodavce u slučaju zloupotreba rada na određeno vrijeme (primjerice u Češkoj, Portugalu, Španjolskoj)</a:t>
            </a: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404040"/>
                </a:solidFill>
                <a:latin typeface="Calibri"/>
              </a:rPr>
              <a:t>Mjere usmjerene na održavanje fiskalne stabilnosti u socijalnom sustavu</a:t>
            </a: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4B68-8D7E-40D5-A8E0-15597C708B9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Rectangle 2"/>
          <p:cNvSpPr/>
          <p:nvPr/>
        </p:nvSpPr>
        <p:spPr>
          <a:xfrm>
            <a:off x="0" y="0"/>
            <a:ext cx="9096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Rectangle 2"/>
          <p:cNvSpPr/>
          <p:nvPr/>
        </p:nvSpPr>
        <p:spPr>
          <a:xfrm>
            <a:off x="152280" y="152280"/>
            <a:ext cx="9096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dc0000"/>
                </a:solidFill>
                <a:latin typeface="Verdana"/>
              </a:rPr>
              <a:t>UOČENI PROBLEMI</a:t>
            </a: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04040"/>
                </a:solidFill>
                <a:latin typeface="Calibri"/>
              </a:rPr>
              <a:t>Gospodarska kriza      rast nezaposlenosti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04040"/>
                </a:solidFill>
                <a:latin typeface="Calibri"/>
              </a:rPr>
              <a:t>Neprihvatljiv udio sive ekonomije i rada „na crno”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04040"/>
                </a:solidFill>
                <a:latin typeface="Calibri"/>
              </a:rPr>
              <a:t>Preduga procedura za brzu prilagodbu poslodavaca novonastalim okolnostima na tržištu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04040"/>
                </a:solidFill>
                <a:latin typeface="Calibri"/>
              </a:rPr>
              <a:t>Gubitak ljudskog kapitala zbog preniske stope zaposlenosti i dugotrajne nezaposlenosti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04040"/>
                </a:solidFill>
                <a:latin typeface="Calibri"/>
              </a:rPr>
              <a:t>Nedovoljna iskorištenost fleksibilnih oblika zapošljavanja kao što su rad u nepunom radnom vremenu (smanjen udio sa 10,8% = 2011. na 8,9% = 2012.), rad na izdvojenom mjestu rada itd. 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04040"/>
                </a:solidFill>
                <a:latin typeface="Calibri"/>
              </a:rPr>
              <a:t>Sustav socijalne sigurnosti neprilagođen promjenama u sustavu radnih odnosa i tržištu rada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7E04-1521-4892-BD84-F263D3B59775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0" y="0"/>
            <a:ext cx="9096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Strelica udesno 1"/>
          <p:cNvSpPr/>
          <p:nvPr/>
        </p:nvSpPr>
        <p:spPr>
          <a:xfrm>
            <a:off x="3384720" y="1197000"/>
            <a:ext cx="323640" cy="14436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dc0000"/>
                </a:solidFill>
                <a:latin typeface="Verdana"/>
              </a:rPr>
              <a:t>ŠTO RADI HRVATSKA?</a:t>
            </a: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04040"/>
                </a:solidFill>
                <a:latin typeface="Calibri"/>
              </a:rPr>
              <a:t>Kroz reformu radno-socijalnog zakonodavstva te drugih pratećih propisa cilj je: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04040"/>
                </a:solidFill>
                <a:latin typeface="Calibri"/>
              </a:rPr>
              <a:t>smanjiti stopu nezaposlenosti;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04040"/>
                </a:solidFill>
                <a:latin typeface="Calibri"/>
              </a:rPr>
              <a:t>povećati stopu zaposlenosti;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04040"/>
                </a:solidFill>
                <a:latin typeface="Calibri"/>
              </a:rPr>
              <a:t>smanjiti udio rada “na crno”;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04040"/>
                </a:solidFill>
                <a:latin typeface="Calibri"/>
              </a:rPr>
              <a:t>jačati fleksibilnost, prilagodljivost, mobilnost i sigurnost radnika;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04040"/>
                </a:solidFill>
                <a:latin typeface="Calibri"/>
              </a:rPr>
              <a:t>osigurati brže ostvarenje prava strana u radnom odnosu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04040"/>
                </a:solidFill>
                <a:latin typeface="Calibri"/>
              </a:rPr>
              <a:t>reformirati sustav socijalne sigurnosti (mirovinski i zdravstveni sustava te sustav socijalnih naknada)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8123-E118-477F-A9E2-B22383EF3521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Rectangle 2"/>
          <p:cNvSpPr/>
          <p:nvPr/>
        </p:nvSpPr>
        <p:spPr>
          <a:xfrm>
            <a:off x="152280" y="152280"/>
            <a:ext cx="9096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dc0000"/>
                </a:solidFill>
                <a:latin typeface="Verdana"/>
              </a:rPr>
              <a:t>CILJEVI NOVOG ZAKONA O RADU?</a:t>
            </a: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Omogućiti poslodavcima brzu prilagodbu dinamičnim promjenama u poslovanju i stanju na tržištu 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Potaknuti zapošljavanje temeljem fleksibilnih oblika zapošljavanja (rad u nepunom radnom vremenu, rad od kuće, rad preko agencija za privremeno zapošljavanje)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Jasnije urediti pojedine institute u Zakonu o radu (npr. godišnji odmor, pravo na štrajk itd.)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Normativno rasteretiti sadržaj novog Zakona o radu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9E06-41AE-4346-B264-1B8FF42E815F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1360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e60000"/>
                </a:solidFill>
                <a:latin typeface="Verdana"/>
              </a:rPr>
              <a:t>ZAKON O POTPORAMA ZA OČUVANJE RADNIH MJESTA</a:t>
            </a:r>
            <a:endParaRPr b="1" lang="en-US" sz="4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1343160" y="5084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72" name="Rezervirano mjesto broja slajda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55B1-66A8-41F8-95AD-2E56B6BC80C6}" type="slidenum">
              <a:rPr b="0" lang="hr-HR" sz="1200" spc="-1" strike="noStrike">
                <a:solidFill>
                  <a:srgbClr val="a6a6a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dc0000"/>
                </a:solidFill>
                <a:latin typeface="Verdana"/>
              </a:rPr>
              <a:t>ŠTO JE NOVO U ODNOSU NA RANIJI ZAKON?</a:t>
            </a:r>
            <a:endParaRPr b="1" lang="en-US" sz="27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404040"/>
                </a:solidFill>
                <a:latin typeface="Calibri"/>
              </a:rPr>
              <a:t>Proširena je lista mjera za potpore </a:t>
            </a:r>
            <a:r>
              <a:rPr b="0" lang="hr-HR" sz="1600" spc="-1" strike="noStrike">
                <a:solidFill>
                  <a:srgbClr val="404040"/>
                </a:solidFill>
                <a:latin typeface="Calibri"/>
              </a:rPr>
              <a:t>= Kao potporu za očuvanje radnih mjesta novim Zakonom se uz potporu za skraćivanje radnog vremena predlaže i potpora za edukaciju (osposobljavanje) radnika za vrijeme dok ne rad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39480" indent="-339480"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404040"/>
                </a:solidFill>
                <a:latin typeface="Calibri"/>
              </a:rPr>
              <a:t>Ublaženi su kriteriji koje poslodavci moraju ispunjavati da bi imali mogućnost zahtijevati potporu od držav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39480" indent="-339480"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404040"/>
                </a:solidFill>
                <a:latin typeface="Calibri"/>
              </a:rPr>
              <a:t>Produžena su razdoblja u kojima poslodavac ima pravo ostvarivati potporu </a:t>
            </a:r>
            <a:r>
              <a:rPr b="0" lang="hr-HR" sz="1600" spc="-1" strike="noStrike">
                <a:solidFill>
                  <a:srgbClr val="404040"/>
                </a:solidFill>
                <a:latin typeface="Calibri"/>
              </a:rPr>
              <a:t>(sa 6 na12 mjeseci)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39480" indent="-339480"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404040"/>
                </a:solidFill>
                <a:latin typeface="Calibri"/>
              </a:rPr>
              <a:t>Izmijenjena visina potpora </a:t>
            </a:r>
            <a:r>
              <a:rPr b="0" lang="hr-HR" sz="1600" spc="-1" strike="noStrike">
                <a:solidFill>
                  <a:srgbClr val="404040"/>
                </a:solidFill>
                <a:latin typeface="Calibri"/>
              </a:rPr>
              <a:t>(umjesto da se naknađuje razlika između iznosa doprinosa iz plaće i na plaću radnika, prema novom prijedlogu se visina potpore utvrđuje kao razmjerni dio iznosa plaće za skraćene sate, ali prema minimalnoj plaći)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39480" indent="-339480"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404040"/>
                </a:solidFill>
                <a:latin typeface="Calibri"/>
              </a:rPr>
              <a:t>Skraćeni su rokovi za rješavanje zahtjeva HZZ-a za dodjelu potpora </a:t>
            </a:r>
            <a:r>
              <a:rPr b="0" lang="hr-HR" sz="1600" spc="-1" strike="noStrike">
                <a:solidFill>
                  <a:srgbClr val="404040"/>
                </a:solidFill>
                <a:latin typeface="Calibri"/>
              </a:rPr>
              <a:t>(sa 30 na 15 dana)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39480" indent="-339480"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404040"/>
                </a:solidFill>
                <a:latin typeface="Calibri"/>
              </a:rPr>
              <a:t>Uvedena je obveza poslodavca da u određenom vremenskom razdoblju zadrži radnike za koje je tražio potporu </a:t>
            </a:r>
            <a:r>
              <a:rPr b="0" lang="hr-HR" sz="1600" spc="-1" strike="noStrike">
                <a:solidFill>
                  <a:srgbClr val="404040"/>
                </a:solidFill>
                <a:latin typeface="Calibri"/>
              </a:rPr>
              <a:t>(ali je ograničena na određeno vremensko razdoblje, i postoji mogućnost oslobođenja poslodavca takve obveze = uvedena je mogućnost restrukturiranja poslodavca iako koristi potporu)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39480" indent="-339480"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404040"/>
                </a:solidFill>
                <a:latin typeface="Calibri"/>
              </a:rPr>
              <a:t>Prije je bila obveza poslodavca da ima suglasnost radničkog vijeća ili sindikalnog povjerenika za program skraćivanja radnog vremena, a prema novom zakonu to se vezuje i uz sindikat </a:t>
            </a:r>
            <a:r>
              <a:rPr b="0" lang="hr-HR" sz="1600" spc="-1" strike="noStrike">
                <a:solidFill>
                  <a:srgbClr val="404040"/>
                </a:solidFill>
                <a:latin typeface="Calibri"/>
              </a:rPr>
              <a:t>(otvorena je mogućnost sporazuma i kod poslodavaca kod kojih nije osnovano radničko vijeć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5" name="Rezervirano mjesto broja slajda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90D7-2B74-467C-AD35-763A23163793}" type="slidenum">
              <a:rPr b="0" lang="hr-HR" sz="1200" spc="-1" strike="noStrike">
                <a:solidFill>
                  <a:srgbClr val="a6a6a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dc0000"/>
                </a:solidFill>
                <a:latin typeface="Verdana"/>
              </a:rPr>
              <a:t>ŽELJENI REZULTATI REFORME RADNOG ZAKONODAVSTVA?</a:t>
            </a:r>
            <a:endParaRPr b="1" lang="en-US" sz="27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Omogućiti poslodavcima bržu prilagodbu uvjetima na tržištu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Očuvati radna mjesta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Omogućiti lakše zapošljavanje u fleksibilnim oblicima zapošljavanja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Osigurati pravnu sigurnost kroz jasne i primjenjive pravne norme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Sadržajno rasteretiti Zakon o radu te ga učiniti jednostavnijim i razumljivijim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Poticati ulaganje u ljudski kapital u cilju poticanja zapošljivosti radnika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Osigurati fiskalnu stabilnost mirovinskog sustava, te poticati aktivaciju na tržištu rada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Osigurati pravedan i dobro ciljan sustav socijalne sigurnosti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218E-2DFF-4427-8952-BF5009D5F6B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1360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e60000"/>
                </a:solidFill>
                <a:latin typeface="Verdana"/>
              </a:rPr>
              <a:t>NOVI ZAKON O MIROVINSKOM OSIGURANJU</a:t>
            </a:r>
            <a:br>
              <a:rPr sz="3000"/>
            </a:b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343160" y="5084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1360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e60000"/>
                </a:solidFill>
                <a:latin typeface="Verdana"/>
              </a:rPr>
              <a:t>CILJEVI I PRIORITETI EUROPSKOG SOCIJALNOG FONDA (ESF)</a:t>
            </a:r>
            <a:endParaRPr b="1" lang="en-US" sz="4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343160" y="5084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dc0000"/>
                </a:solidFill>
                <a:latin typeface="Verdana"/>
              </a:rPr>
              <a:t>NAČELA I CILJEVI ESF-A</a:t>
            </a: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404040"/>
                </a:solidFill>
                <a:latin typeface="Calibri"/>
              </a:rPr>
              <a:t>od 1. </a:t>
            </a:r>
            <a:r>
              <a:rPr b="0" lang="vi-VN" sz="2200" spc="-1" strike="noStrike">
                <a:solidFill>
                  <a:srgbClr val="404040"/>
                </a:solidFill>
                <a:latin typeface="Calibri"/>
              </a:rPr>
              <a:t>srpnj</a:t>
            </a:r>
            <a:r>
              <a:rPr b="0" lang="hr-HR" sz="2200" spc="-1" strike="noStrike">
                <a:solidFill>
                  <a:srgbClr val="404040"/>
                </a:solidFill>
                <a:latin typeface="Calibri"/>
              </a:rPr>
              <a:t>a</a:t>
            </a:r>
            <a:r>
              <a:rPr b="0" lang="vi-VN" sz="2200" spc="-1" strike="noStrike">
                <a:solidFill>
                  <a:srgbClr val="404040"/>
                </a:solidFill>
                <a:latin typeface="Calibri"/>
              </a:rPr>
              <a:t> 2013.</a:t>
            </a:r>
            <a:r>
              <a:rPr b="0" lang="hr-HR" sz="2200" spc="-1" strike="noStrike">
                <a:solidFill>
                  <a:srgbClr val="404040"/>
                </a:solidFill>
                <a:latin typeface="Calibri"/>
              </a:rPr>
              <a:t> RH kao članici dostupni Strukturni i Investicijski fondovi</a:t>
            </a: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404040"/>
                </a:solidFill>
                <a:latin typeface="Calibri"/>
              </a:rPr>
              <a:t>Strukturni fondovi uspostavljeni su kao potpora smanjivanju razlika u razini razvoja između država članica i europskih regija s ciljem jačanja gospodarske i socijalne kohezije</a:t>
            </a: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404040"/>
                </a:solidFill>
                <a:latin typeface="Calibri"/>
              </a:rPr>
              <a:t>Cilj ESF-a, kao jednog od instrumenata Kohezijske politike; Poboljšanje efikasnosti tržišta rada, razvoj ljudskog kapitala i jačanje socijalnog uključivanja.</a:t>
            </a: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404040"/>
                </a:solidFill>
                <a:latin typeface="Calibri"/>
              </a:rPr>
              <a:t>Spomenuti cilj u skladu je s Strategijom </a:t>
            </a:r>
            <a:r>
              <a:rPr b="1" lang="hr-HR" sz="2200" spc="-1" strike="noStrike">
                <a:solidFill>
                  <a:srgbClr val="404040"/>
                </a:solidFill>
                <a:latin typeface="Calibri"/>
              </a:rPr>
              <a:t>Europe 2020 - 3 glavne odrednice</a:t>
            </a: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404040"/>
                </a:solidFill>
                <a:latin typeface="Calibri"/>
              </a:rPr>
              <a:t>Pametan</a:t>
            </a:r>
            <a:r>
              <a:rPr b="0" lang="hr-HR" sz="2200" spc="-1" strike="noStrike">
                <a:solidFill>
                  <a:srgbClr val="404040"/>
                </a:solidFill>
                <a:latin typeface="Calibri"/>
              </a:rPr>
              <a:t>  - Razvijanje ekonomije utemeljene na znanju i inovaciji</a:t>
            </a: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404040"/>
                </a:solidFill>
                <a:latin typeface="Calibri"/>
              </a:rPr>
              <a:t>Održiv</a:t>
            </a:r>
            <a:r>
              <a:rPr b="0" lang="hr-HR" sz="2200" spc="-1" strike="noStrike">
                <a:solidFill>
                  <a:srgbClr val="404040"/>
                </a:solidFill>
                <a:latin typeface="Calibri"/>
              </a:rPr>
              <a:t> - Promicanje „zelene” a time i konkurentnije ekonomije koja učinkovitije iskorištava svoje resurse</a:t>
            </a: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404040"/>
                </a:solidFill>
                <a:latin typeface="Calibri"/>
              </a:rPr>
              <a:t>i </a:t>
            </a:r>
            <a:r>
              <a:rPr b="1" lang="hr-HR" sz="2200" spc="-1" strike="noStrike">
                <a:solidFill>
                  <a:srgbClr val="404040"/>
                </a:solidFill>
                <a:latin typeface="Calibri"/>
              </a:rPr>
              <a:t>Uključivi</a:t>
            </a:r>
            <a:r>
              <a:rPr b="0" lang="hr-HR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hr-HR" sz="2200" spc="-1" strike="noStrike">
                <a:solidFill>
                  <a:srgbClr val="404040"/>
                </a:solidFill>
                <a:latin typeface="Calibri"/>
              </a:rPr>
              <a:t>razvoj</a:t>
            </a:r>
            <a:r>
              <a:rPr b="0" lang="hr-HR" sz="2200" spc="-1" strike="noStrike">
                <a:solidFill>
                  <a:srgbClr val="404040"/>
                </a:solidFill>
                <a:latin typeface="Calibri"/>
              </a:rPr>
              <a:t> – Njegovanje ekonomije s visokom stopom zaposlenosti  koja donosi društvenu i teritorijalnu povezanost</a:t>
            </a: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dc0000"/>
                </a:solidFill>
                <a:latin typeface="Verdana"/>
              </a:rPr>
              <a:t>NAČELA I CILJEVI ESF-A </a:t>
            </a: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404040"/>
                </a:solidFill>
                <a:latin typeface="Calibri"/>
              </a:rPr>
              <a:t>Operativni program za ESF – strateški/operativni sljedbenik krovnog dokumenta  - Partnerski sporazum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404040"/>
                </a:solidFill>
                <a:latin typeface="Calibri"/>
              </a:rPr>
              <a:t>Partnerski sporazum </a:t>
            </a:r>
            <a:r>
              <a:rPr b="0" lang="hr-HR" sz="2000" spc="-1" strike="noStrike">
                <a:solidFill>
                  <a:srgbClr val="404040"/>
                </a:solidFill>
                <a:latin typeface="Calibri"/>
              </a:rPr>
              <a:t>-   Definira najvažnije razvojne izazove s kojima se Hrvatska suočava te identificira  glavne prioritete financiranja zemlje u kontekstu korištenja europskih Strukturnih i Investicijskih (ESI) fondova.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Calibri"/>
              </a:rPr>
              <a:t>Prvenstveno namijenjen za „meke” mjere usmjerene na poticanje: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404040"/>
                </a:solidFill>
                <a:latin typeface="Calibri"/>
              </a:rPr>
              <a:t>zapošljavanja</a:t>
            </a:r>
            <a:endParaRPr b="0" lang="en-US" sz="17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404040"/>
                </a:solidFill>
                <a:latin typeface="Calibri"/>
              </a:rPr>
              <a:t>obrazovanja i usavršavanja</a:t>
            </a:r>
            <a:endParaRPr b="0" lang="en-US" sz="17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404040"/>
                </a:solidFill>
                <a:latin typeface="Calibri"/>
              </a:rPr>
              <a:t>socijalnog uključivanja</a:t>
            </a:r>
            <a:endParaRPr b="0" lang="en-US" sz="17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404040"/>
                </a:solidFill>
                <a:latin typeface="Calibri"/>
              </a:rPr>
              <a:t>jačanja socijalnog dijaloga</a:t>
            </a:r>
            <a:endParaRPr b="0" lang="en-US" sz="17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404040"/>
                </a:solidFill>
                <a:latin typeface="Calibri"/>
              </a:rPr>
              <a:t>razvoja civilnog društva</a:t>
            </a:r>
            <a:endParaRPr b="0" lang="en-US" sz="17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Calibri"/>
              </a:rPr>
              <a:t>Do 1.7. 2013. IV komponenta IPAe, (pretpristupni instrument) kao preteča Europskog socijalnog fonda financira projekte na području socijalne kohezije u svrhu ostvarivanja ciljeva Europske strategije za zapošljavanje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Calibri"/>
              </a:rPr>
              <a:t>financiranje: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404040"/>
                </a:solidFill>
                <a:latin typeface="Calibri"/>
              </a:rPr>
              <a:t>85 %  iz proračuna EU</a:t>
            </a:r>
            <a:endParaRPr b="0" lang="en-US" sz="17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404040"/>
                </a:solidFill>
                <a:latin typeface="Calibri"/>
              </a:rPr>
              <a:t>15 % iz proračuna RH</a:t>
            </a:r>
            <a:endParaRPr b="0" lang="en-US" sz="17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dc0000"/>
                </a:solidFill>
                <a:latin typeface="Verdana"/>
              </a:rPr>
              <a:t>EUROPSKI SOCIJALNI FOND</a:t>
            </a:r>
            <a:br>
              <a:rPr sz="2700"/>
            </a:br>
            <a:r>
              <a:rPr b="1" lang="pl-PL" sz="2700" spc="-1" strike="noStrike">
                <a:solidFill>
                  <a:srgbClr val="dc0000"/>
                </a:solidFill>
                <a:latin typeface="Verdana"/>
              </a:rPr>
              <a:t>(ZA RAZDOBLJE 2014.-2020.)</a:t>
            </a:r>
            <a:endParaRPr b="1" lang="en-US" sz="27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404040"/>
                </a:solidFill>
                <a:latin typeface="Calibri"/>
              </a:rPr>
              <a:t>*pravila igre* 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04040"/>
                </a:solidFill>
                <a:latin typeface="Calibri"/>
              </a:rPr>
              <a:t>Nova financijska perspektiva 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04040"/>
                </a:solidFill>
                <a:latin typeface="Calibri"/>
              </a:rPr>
              <a:t>Načelo usmjeravanja 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04040"/>
                </a:solidFill>
                <a:latin typeface="Calibri"/>
              </a:rPr>
              <a:t>EU sredstva upotpunjuju nacionalna ulaganja, (ne zamjenjuju!)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04040"/>
                </a:solidFill>
                <a:latin typeface="Calibri"/>
              </a:rPr>
              <a:t>Višegodišnje planiranje potreba, aktivnosti i sredstava  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04040"/>
                </a:solidFill>
                <a:latin typeface="Calibri"/>
              </a:rPr>
              <a:t>Partnersko promišljanje i provedba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04040"/>
                </a:solidFill>
                <a:latin typeface="Calibri"/>
              </a:rPr>
              <a:t>Sustavno nadziranje korištenje sredstava 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04040"/>
                </a:solidFill>
                <a:latin typeface="Calibri"/>
              </a:rPr>
              <a:t>Procjena učinka (evaluacije)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04040"/>
                </a:solidFill>
                <a:latin typeface="Calibri"/>
              </a:rPr>
              <a:t>Iako će konkretni financijski iznosi biti predmet razgovora između predstavnika EK i RH, prilikom finaliziranja Partnerskog sporazuma, iznosi pretpostavljeni za RH u okviru ESF Operativnog programa, vrlo su izdašni – prosječna  godišnja alokacija do 2020 godine, za ESF iznosi oko 200 mil. eura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404040"/>
                </a:solidFill>
                <a:latin typeface="Calibri"/>
              </a:rPr>
              <a:t>FINANCIJSKA SREDSTVA 2014.-2020.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04040"/>
                </a:solidFill>
                <a:latin typeface="Calibri"/>
              </a:rPr>
              <a:t>Ukupna indikativna sredstva: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404040"/>
                </a:solidFill>
                <a:latin typeface="Calibri"/>
              </a:rPr>
              <a:t>1.511,10 milijuna eura u okviru ESF-a</a:t>
            </a:r>
            <a:endParaRPr b="0" lang="en-US" sz="15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404040"/>
                </a:solidFill>
                <a:latin typeface="Calibri"/>
              </a:rPr>
              <a:t>637,50 milijuna eura u okviru ERDF-a (socijalna infrastruktura - zdravlje, obrazovanje, soc. skrb.)</a:t>
            </a:r>
            <a:endParaRPr b="0" lang="en-US" sz="15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dc0000"/>
                </a:solidFill>
                <a:latin typeface="Verdana"/>
              </a:rPr>
              <a:t>EUROPSKI SOCIJALNI FOND</a:t>
            </a:r>
            <a:br>
              <a:rPr sz="2700"/>
            </a:br>
            <a:r>
              <a:rPr b="1" lang="pl-PL" sz="2700" spc="-1" strike="noStrike">
                <a:solidFill>
                  <a:srgbClr val="dc0000"/>
                </a:solidFill>
                <a:latin typeface="Verdana"/>
              </a:rPr>
              <a:t>(ZA RAZDOBLJE 2014.-2020.)</a:t>
            </a:r>
            <a:endParaRPr b="1" lang="en-US" sz="27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Tematski ciljevi koji obuhvaćaju aktivnosti predviđene za financiranje u okviru ESF-a za razdoblje 2014.-2020. su slijedeći: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Promicanje zapošljavanja i podrška mobilnosti radne snage (TO 8)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Socijalno uključivanje i borba protiv siromaštva (TO 9)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Ulaganje u obrazovanje, vještine i cjeloživotno učenje (TO 10)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Unapređenje institucionalnih kapaciteta i učinkovita javna uprava (TO 11)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dc0000"/>
                </a:solidFill>
                <a:latin typeface="Verdana"/>
              </a:rPr>
              <a:t>HVALA NA PAŽNJI!</a:t>
            </a:r>
            <a:endParaRPr b="0" lang="en-US" sz="4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dc0000"/>
                </a:solidFill>
                <a:latin typeface="Verdana"/>
              </a:rPr>
              <a:t>CILJEVI MIROVINSKOG SUSTAVA</a:t>
            </a: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Adekvatnost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Održivost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Modernizacija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Osigurati odgovarajući i siguran prihod osiguranicima i njihovim obiteljima u slučaju nastupa rizika starosti, invalidnosti i smrti hranitelja obitelji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Osnovni zahtjevi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Uspostaviti i održavati socijalno i ekonomski održiv mirovinski sustav u srednjoročnom i dugoročnom razdoblju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hr-HR" sz="2700" spc="-1" strike="noStrike">
                <a:solidFill>
                  <a:srgbClr val="dc0000"/>
                </a:solidFill>
                <a:latin typeface="Verdana"/>
              </a:rPr>
              <a:t>KRETANJE BROJA OSIGURANIKA I UMIROVLJENIKA</a:t>
            </a:r>
            <a:br>
              <a:rPr sz="2700"/>
            </a:br>
            <a:endParaRPr b="1" lang="en-US" sz="27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498" name="Rezervirano mjesto broja slajda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C93D-0566-4D91-BD93-69493582D3A2}" type="slidenum">
              <a:rPr b="0" lang="hr-HR" sz="1200" spc="-1" strike="noStrike">
                <a:solidFill>
                  <a:srgbClr val="a6a6a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9" name="Grafikon 7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885672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zervirano mjesto broja slajda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3D65-20D4-486C-A228-C2119BEAABED}" type="slidenum">
              <a:rPr b="0" lang="hr-HR" sz="1200" spc="-1" strike="noStrike">
                <a:solidFill>
                  <a:srgbClr val="a6a6a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79280" y="476280"/>
          <a:ext cx="8785440" cy="5892840"/>
        </p:xfrm>
        <a:graphic>
          <a:graphicData uri="http://schemas.openxmlformats.org/drawingml/2006/table">
            <a:tbl>
              <a:tblPr/>
              <a:tblGrid>
                <a:gridCol w="5951520"/>
                <a:gridCol w="2833920"/>
              </a:tblGrid>
              <a:tr h="69228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snovni pokazatelji u studenom 2013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oj osigura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e60000"/>
                          </a:solidFill>
                          <a:latin typeface="Verdana"/>
                        </a:rPr>
                        <a:t>1.432.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2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oj umirovljen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dc0000"/>
                          </a:solidFill>
                          <a:latin typeface="Verdana"/>
                        </a:rPr>
                        <a:t>1.168.9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3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mj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dc0000"/>
                          </a:solidFill>
                          <a:latin typeface="Verdana"/>
                        </a:rPr>
                        <a:t>1,23  :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3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dio prosječne mirovine u prosječnoj plać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dc0000"/>
                          </a:solidFill>
                          <a:latin typeface="Verdana"/>
                        </a:rPr>
                        <a:t>46,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84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dio prosječne starosne mirovine u prosječnoj plać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dc0000"/>
                          </a:solidFill>
                          <a:latin typeface="Verdana"/>
                        </a:rPr>
                        <a:t>47,2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8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sječna starosna mirovina ostvarena sa 40 g. staž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dc0000"/>
                          </a:solidFill>
                          <a:latin typeface="Verdana"/>
                        </a:rPr>
                        <a:t>65,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30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dio mirovinskih izdataka u BDP-u 201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dc0000"/>
                          </a:solidFill>
                          <a:latin typeface="Verdana"/>
                        </a:rPr>
                        <a:t>10,8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8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shodi za mir. i mir. primanja u studenom 201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dc0000"/>
                          </a:solidFill>
                          <a:latin typeface="Verdana"/>
                        </a:rPr>
                        <a:t>3,007 mlrd. k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dc0000"/>
                </a:solidFill>
                <a:latin typeface="Verdana"/>
              </a:rPr>
              <a:t>NOVI ZOMO (1)</a:t>
            </a: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404028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3000"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040"/>
                </a:solidFill>
                <a:latin typeface="Calibri"/>
              </a:rPr>
              <a:t>STARI ZAKON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68000" y="1483920"/>
            <a:ext cx="40402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Calibri"/>
              </a:rPr>
              <a:t>pravo na prijevremenu starosnu mirovinu sa 60 godina života i najmanje 35 godina mirovinskog staža uz penalizaciju (muškarci)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43280" y="1052280"/>
            <a:ext cx="404208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3000"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040"/>
                </a:solidFill>
                <a:latin typeface="Calibri"/>
              </a:rPr>
              <a:t>NOVI ZAKON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716000" y="1412640"/>
            <a:ext cx="40417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04040"/>
                </a:solidFill>
                <a:latin typeface="Calibri"/>
              </a:rPr>
              <a:t>pravo na prijevremenu starosnu mirovinu sa 60 godina života i najmanje 35 godina mirovinskog staža uz penalizaciju: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7" name="Slide Number Placeholder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F1D4-BCD4-4F3E-9F14-4561F4AA75CD}" type="slidenum">
              <a:rPr b="0" lang="hr-HR" sz="1200" spc="-1" strike="noStrike">
                <a:solidFill>
                  <a:srgbClr val="a6a6a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611280" y="3112920"/>
          <a:ext cx="3779640" cy="3046680"/>
        </p:xfrm>
        <a:graphic>
          <a:graphicData uri="http://schemas.openxmlformats.org/drawingml/2006/table">
            <a:tbl>
              <a:tblPr/>
              <a:tblGrid>
                <a:gridCol w="1728720"/>
                <a:gridCol w="1224000"/>
                <a:gridCol w="826920"/>
              </a:tblGrid>
              <a:tr h="122724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Godine mirovinskog staž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Za 1 mjesec ranijeg umirovljenj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Za 5 godina ranijeg umirovlje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6216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 navršenih do i 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,3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,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</a:tr>
              <a:tr h="36324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 navršenih 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,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7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,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7e8"/>
                    </a:solidFill>
                  </a:tcPr>
                </a:tc>
              </a:tr>
              <a:tr h="36216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 navršenih 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,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,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</a:tr>
              <a:tr h="36180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 navršenih 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,1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7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,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7e8"/>
                    </a:solidFill>
                  </a:tcPr>
                </a:tc>
              </a:tr>
              <a:tr h="37008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 navršenih 40 i viš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,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076720" y="2751120"/>
          <a:ext cx="3313080" cy="1582920"/>
        </p:xfrm>
        <a:graphic>
          <a:graphicData uri="http://schemas.openxmlformats.org/drawingml/2006/table">
            <a:tbl>
              <a:tblPr/>
              <a:tblGrid>
                <a:gridCol w="1325520"/>
                <a:gridCol w="1133640"/>
                <a:gridCol w="853920"/>
              </a:tblGrid>
              <a:tr h="47376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Godine mirovinskog staž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1" lang="hr-H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Za 1 mjesec ranijeg umirovljenj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Za 5 godina ranijeg umirovljenj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18468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 navršenih 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,3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,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</a:tr>
              <a:tr h="18468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 navršenih 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,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7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9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7e8"/>
                    </a:solidFill>
                  </a:tcPr>
                </a:tc>
              </a:tr>
              <a:tr h="18540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 navršenih 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,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</a:tr>
              <a:tr h="18468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 navršenih 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,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7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7e8"/>
                    </a:solidFill>
                  </a:tcPr>
                </a:tc>
              </a:tr>
              <a:tr h="18540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 navršenih 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,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</a:tr>
              <a:tr h="18468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 navršenih 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7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7e8"/>
                    </a:solidFill>
                  </a:tcPr>
                </a:tc>
              </a:tr>
            </a:tbl>
          </a:graphicData>
        </a:graphic>
      </p:graphicFrame>
      <p:sp>
        <p:nvSpPr>
          <p:cNvPr id="510" name="TekstniOkvir 9"/>
          <p:cNvSpPr/>
          <p:nvPr/>
        </p:nvSpPr>
        <p:spPr>
          <a:xfrm>
            <a:off x="6272280" y="249696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7f7f7f"/>
                </a:solidFill>
                <a:latin typeface="Calibri"/>
                <a:ea typeface="Calibri"/>
              </a:rPr>
              <a:t>MUŠKARC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5076720" y="4635360"/>
          <a:ext cx="3311640" cy="1581120"/>
        </p:xfrm>
        <a:graphic>
          <a:graphicData uri="http://schemas.openxmlformats.org/drawingml/2006/table">
            <a:tbl>
              <a:tblPr/>
              <a:tblGrid>
                <a:gridCol w="1324080"/>
                <a:gridCol w="1135080"/>
                <a:gridCol w="852480"/>
              </a:tblGrid>
              <a:tr h="47340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Godine mirovinskog staž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1" lang="hr-H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Za 1 mjesec ranijeg umirovljenj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Za 5 godina ranijeg umirovljenj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18468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 navršenih 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,3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,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</a:tr>
              <a:tr h="18468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 navršenih 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,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7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9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7e8"/>
                    </a:solidFill>
                  </a:tcPr>
                </a:tc>
              </a:tr>
              <a:tr h="18468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 navršenih 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,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</a:tr>
              <a:tr h="18468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 navršenih 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,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7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7e8"/>
                    </a:solidFill>
                  </a:tcPr>
                </a:tc>
              </a:tr>
              <a:tr h="18468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 navršenih 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,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</a:tr>
              <a:tr h="18468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 navršenih 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7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7e8"/>
                    </a:solidFill>
                  </a:tcPr>
                </a:tc>
              </a:tr>
            </a:tbl>
          </a:graphicData>
        </a:graphic>
      </p:graphicFrame>
      <p:sp>
        <p:nvSpPr>
          <p:cNvPr id="512" name="TekstniOkvir 12"/>
          <p:cNvSpPr/>
          <p:nvPr/>
        </p:nvSpPr>
        <p:spPr>
          <a:xfrm>
            <a:off x="6303960" y="4365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7f7f7f"/>
                </a:solidFill>
                <a:latin typeface="Calibri"/>
                <a:ea typeface="Arial"/>
              </a:rPr>
              <a:t>ŽE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dc0000"/>
                </a:solidFill>
                <a:latin typeface="Verdana"/>
              </a:rPr>
              <a:t>NOVI ZOMO (2)</a:t>
            </a: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40402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040"/>
                </a:solidFill>
                <a:latin typeface="Calibri"/>
              </a:rPr>
              <a:t>STARI ZAKON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6840" y="1844280"/>
            <a:ext cx="40402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prijevremena starosna mirovina uvijek s penalizacijom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43280" y="1052640"/>
            <a:ext cx="40420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040"/>
                </a:solidFill>
                <a:latin typeface="Calibri"/>
              </a:rPr>
              <a:t>NOVI ZAKON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211280" y="1844280"/>
            <a:ext cx="44751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pravo na prijevremenu starosnu mirovinu zbog dugogodišnjeg osiguranja s 60 godina života i 41 godinu osiguranja, bez penalizacije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pravo na prijevremenu starosnu mirovinu zbog stečaja uz uvjet statusa nezaposlene osobe u trajanju od 2 godine, uz uvjet dobi i mirovinskog staža za prijevremeno umirovljenje bez penalizacije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Rezervirano mjesto broja slajda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D059-EBC3-466F-A1E4-8CF638DCA3C4}" type="slidenum">
              <a:rPr b="0" lang="hr-HR" sz="1200" spc="-1" strike="noStrike">
                <a:solidFill>
                  <a:srgbClr val="a6a6a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dc0000"/>
                </a:solidFill>
                <a:latin typeface="Verdana"/>
              </a:rPr>
              <a:t>NOVI ZOMO (3)</a:t>
            </a: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404028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040"/>
                </a:solidFill>
                <a:latin typeface="Calibri"/>
              </a:rPr>
              <a:t>STARI ZAKON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6840" y="1557000"/>
            <a:ext cx="40402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dob umirovljenja - 65 godina za starosnu mirovinu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žene: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Calibri"/>
              </a:rPr>
              <a:t>2014 – 61 godina života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Calibri"/>
              </a:rPr>
              <a:t>2015 – 61 godina 3 mjeseca života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Calibri"/>
              </a:rPr>
              <a:t>(…prijelazno razdoblje do 2029.)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43280" y="1052280"/>
            <a:ext cx="404208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040"/>
                </a:solidFill>
                <a:latin typeface="Calibri"/>
              </a:rPr>
              <a:t>NOVI ZAKON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644720" y="1557000"/>
            <a:ext cx="4041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Produljenje dobne granice s 65 godina života na 67 godina života od 2031. do 2038.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Rezervirano mjesto broja slajda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23F6-7C0F-418B-B9E5-ED90D7ED3749}" type="slidenum">
              <a:rPr b="0" lang="hr-HR" sz="1200" spc="-1" strike="noStrike">
                <a:solidFill>
                  <a:srgbClr val="a6a6a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4643280" y="3068640"/>
          <a:ext cx="3961080" cy="3122640"/>
        </p:xfrm>
        <a:graphic>
          <a:graphicData uri="http://schemas.openxmlformats.org/drawingml/2006/table">
            <a:tbl>
              <a:tblPr/>
              <a:tblGrid>
                <a:gridCol w="1387800"/>
                <a:gridCol w="2573280"/>
              </a:tblGrid>
              <a:tr h="39060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U GODI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GODINE ŽIVO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(MUŠKARCI I ŽEN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7620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03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5 god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</a:tr>
              <a:tr h="37764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03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5 godina i 3 mjese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7e8"/>
                    </a:solidFill>
                  </a:tcPr>
                </a:tc>
              </a:tr>
              <a:tr h="37656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03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5 godina i 6 mjese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</a:tr>
              <a:tr h="84744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7e8"/>
                    </a:solidFill>
                  </a:tcPr>
                </a:tc>
              </a:tr>
              <a:tr h="37800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03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6 godina i 9 mjese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</a:tr>
              <a:tr h="37620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03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7 god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7e8"/>
                    </a:solidFill>
                  </a:tcPr>
                </a:tc>
              </a:tr>
            </a:tbl>
          </a:graphicData>
        </a:graphic>
      </p:graphicFrame>
      <p:sp>
        <p:nvSpPr>
          <p:cNvPr id="526" name="Strelica dolje 9"/>
          <p:cNvSpPr/>
          <p:nvPr/>
        </p:nvSpPr>
        <p:spPr>
          <a:xfrm>
            <a:off x="7129440" y="4724280"/>
            <a:ext cx="179280" cy="27000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000" spc="-1" strike="noStrike">
                <a:solidFill>
                  <a:srgbClr val="dc0000"/>
                </a:solidFill>
                <a:latin typeface="Verdana"/>
              </a:rPr>
              <a:t>USKLAĐIVANJE MIROVINA</a:t>
            </a:r>
            <a:r>
              <a:rPr b="1" lang="hr-HR" sz="3000" spc="-1" strike="noStrike">
                <a:solidFill>
                  <a:srgbClr val="dc0000"/>
                </a:solidFill>
                <a:latin typeface="Verdana"/>
              </a:rPr>
              <a:t> (1)</a:t>
            </a:r>
            <a:endParaRPr b="1" lang="en-US" sz="3000" spc="-1" strike="noStrike">
              <a:solidFill>
                <a:srgbClr val="dc0000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36960" y="1004400"/>
            <a:ext cx="2016000" cy="44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040"/>
                </a:solidFill>
                <a:latin typeface="Calibri"/>
              </a:rPr>
              <a:t>STARI ZAKON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533560" y="1047600"/>
            <a:ext cx="1900440" cy="40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404040"/>
                </a:solidFill>
                <a:latin typeface="Calibri"/>
              </a:rPr>
              <a:t>NOVI </a:t>
            </a:r>
            <a:r>
              <a:rPr b="1" lang="hr-HR" sz="2400" spc="-1" strike="noStrike">
                <a:solidFill>
                  <a:srgbClr val="404040"/>
                </a:solidFill>
                <a:latin typeface="Calibri"/>
              </a:rPr>
              <a:t>ZAKON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0" name="Slide Number Placeholder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EA1C-7E00-4E34-9DEF-C1FAFE6BE840}" type="slidenum">
              <a:rPr b="0" lang="hr-HR" sz="1200" spc="-1" strike="noStrike">
                <a:solidFill>
                  <a:srgbClr val="a6a6a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755640" y="2117880"/>
          <a:ext cx="7759800" cy="3568680"/>
        </p:xfrm>
        <a:graphic>
          <a:graphicData uri="http://schemas.openxmlformats.org/drawingml/2006/table">
            <a:tbl>
              <a:tblPr/>
              <a:tblGrid>
                <a:gridCol w="711360"/>
                <a:gridCol w="576000"/>
                <a:gridCol w="708120"/>
                <a:gridCol w="635040"/>
                <a:gridCol w="190440"/>
                <a:gridCol w="739800"/>
                <a:gridCol w="855720"/>
                <a:gridCol w="476280"/>
                <a:gridCol w="1463760"/>
                <a:gridCol w="1403280"/>
              </a:tblGrid>
              <a:tr h="1137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cf7b79"/>
                      </a:solidFill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ij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lać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žeća formula</a:t>
                      </a:r>
                      <a:br>
                        <a:rPr sz="1400"/>
                      </a:b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: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rovina</a:t>
                      </a:r>
                      <a:br>
                        <a:rPr sz="1400"/>
                      </a:b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va formula</a:t>
                      </a:r>
                      <a:br>
                        <a:rPr sz="1400"/>
                      </a:b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:70,50:50,70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rovina</a:t>
                      </a:r>
                      <a:br>
                        <a:rPr sz="1400"/>
                      </a:b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cf7b79"/>
                      </a:solidFill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</a:tr>
              <a:tr h="4557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cf7b79"/>
                      </a:solidFill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noFill/>
                  </a:tcPr>
                </a:tc>
              </a:tr>
              <a:tr h="4539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cf7b79"/>
                      </a:solidFill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</a:tr>
              <a:tr h="4557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cf7b79"/>
                      </a:solidFill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0 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noFill/>
                  </a:tcPr>
                </a:tc>
              </a:tr>
              <a:tr h="731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ONAČNO USKLAĐIVANJE  ZA PRETHODNU GODIN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cf7b79"/>
                      </a:solidFill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82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1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f7b79"/>
                      </a:solidFill>
                    </a:lnT>
                    <a:lnB w="5760">
                      <a:solidFill>
                        <a:srgbClr val="cf7b79"/>
                      </a:solidFill>
                    </a:lnB>
                    <a:solidFill>
                      <a:srgbClr val="efd3d2"/>
                    </a:solidFill>
                  </a:tcPr>
                </a:tc>
              </a:tr>
            </a:tbl>
          </a:graphicData>
        </a:graphic>
      </p:graphicFrame>
      <p:sp>
        <p:nvSpPr>
          <p:cNvPr id="532" name="Strelica udesno 14"/>
          <p:cNvSpPr/>
          <p:nvPr/>
        </p:nvSpPr>
        <p:spPr>
          <a:xfrm rot="5400000">
            <a:off x="3563640" y="1593720"/>
            <a:ext cx="647640" cy="35892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Strelica udesno 15"/>
          <p:cNvSpPr/>
          <p:nvPr/>
        </p:nvSpPr>
        <p:spPr>
          <a:xfrm rot="5400000">
            <a:off x="6012360" y="1593000"/>
            <a:ext cx="647640" cy="3603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Elipsa 17"/>
          <p:cNvSpPr/>
          <p:nvPr/>
        </p:nvSpPr>
        <p:spPr>
          <a:xfrm>
            <a:off x="4411800" y="5205240"/>
            <a:ext cx="684000" cy="287640"/>
          </a:xfrm>
          <a:prstGeom prst="ellipse">
            <a:avLst/>
          </a:prstGeom>
          <a:noFill/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Elipsa 18"/>
          <p:cNvSpPr/>
          <p:nvPr/>
        </p:nvSpPr>
        <p:spPr>
          <a:xfrm>
            <a:off x="7434360" y="5205240"/>
            <a:ext cx="684000" cy="287640"/>
          </a:xfrm>
          <a:prstGeom prst="ellipse">
            <a:avLst/>
          </a:prstGeom>
          <a:noFill/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4:38:07Z</dcterms:created>
  <dc:creator>Krešimir Domjančić</dc:creator>
  <dc:description/>
  <dc:language>en-US</dc:language>
  <cp:lastModifiedBy>Zvonko Tušek</cp:lastModifiedBy>
  <cp:lastPrinted>2013-11-18T17:03:51Z</cp:lastPrinted>
  <dcterms:modified xsi:type="dcterms:W3CDTF">2014-01-21T09:37:01Z</dcterms:modified>
  <cp:revision>220</cp:revision>
  <dc:subject/>
  <dc:title>PowerPointova prezentacija</dc:title>
</cp:coreProperties>
</file>